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0983-7D62-4550-9B33-EA15417AD62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845E-A6A1-4DE3-986A-960BFCE981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03C2-ADA3-486F-8DEF-87FC5405A2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B0D6-C7A4-409F-98F4-B274A7ECE2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5392-26E2-47D7-ADC0-085076BC02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25E9-4A5D-4C07-B43E-9D258CD3AC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48D5-71F3-43CE-B16C-DB234E1C12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DDF6-ADB8-45FC-9530-2E04F4542B6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0978-A687-4E30-92ED-3745F1891E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0D79-087F-4A3C-B61C-0B579BD0EB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4AE0-1B4A-4063-A027-7D049C418D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9493-0621-4417-B9AE-8511597BA4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E80F-B67C-4F6E-B07B-13AFA70C11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12CE-BD84-430C-A5DC-ACE5323280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AC9C-F3F6-4755-A8EE-A7351FB016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0287-1DFF-4805-9B19-4AFC270A9E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E796-5DDE-497A-99C8-F51D883DF9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D99A-4DEA-46F2-B951-EB16D83F9C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50D7-1BFC-45D2-9C58-DFEDC05AB4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B9A7-D456-48A2-8D99-6ADA65E589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5D1B-EDFC-4893-8FC8-42C9760DFF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885E-A71E-45F7-8DB8-215126F374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001D-058A-4CE4-9673-FE10C7B3DE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EB8E-940C-4CE4-9E83-2D498F382FF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AAFA-CA76-450A-9781-6792B5E31B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D399-6FF8-4AAB-86FE-B1F624C728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1BBC-C6B3-4D9C-AD38-4D0AD16EF6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1695-B31E-42DB-BAE3-7EF7BDCBA2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635E-F770-4E5C-8E1B-AE95893CF3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F3A2-8A91-4795-A39D-ED04CA8AA9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25AA-9252-49BD-9CFB-916A7ED10F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EDF2-2966-43E8-90CC-682348A0AF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B60E-C501-43ED-B092-2A39FC04D4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71A5-AE4A-4B65-9887-5C88F9AB11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71B3-7E01-4D67-A3F8-F63ED23D62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C195-ABC5-4590-A8A8-07DEAA0D7C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3A48-9022-4B5A-B171-B6C1AB7565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AB91-8724-4B37-A01D-979FAFAECBF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7A04-CDF5-4EB6-98F0-EDEDD6DAE3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9656-27E9-45D8-A362-8E768B7D37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56A5-F698-45E4-BD4D-7C2B9D37DD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C278-5109-4D49-9C88-201753B40A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7D77-7855-47D6-93DB-E6968BB3DD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F0E7-D01A-48E8-948F-C87DA2C27B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7593-716F-4B89-86CA-D3A21D10CC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6790-ABBA-4C38-B481-096DDF27D1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9884-8723-4641-BF72-26181B7884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22B-104E-46D9-94B4-FA39038A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DB6-2FC7-4102-8B06-243183FF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7B4-3796-41FC-AE36-2A87B09B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79B-5D80-4685-9373-746F85DD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501D-5711-4454-83DA-1A492FCA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9FE1-7176-4640-BF90-4C098EAC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F840-F54D-471B-B43C-0FF71A5B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6E8C-07F1-4037-88B0-FAE5A2F5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BF98-584A-4667-8241-EBC20C02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E5DA-2EC0-4298-82B5-B710EE7A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F88C-79F4-45FE-98B6-2AC68892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634-AE92-4517-AA53-89B7366F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F790-C35D-40F9-ACA4-F5588CBC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9499-3F33-456A-914A-DB07A8A3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5E6F-9972-4872-8873-E05FE200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FCA0-6DAC-42CA-B767-857DB268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37AC-FDDC-415E-8ADE-94AC8B10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308-44BC-45FD-AA77-49E49AB8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136-10F8-4858-B2A0-20174402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F0B-50FC-402F-BE96-5F62F7F6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3F9-2635-4484-A792-1EB59064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0C5-31F3-43D8-92E2-79605A54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99B-81FD-440C-AF52-855B6B34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B0D-595D-484B-9358-5A190959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64C8-B8D3-42AA-8BC6-DF861BE6AD6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902D-1E4B-4FBD-84B6-F09B60F893F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" TargetMode="External"/><Relationship Id="rId2" Type="http://schemas.openxmlformats.org/officeDocument/2006/relationships/hyperlink" Target="http://www.useit.com/alertbox/" TargetMode="External"/><Relationship Id="rId3" Type="http://schemas.openxmlformats.org/officeDocument/2006/relationships/hyperlink" Target="http://www.useit.com/alertbox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seit.com/alertbox/9605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ebpagesthatsuck.com/" TargetMode="External"/><Relationship Id="rId5" Type="http://schemas.openxmlformats.org/officeDocument/2006/relationships/hyperlink" Target="http://www.webpagesthatsuck.com/" TargetMode="External"/><Relationship Id="rId6" Type="http://schemas.openxmlformats.org/officeDocument/2006/relationships/hyperlink" Target="http://www.webpagesthatsuck.com/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www.dsiegel.com/tips/" TargetMode="External"/><Relationship Id="rId9" Type="http://schemas.openxmlformats.org/officeDocument/2006/relationships/hyperlink" Target="http://www.dsiegel.com/tips/" TargetMode="External"/><Relationship Id="rId10" Type="http://schemas.openxmlformats.org/officeDocument/2006/relationships/hyperlink" Target="http://www.dsiegel.com/tips/" TargetMode="External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Diseñando para la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952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00280" y="2156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bier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006560" y="1711440"/>
          <a:ext cx="7400880" cy="46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711440"/>
                    <a:ext cx="740088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5778360"/>
            <a:ext cx="914400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tegración de los organismos gubernamentale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ismas ventajas que en una empresa (Intranet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00280" y="27900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un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019160" y="1689120"/>
          <a:ext cx="73785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1689120"/>
                    <a:ext cx="73785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5840" y="5181480"/>
            <a:ext cx="9128160" cy="144864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Radio, T.V., PushTechnologies.                   - Acceso a B.D. Históricas de las agencias de noticia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lmacenan y distribuyen la historia del mundo, en forma detallad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Información mundial al Instante (reportes del tiempo, comportamiento de los mercados, et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86960" y="32976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819440" y="1673280"/>
          <a:ext cx="632268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673280"/>
                    <a:ext cx="632268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5840" y="577836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cceso Instantáneo a un gran pool de Entretenimientos, sin moverse de su ca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o costos de acceso son menores (no hay viajes,  varios pueden usar la misma entrada, etc)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s Web Page representan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12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ta de la Información del Usuario, sobre una pantal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dad de Naveg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rección para obtener información a través de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ositorio de Inform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ágin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la unidad atómica que unifica a estos concep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aumenta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ntas de una Emp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onibilidad de Productos y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lexibilidad en l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unicación entre las Perso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locidad de acceso a los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gración con los sistemas ya exist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isminui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ulación de Pape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en Comun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de Personal (uso de agent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stricciones de Uso (sólo se necesita un browse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para la Usabilidad de las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ítulo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amaño y el Color del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Estructuración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s Suposiciones hech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Retroalimentación que brin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Formato y Distribución de las Imáge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er la Coherencia en todas las Pág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654520"/>
            <a:ext cx="8318520" cy="9511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ipulando estas variables, mis páginas van a ser más amigable para el usuario, más usables e intuitiv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ítulos en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98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ítulo debe ser representativ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l usuario, y arañas (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 tener suficient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guíar la navegación del usuario en forma preci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ítulos largos cansan a los usua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r información abreviada y representativa, por ej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y Company - Home page” vs. “Welcome to My .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áginas diferentes -&gt; títulos dife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maño del Texto y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95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la combinación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Azu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oj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uchas combinaciones “Tamaño / Font” distint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eptable en frases pequeñ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recomendable en párrafos o unidades de texto may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que desorient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queda claro qué se intenta comunicar con ese contras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07960" y="5654520"/>
            <a:ext cx="8344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porque haya muchos recursos (tamaño, estilo y color) disponibles, debo usar a to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jorar los Preview (Thumbnail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85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umbnails (previews de imáge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estran el preview de una imagen (generalmente grand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hic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o escalar no funcionan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993600" y="4014720"/>
            <a:ext cx="638496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ción a Intern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ortancia del Diseño en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stas para mejorar la Usabil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unas Herramientas: Animaciones, Frames, y Link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10 errores típicos del diseño par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altar lo Relevante Reduciendo las Imáge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mero recortar y luego esca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j.: para lograr una imagen que es el 10% del original,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el 32% (más relevante) de la imag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ego escalar un 32% (reduci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32 * .32 = .1 del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lance entre detalle y contex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036880" y="4894200"/>
            <a:ext cx="4570200" cy="136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 Haga Supos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880" y="1828800"/>
            <a:ext cx="811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ow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usan diferentes programas como browsers, y también diferentes versiones d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, Explorer, Lynx, Opera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amaño de las Venta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todos los usuarios usan el tamaño por defecto que tienen de ventanas (por gusto o por restricciones de su moni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ya al grano, con los tex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% más lenta es la lectura en una pantalla de computadora, respecto de un texto impr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alabrerío cans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criba pensando en Escane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escanean la información de las páginas web, y sólo leen lo que les inte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ructure la información con 2 o 3 niveles de títul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 encabezados representativos y resalt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1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hipertexto para estructurar la infor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a la información en módulos coherentes sobre tópicos relacion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el estilo de pirámide invertida (muestre primero las conclusio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roalimentación (Feedbac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apunta a un objeto (imagen, video, o pág. HTML) muy grande, indique en el link el tamaño del mismo (entre paréntes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maño de las p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nga el tamaño de la imagen en el tag IM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rar la estructura de la página, antes de que lleguen todas las imáge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Coherencia en las páginas de un site permi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avegación intuitiv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ostrar al site como un to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egrar el contenido y las herramientas. present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dentificar las páginas de una empresa sin necesidad de leer el contenido (public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blicitar “un estilo”, al interior de la empresa (en el caso de intranet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95320" y="1612800"/>
          <a:ext cx="569448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612800"/>
                    <a:ext cx="56944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Gran Ausente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Solu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tyle Sheet (Hojas de Estilo): Disponibles a partir de HTML 3.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tenciado en XML 1.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2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udio a cerca de la Usabilidad: se estudiaron los 9 mejores web si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luyendo CNN, Disney, HP, Fidelity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 realizaron empresas independ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os obten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cenas de horas de observa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tuvo en cuenta la composición de los sites, a la hora de realizar los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18640" y="1697040"/>
            <a:ext cx="7985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ngún site fue muy buen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as ma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home pages dan poca información acerca del contenido total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páginas “legibles” fueron menos efec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no leen, oje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oraciones bien formadas pueden ocultar información clav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660320"/>
            <a:ext cx="78994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red Internet o super-red, interconecta a la mayor parte del plan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llones de usuarios (y clientes potenciales) acceden diariamente a ell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ada vez se hace más necesaria 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Internet plantea un nuevo escenario para el desarrollo de aplic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86200" y="4114800"/>
          <a:ext cx="23623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23623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9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iempo de “download” no fue un tema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e detectó correlación entre demora y frust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iseño gráfico tuvo poco ef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navegación debe estar integrada al con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no, el usuario encuentra al site “poco usable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parar el contenido del diseño (estruc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olación del “protocolo de venta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d “humano - humano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da información personal, sólo si compr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basada en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tiene que dar la información personal primero, si quiere compr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violación de este protocolo, muchas veces auyenta a los posibles cl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as Herramient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iseño de páginas web usables, no pasa por utilizar un cierto editor o herramienta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Pasa por hacer un uso adecuado de los recursos disponibles, como por ejemp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áge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tc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i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 buenas para llamar la ate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no deben ser continuas (usar estados rotativ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velocidad de animación debe ser ba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rios Fastidi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animaciones hacen más difícil la l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a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tiles para distribui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y usadas en páginas comerci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919160" y="1865160"/>
            <a:ext cx="532764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965240" y="1832040"/>
            <a:ext cx="5276880" cy="445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on malos, pero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ga el esquema de frames en todas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abuse de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ice la necesidad o no de las barras de scroll, para cada fram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 usuario no le gustan los links cor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If you click on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neyla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will you get a map of the park? Ticket Information, etc?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links largos atraen a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ow to Read the Pricing and Rating Listing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ric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How to Read Pricing &amp; Rating Listings)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ar links embebidos en párraf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n más difícil la búsqueda de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 una sensación de “información incompleta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dentro de las pági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croll de las páginas puede ocultar línks útiles para el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ga páginas cortas para evitar lo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links circulares causan confusión al usu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os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654200" y="1666800"/>
            <a:ext cx="5759280" cy="433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Típicas de 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25400" y="1547280"/>
            <a:ext cx="506412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ros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o fundamentalmente: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en Diseño para Web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28400" y="2919240"/>
            <a:ext cx="684036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Nielsen: “Heuristic Evaluation”.          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useit.com/alertbox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2400" y="240840"/>
            <a:ext cx="84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del Diseño par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Grandes Tiempos de Descarga (downlo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Información Desactualiz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Colores y Consist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Navegación Inadecuada (no hay diseñ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Páginas Demasiado Gran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Páginas Huérfa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URLs Complej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Abuso de 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Mecanismos para Atrac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Uso Inapropiado de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0. Grandes Tiempos de Descarga (downlo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regla de los 10 segun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empo máximo de espera antes de que el usuario comience a perder interé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 un factor humano muy estudiad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ta 15 segundos son aceptables en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se acostumbran a soportar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sólo en páginas importa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no ha mejorado demasiado su velocidad, pese a todos los avances tecnológic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xys, Protocolos de Enrutamiento, Compresión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9. Información Desactualiza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es como un gran jardín, dónde usted es el jardiner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y que arrancar la maleza y dejar las flore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mayoría de las personas crean contenidos, pero no los mantienen actualiz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volumen de basura en la Web crece más rápidamente que el de la información úti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es aún relevante, manténgal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 otro caso, quíte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8. Link con Colores no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no revisadas están en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zu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revisadas están en </a:t>
            </a:r>
            <a:r>
              <a:rPr b="0" lang="en-US" sz="2400" spc="-1" strike="noStrike">
                <a:solidFill>
                  <a:srgbClr val="cc00ff"/>
                </a:solidFill>
                <a:latin typeface="Tahoma"/>
              </a:rPr>
              <a:t>púrpur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o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mbie estos co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una de las pocas ayudas para la navegación, que funcionan en casi todos los brows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istencia es importante para el Alumn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ubraye objetos con rojo/azul/púrpura, pueden confundirse con un lin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38080" y="3429000"/>
            <a:ext cx="75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muestre cosas que parecen botones, a menos que efectivamente sea un botó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ist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944800" y="1841400"/>
            <a:ext cx="3240000" cy="119880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2822400" y="631440"/>
            <a:ext cx="4810320" cy="3386520"/>
            <a:chOff x="2822400" y="631440"/>
            <a:chExt cx="4810320" cy="3386520"/>
          </a:xfrm>
        </p:grpSpPr>
        <p:grpSp>
          <p:nvGrpSpPr>
            <p:cNvPr id="333" name=""/>
            <p:cNvGrpSpPr/>
            <p:nvPr/>
          </p:nvGrpSpPr>
          <p:grpSpPr>
            <a:xfrm>
              <a:off x="2822400" y="631440"/>
              <a:ext cx="3564720" cy="3386520"/>
              <a:chOff x="2822400" y="631440"/>
              <a:chExt cx="3564720" cy="3386520"/>
            </a:xfrm>
          </p:grpSpPr>
          <p:sp>
            <p:nvSpPr>
              <p:cNvPr id="334" name=""/>
              <p:cNvSpPr/>
              <p:nvPr/>
            </p:nvSpPr>
            <p:spPr>
              <a:xfrm>
                <a:off x="2886120" y="1657440"/>
                <a:ext cx="340344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8330400">
                <a:off x="2902680" y="1563480"/>
                <a:ext cx="340380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391440" y="1847880"/>
              <a:ext cx="1241280" cy="520560"/>
              <a:chOff x="6391440" y="1847880"/>
              <a:chExt cx="1241280" cy="520560"/>
            </a:xfrm>
          </p:grpSpPr>
          <p:sp>
            <p:nvSpPr>
              <p:cNvPr id="337" name=""/>
              <p:cNvSpPr/>
              <p:nvPr/>
            </p:nvSpPr>
            <p:spPr>
              <a:xfrm>
                <a:off x="6708240" y="1847880"/>
                <a:ext cx="92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2b2b2"/>
                    </a:solidFill>
                    <a:latin typeface="SigLisa"/>
                  </a:rPr>
                  <a:t>Bad!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391440" y="2041560"/>
                <a:ext cx="272880" cy="824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. Navegación Inadecuada (no hay diseñ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o conoce su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ene dificultad para encontra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hay un camino claro para obtener la información(algún tipo de estruc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r la estructura del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un mapa del site (sublimin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usuario sabrá dónde está y a dónde quiere 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alguna herramienta de búsque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ejor soporte para la navegación, nunca será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Ser Peor Que Es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945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6. Páginas Demasiado Grandes (larg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ólo el 10% de los usuarios usan la barra de scroll para revisar las partes no visibles en la presentación inicial de la págin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cosas importantes y la estructura de navegación de la página debería estar siempre en la parte más al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nodos “hoja” pueden ser un poco más larg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interesadas en él, lo lee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, no abuse con 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Estar Mal Aquí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071720" y="2314440"/>
            <a:ext cx="741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a partir de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301480" y="1587240"/>
            <a:ext cx="4886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ercio Electrón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ión Empresa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bi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tretenimi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tc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Páginas Huérf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 todas las páginas debería indicarse el Web Site al que percenec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podrían accederla a través de un link exter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da página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link al home p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a indicación del lugar que ocupa, dentro de la estructura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URLs Complej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debe incluir direcciones (IP) de máqu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tratan de decodificar el URL de la pági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inferir la estructura del Web S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 pierde el soporte para la navegación y el sentido de la ubicación dentro del si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URLs deberían ser legibles para las perso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ombres usados en cada URL deberían ser representar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n incluir caracteres especiales, ni combinaciones Mayúscula/Minúcu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Animaciones Perman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ovimiento permanente en las anima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ptura de movimiento tiene un poder especial dentro del sistema de percepción humano, úselo adecu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ecesita tranquilidad para asimilar la información que ud. pretende entregar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&lt;BLINK&gt; es simplemente MA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Mecanismos de Atracción de Usuario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61840" y="1676520"/>
            <a:ext cx="828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mienta respecto a lo que ofrece y/o rega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intente atraer a la muchedumbre, el costo asociado es muy al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 su sistema se cae mientras consulta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nunca regresa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r Advertencias, en caso de ser neces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ej.: el software es de prueba, y vencerá su licencia de uso en 30 dí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Uso de Inapropiado de 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eden confundir a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mpe el modelo de página Web que tiene el usuar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acciones del usuario pierden predict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quién sabe qué información aparecerá dónde, c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 usted hace un click en un lin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frames deben ser a lo más t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n usarse para reflejar la estructu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estructura dada, debe respetarse en todas las pági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o inapropiado de Frame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5960" y="1752120"/>
            <a:ext cx="822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motores de búsqueda tienen problemas con la información en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os estudios encontraron que la mayoría de los usuarios prefieren los sites sin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dvertenc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diseñadores muy experimentados pueden (algunas veces) usar frames para mejorar el impacto de una págin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ero debe usarlos tan económicamente com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construcción de sistemas para Internet aún está muy verde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undamentalmente en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todología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im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erramient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adurez de las tecnologías involucr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iseñar para la web no es fácil, requiere repensar todo de nuevo.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ambién es cierto que hay que abordar este desafío lo antes posible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on respecto a esto, no hay alternativa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en’s top 10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useit.com/alertbox/9605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pages that suc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www.webpagesthatsuck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 tips for design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www.dsiegel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/tips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r Interface Engine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http:/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www.uie.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1716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ucación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4640" y="1638000"/>
            <a:ext cx="79851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n aparecido muchas herramientas para impartir conocimientos a través de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893960" y="2644920"/>
          <a:ext cx="5253120" cy="37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644920"/>
                    <a:ext cx="525312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23800" y="5908680"/>
            <a:ext cx="53848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do del arte en el mercado de Educación a Dista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ercio Electr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7960" y="1646280"/>
          <a:ext cx="60310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646280"/>
                    <a:ext cx="60310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955800" y="5527800"/>
            <a:ext cx="7912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24 hs y 365 días al año vendiendo sin emplea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millones de potenciales clientes.                - Se requiere muy poca infraestruct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6960" y="25380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r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70000" y="1692360"/>
          <a:ext cx="72118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92360"/>
                    <a:ext cx="72118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6400" y="5667480"/>
            <a:ext cx="8344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cía, Aduana, Ejército, Agencias de Investigaciones, etc.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barata, fácil y rápida.      - Capacidades de audio, video, imágenes y text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6960" y="24084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stión Empresarial (Intrane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77960" y="1704960"/>
          <a:ext cx="76183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704960"/>
                    <a:ext cx="76183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5840" y="614520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dependencia del puesto de trabajo, S.O., Aplicación Cliente  - Mejores canales de comun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irculación de documentos electrónicos en vez de papel          - Aumento de la eficienci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8:49Z</dcterms:created>
  <dc:creator>sochoa</dc:creator>
  <dc:description/>
  <dc:language>en-US</dc:language>
  <cp:lastModifiedBy>Sergio F. Ochoa</cp:lastModifiedBy>
  <cp:lastPrinted>2000-04-26T16:56:46Z</cp:lastPrinted>
  <dcterms:modified xsi:type="dcterms:W3CDTF">2005-10-20T17:09:01Z</dcterms:modified>
  <cp:revision>59</cp:revision>
  <dc:subject/>
  <dc:title>Diseñando para la Web (#1)</dc:title>
</cp:coreProperties>
</file>