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E78B4-4A80-47AE-9318-9446FA9F7BC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1F358-0514-406B-B84E-CBB95DEE89B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5C6E5-ACA1-4163-9D25-673BB371C1E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182B3-D630-40B0-8265-27DF02AE7C5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E0922-BCF6-4B96-8393-00860F16E90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B6869-E109-46E0-9780-7592BCD62D4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D22FD-F35C-43E1-9308-DDD0214AA5A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24FAA-A0DA-4274-9D98-DF34F340D36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B9496-CCB8-4AF3-8B06-663D159BD7F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C30DA-3559-4710-8B10-B413B745628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8DC8A-109F-484A-94B7-B49A6A6B112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BEA83-0B19-4723-8524-F9DAA15B9D8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A339D-B056-40FE-BC29-481E81613ED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65C54-FEF1-41F3-AF47-9E4FC3C5B5F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8B030-55D4-4E43-8E4E-76622E95CFF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8BA65-ABA0-4C07-BB42-CE3CCF7A790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F17A1-7888-4B6D-AF7E-11C9E68505E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EC35E-1AF0-4278-8C8D-29F95BE4971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777E7-84E6-4148-8533-0F093BAC9CE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29C1B-B4AF-4DED-8865-2B8695B7730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FF668-6434-45BD-BAB7-24357EE3424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77718-C800-432E-BE02-BBC15C66E3D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4AF8F-2771-49E6-8C5A-AE129368805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17BD7-32BD-4630-931B-B8EC2310607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6BBF4-82D1-4A1E-A5FD-B760A0B2D1D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D5FD7-FD16-4382-9F68-98CF7143451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288D3-8026-4DD8-8CFB-68D25C8D177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8B534-9520-41AC-9270-560E1541751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78738-F9E0-44AC-A9F8-F7551925174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58FED-9E31-48C8-B0AA-BA5DD244D5C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289E8-54BF-4245-9703-5A7E378D287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32573-AF15-4542-8FDC-B0BFF32EE7F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3DCDE-BF24-4320-9D5C-66353D48787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3BBB1-8F41-43F8-AAA5-84D509A2183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6CF0B-AF12-4180-B92E-3A6A803CB06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33B25-B08B-4D31-97E0-1C36DF9172B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52FD2-6270-4040-BEAC-F028731D607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5D089-5078-4E8E-8090-4BC7C5729A8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44343-82C1-4A68-AAB1-9EC6A362C1B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1EA2E-C0C0-4BAF-95E5-BC3119914D2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1B5B7-6843-484E-B403-E9D34B80D61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E35C2-D6B2-4761-B1A7-4639C75AFC5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88D16-5923-436F-B01B-F6FAC9D3C87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94631-841D-4230-921A-CD9CFD79749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5CD20-DBE4-419C-8ED3-9D321D76326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59A07-2280-4922-8829-46A5CBE97AD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FA15E-6EE0-49D5-89DC-B3A3EB2C9EE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C744-3813-4F72-9927-8CAB54FC3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1EF8-10FA-461D-9E1C-E9358B5EA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6800-390D-491C-9D56-D2BB243AB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DE0D-86A2-4138-9EF7-8D9B3A515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84425-AD2A-4E95-8684-AB82773C0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427AD-1C77-4FB4-A7FF-9D0087191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3D9FA-1D90-49BE-9FC2-2B7DFF2C8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7BD74-59A2-4DE9-8FDF-9461299B1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5EA90-BEC6-4A49-AC68-AF0F0A71F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B6296-C0D6-451E-8F85-3B8D4860A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3FE95-8C40-44E9-B221-889B98210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C3C2-83E6-4809-AEA2-86A86B464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D0259-2CC9-4023-8FEE-85BBEAA8C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2FA09-CB98-449E-B747-B61615A33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FBCC5-AA22-4400-B6E2-3DA60BD25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95668-E283-4B9F-BA11-3DFDB1599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9542C-A799-485E-950C-039C97DE4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3504-BBF1-4BFB-80BD-B1A42ABC0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93B4-AD5A-460C-AE97-7B3B30EB3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5D93-0C3C-49DC-9EF5-E16E8BC77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0DEF-C282-4A6D-AE5E-62622E170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741F-6CF2-4B1B-AF15-1D75ED8C6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11AB-07DF-4FC4-9376-E198CAD43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B62A-3EEB-4F88-BBB1-CFFA359B4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42781-088D-42FF-B354-D03CAE3EE65A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0050A-7BBC-4D64-B743-29C0A202D36B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http://www.useit.com/alertbox/" TargetMode="External"/><Relationship Id="rId2" Type="http://schemas.openxmlformats.org/officeDocument/2006/relationships/hyperlink" Target="http://www.useit.com/alertbox/" TargetMode="External"/><Relationship Id="rId3" Type="http://schemas.openxmlformats.org/officeDocument/2006/relationships/hyperlink" Target="http://www.useit.com/alertbox/" TargetMode="External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useit.com/alertbox/9605.html" TargetMode="External"/><Relationship Id="rId3" Type="http://schemas.openxmlformats.org/officeDocument/2006/relationships/image" Target="../media/image2.png"/><Relationship Id="rId4" Type="http://schemas.openxmlformats.org/officeDocument/2006/relationships/hyperlink" Target="http://www.webpagesthatsuck.com/" TargetMode="External"/><Relationship Id="rId5" Type="http://schemas.openxmlformats.org/officeDocument/2006/relationships/hyperlink" Target="http://www.webpagesthatsuck.com/" TargetMode="External"/><Relationship Id="rId6" Type="http://schemas.openxmlformats.org/officeDocument/2006/relationships/hyperlink" Target="http://www.webpagesthatsuck.com/" TargetMode="External"/><Relationship Id="rId7" Type="http://schemas.openxmlformats.org/officeDocument/2006/relationships/image" Target="../media/image2.png"/><Relationship Id="rId8" Type="http://schemas.openxmlformats.org/officeDocument/2006/relationships/hyperlink" Target="http://www.dsiegel.com/tips/" TargetMode="External"/><Relationship Id="rId9" Type="http://schemas.openxmlformats.org/officeDocument/2006/relationships/hyperlink" Target="http://www.dsiegel.com/tips/" TargetMode="External"/><Relationship Id="rId10" Type="http://schemas.openxmlformats.org/officeDocument/2006/relationships/hyperlink" Target="http://www.dsiegel.com/tips/" TargetMode="External"/><Relationship Id="rId11" Type="http://schemas.openxmlformats.org/officeDocument/2006/relationships/image" Target="../media/image2.png"/><Relationship Id="rId12" Type="http://schemas.openxmlformats.org/officeDocument/2006/relationships/slideLayout" Target="../slideLayouts/slideLayout3.xml"/><Relationship Id="rId13" Type="http://schemas.openxmlformats.org/officeDocument/2006/relationships/notesSlide" Target="../notesSlides/notesSlide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CC51A – Ingeniería de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990720" y="3309840"/>
            <a:ext cx="703584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40458c"/>
                </a:solidFill>
                <a:latin typeface="Tahoma"/>
              </a:rPr>
              <a:t>Diseñando para la Web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495288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Sergio Ochoa D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395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422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00280" y="215640"/>
            <a:ext cx="797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Gobiern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1006560" y="1711440"/>
          <a:ext cx="7400880" cy="469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6560" y="1711440"/>
                    <a:ext cx="7400880" cy="469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"/>
          <p:cNvSpPr/>
          <p:nvPr/>
        </p:nvSpPr>
        <p:spPr>
          <a:xfrm>
            <a:off x="0" y="5778360"/>
            <a:ext cx="9144000" cy="1078200"/>
          </a:xfrm>
          <a:prstGeom prst="rect">
            <a:avLst/>
          </a:prstGeom>
          <a:solidFill>
            <a:srgbClr val="fcfdc6"/>
          </a:solidFill>
          <a:ln w="9360">
            <a:solidFill>
              <a:srgbClr val="40458c"/>
            </a:solidFill>
            <a:miter/>
          </a:ln>
          <a:effectLst>
            <a:outerShdw dist="107932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choa: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Integración de los organismos gubernamentales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Mismas ventajas que en una empresa (Intranet)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00280" y="279000"/>
            <a:ext cx="797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munic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1019160" y="1689120"/>
          <a:ext cx="7378560" cy="469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9160" y="1689120"/>
                    <a:ext cx="7378560" cy="469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5" name=""/>
          <p:cNvSpPr/>
          <p:nvPr/>
        </p:nvSpPr>
        <p:spPr>
          <a:xfrm>
            <a:off x="15840" y="5181480"/>
            <a:ext cx="9128160" cy="1448640"/>
          </a:xfrm>
          <a:prstGeom prst="rect">
            <a:avLst/>
          </a:prstGeom>
          <a:solidFill>
            <a:srgbClr val="fcfdc6"/>
          </a:solidFill>
          <a:ln w="9360">
            <a:solidFill>
              <a:srgbClr val="40458c"/>
            </a:solidFill>
            <a:miter/>
          </a:ln>
          <a:effectLst>
            <a:outerShdw dist="107932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ochoa: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-Radio, T.V., PushTechnologies.                   - Acceso a B.D. Históricas de las agencias de noticias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- Almacenan y distribuyen la historia del mundo, en forma detallada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-Información mundial al Instante (reportes del tiempo, comportamiento de los mercados, etc)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86960" y="329760"/>
            <a:ext cx="7975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ntretenimient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1819440" y="1673280"/>
          <a:ext cx="6322680" cy="483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19440" y="1673280"/>
                    <a:ext cx="6322680" cy="483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9" name=""/>
          <p:cNvSpPr/>
          <p:nvPr/>
        </p:nvSpPr>
        <p:spPr>
          <a:xfrm>
            <a:off x="15840" y="5778360"/>
            <a:ext cx="9128160" cy="1078200"/>
          </a:xfrm>
          <a:prstGeom prst="rect">
            <a:avLst/>
          </a:prstGeom>
          <a:solidFill>
            <a:srgbClr val="fcfdc6"/>
          </a:solidFill>
          <a:ln w="9360">
            <a:solidFill>
              <a:srgbClr val="40458c"/>
            </a:solidFill>
            <a:miter/>
          </a:ln>
          <a:effectLst>
            <a:outerShdw dist="107932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choa: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Acceso Instantáneo a un gran pool de Entretenimientos, sin moverse de su casa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Lo costos de acceso son menores (no hay viajes,  varios pueden usar la misma entrada, etc) 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Las Web Page representan..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777600" y="1828800"/>
            <a:ext cx="8126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Vista de la Información del Usuario, sobre una pantalla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nidad de Navegación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irección para obtener información a través de la Web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Repositorio de Información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ágina: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es la unidad atómica que unifica a estos concept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Importancia del Diseño en la Web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n buen diseño en Web permite  </a:t>
            </a:r>
            <a:r>
              <a:rPr b="1" lang="en-US" sz="3200" spc="-1" strike="noStrike">
                <a:solidFill>
                  <a:srgbClr val="40458c"/>
                </a:solidFill>
                <a:latin typeface="Tahoma"/>
              </a:rPr>
              <a:t>aumentar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Ventas de una Empres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isponibilidad de Productos y Recurs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Flexibilidad en las Tarea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omunicación entre las Persona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Velocidad de acceso a los Recurs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tegración con los sistemas ya existent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Importancia del Diseño en la Web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n buen diseño en Web permite  </a:t>
            </a:r>
            <a:r>
              <a:rPr b="1" lang="en-US" sz="3200" spc="-1" strike="noStrike">
                <a:solidFill>
                  <a:srgbClr val="40458c"/>
                </a:solidFill>
                <a:latin typeface="Tahoma"/>
              </a:rPr>
              <a:t>disminuir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irculación de Papel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ostos en Comunicacion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ostos de Personal (uso de agentes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s Restricciones de Uso (sólo se necesita un browser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istas para la Usabilidad de las Páginas Web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evisar el Título de las Página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evisar el Tamaño y el Color del Text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evisar la Estructuración de las Página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evisar las Suposiciones hecha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evisar la Retroalimentación que brind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SzPct val="12926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evisar el Formato y Distribución de las Imágen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SzPct val="12926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antener la Coherencia en todas las Página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8" name=""/>
          <p:cNvSpPr/>
          <p:nvPr/>
        </p:nvSpPr>
        <p:spPr>
          <a:xfrm>
            <a:off x="533520" y="5654520"/>
            <a:ext cx="8318520" cy="951120"/>
          </a:xfrm>
          <a:prstGeom prst="rect">
            <a:avLst/>
          </a:prstGeom>
          <a:solidFill>
            <a:srgbClr val="fcfdc6"/>
          </a:solidFill>
          <a:ln w="12600">
            <a:solidFill>
              <a:srgbClr val="40458c"/>
            </a:solidFill>
            <a:miter/>
          </a:ln>
          <a:effectLst>
            <a:outerShdw dist="107932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ochoa: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Manipulando estas variables, mis páginas van a ser más amigable para el usuario, más usables e intuitiva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ítulos en Páginas Web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798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l título debe ser representativo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ara el usuario, y arañas (search engines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ebe tener suficiente informació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ara guíar la navegación del usuario en forma precis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ítulos largos cansan a los usuario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usar información abreviada y representativa, por ej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My Company - Home page” vs. “Welcome to My ...”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áginas diferentes -&gt; títulos diferent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amaño del Texto y Colo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95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o use la combinación </a:t>
            </a: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Azul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/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Rojo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ansa la vist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o use muchas combinaciones “Tamaño / Font” distinta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ceptable en frases pequeña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o es recomendable en párrafos o unidades de texto mayor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051560" indent="-21024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orque desorienta al usuari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51560" indent="-21024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ansa la vist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51560" indent="-21024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o queda claro qué se intenta comunicar con ese contrast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3" name=""/>
          <p:cNvSpPr/>
          <p:nvPr/>
        </p:nvSpPr>
        <p:spPr>
          <a:xfrm>
            <a:off x="507960" y="5654520"/>
            <a:ext cx="8344080" cy="707760"/>
          </a:xfrm>
          <a:prstGeom prst="rect">
            <a:avLst/>
          </a:prstGeom>
          <a:solidFill>
            <a:srgbClr val="fcfdc6"/>
          </a:solidFill>
          <a:ln w="12600">
            <a:solidFill>
              <a:srgbClr val="40458c"/>
            </a:solidFill>
            <a:miter/>
          </a:ln>
          <a:effectLst>
            <a:outerShdw dist="107932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choa: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No porque haya muchos recursos (tamaño, estilo y color) disponibles, debo usar a todos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Mejorar los Preview (Thumbnails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761760" y="1523520"/>
            <a:ext cx="7985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humbnails (previews de imágenes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uestran el preview de una imagen (generalmente grande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chica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ecortar o escalar no funcionan bie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3"/>
          <a:stretch/>
        </p:blipFill>
        <p:spPr>
          <a:xfrm>
            <a:off x="993600" y="4014720"/>
            <a:ext cx="6384960" cy="2619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structura de la Present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77960" y="1828800"/>
            <a:ext cx="81770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Introducción a Internet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a Web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Importancia del Diseño en la Web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istas para mejorar la Usabilidad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lgunas Herramientas: Animaciones, Frames, y Link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os 10 errores típicos del diseño para Web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2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12600">
            <a:solidFill>
              <a:srgbClr val="40458c"/>
            </a:solidFill>
            <a:miter/>
          </a:ln>
          <a:effectLst>
            <a:outerShdw dist="107932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choa: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esaltar lo Relevante Reduciendo las Imágen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18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rimero recortar y luego escala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j.: para lograr una imagen que es el 10% del original, debe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ecortar el 32% (más relevante) de la image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uego escalar un 32% (reducir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.32 * .32 = .1 del origina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Balance entre detalle y contexto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3"/>
          <a:stretch/>
        </p:blipFill>
        <p:spPr>
          <a:xfrm>
            <a:off x="2036880" y="4894200"/>
            <a:ext cx="4570200" cy="1363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o Haga Suposicion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50880" y="1828800"/>
            <a:ext cx="811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Browse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s personas usan diferentes programas como browsers, y también diferentes versiones de ell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etscape, Explorer, Lynx, Opera, etc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amaño de las Ventana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o todos los usuarios usan el tamaño por defecto que tienen de ventanas (por gusto o por restricciones de su monitor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scritura en la Web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Vaya al grano, con los text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25% más lenta es la lectura en una pantalla de computadora, respecto de un texto impres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l palabrerío cansa al usuari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scriba pensando en Escaneabilida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as personas escanean la información de las páginas web, y sólo leen lo que les interes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structure la información con 2 o 3 niveles de títul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use encabezados representativos y resaltado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scritura en la Web (cont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8175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se hipertexto para estructurar la informació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arta la información en módulos coherentes sobre tópicos relacionado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use el estilo de pirámide invertida (muestre primero las conclusiones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ista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etroalimentación (Feedback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i un link apunta a un objeto (imagen, video, o pág. HTML) muy grande, indique en el link el tamaño del mismo (entre paréntesis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amaño de las pista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onga el tamaño de la imagen en el tag IMG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ostrar la estructura de la página, antes de que lleguen todas las imágen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La </a:t>
            </a: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Coherencia: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la Gran Ausent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La Coherencia en las páginas de un site permite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navegación intuitiv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mostrar al site como un tod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integrar el contenido y las herramientas. presentada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identificar las páginas de una empresa sin necesidad de leer el contenido (publicidad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publicitar “un estilo”, al interior de la empresa (en el caso de intranets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11360" y="24084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La </a:t>
            </a: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Coherencia: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la Gran Ausent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1795320" y="1612800"/>
          <a:ext cx="5694480" cy="494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5320" y="1612800"/>
                    <a:ext cx="5694480" cy="494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52280" y="29160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La </a:t>
            </a:r>
            <a:r>
              <a:rPr b="1" lang="es-ES" sz="4400" spc="-1" strike="noStrike">
                <a:solidFill>
                  <a:srgbClr val="660066"/>
                </a:solidFill>
                <a:latin typeface="Tahoma"/>
              </a:rPr>
              <a:t>Coherencia:</a:t>
            </a: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 Gran Ausente (cont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21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La Solución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Style Sheet (Hojas de Estilo): Disponibles a partir de HTML 3.2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Potenciado en XML 1.0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esultados Empíric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777600" y="1828800"/>
            <a:ext cx="821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studio a cerca de la Usabilidad: se estudiaron los 9 mejores web sit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ncluyendo CNN, Disney, HP, Fidelity, etc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o realizaron empresas independient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atos obtenid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ocenas de horas de observación de usuari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 tuvo en cuenta la composición de los sites, a la hora de realizar los análisi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esultados Empíricos (cont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818640" y="1697040"/>
            <a:ext cx="798516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ingún site fue muy bueno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osas mala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s home pages dan poca información acerca del contenido total del sit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as páginas “legibles” fueron menos efectiva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s personas no leen, ojean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s oraciones bien formadas pueden ocultar información clav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Interne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14040" y="1660320"/>
            <a:ext cx="7899480" cy="51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La red Internet o super-red, interconecta a la mayor parte del planet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Millones de usuarios (y clientes potenciales) acceden diariamente a ell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... cada vez se hace más necesaria ...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Internet plantea un nuevo escenario para el desarrollo de aplicacion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3886200" y="4114800"/>
          <a:ext cx="2362320" cy="145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4114800"/>
                    <a:ext cx="2362320" cy="14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esultados Empíricos (cont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777960" y="1828800"/>
            <a:ext cx="8197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l tiempo de “download” no fue un tema important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o se detectó correlación entre demora y frustració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l diseño gráfico tuvo poco efect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 navegación debe estar integrada al contenid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i no, el usuario encuentra al site “poco usable”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parar el contenido del diseño (estructura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esultados Empíricos (cont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Violación del “protocolo de ventas”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ituación estándard “humano - humano”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El usuario da información personal, sólo si compra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ituación estándar basada en Web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El usuario tiene que dar la información personal primero, si quiere comprar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 violación de este protocolo, muchas veces auyenta a los posibles client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Algunas Herramientas..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El diseño de páginas web usables, no pasa por utilizar un cierto editor o herramienta...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... Pasa por hacer un uso adecuado de los recursos disponibles, como por ejemplo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Fram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Link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Imágenes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Animacion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tc..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nim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814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on buenas para llamar la atención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ero no deben ser continuas (usar estados rotativos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a velocidad de animación debe ser baj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Usuarios Fastidiados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as animaciones hacen más difícil la lectur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istrae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Útiles para distribuir información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uy usadas en páginas comercial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ram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1919160" y="1865160"/>
            <a:ext cx="5327640" cy="3835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ram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1965240" y="1832040"/>
            <a:ext cx="5276880" cy="4451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esultados Empíricos (cont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ram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o son malos, pero..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antenga el esquema de frames en todas las página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o abuse de los fram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nalice la necesidad o no de las barras de scroll, para cada fram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Link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80773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l usuario no le gustan los links cort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j.: “If you click on </a:t>
            </a:r>
            <a:r>
              <a:rPr b="0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Disneyland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, will you get a map of the park? Ticket Information, etc?”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os links largos atraen al usuari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j.: “</a:t>
            </a:r>
            <a:r>
              <a:rPr b="0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How to Read the Pricing and Rating Listings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”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Pricing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(How to Read Pricing &amp; Rating Listings)”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o usar links embebidos en párraf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Hacen más difícil la búsqueda de informació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Genera una sensación de “información incompleta”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Links (cont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inks dentro de las página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l scroll de las páginas puede ocultar línks útiles para el usuari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Haga páginas cortas para evitar lo anterior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os links circulares causan confusión al usuario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Buenos Link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1654200" y="1666800"/>
            <a:ext cx="5759280" cy="4337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plicaciones Típicas de Interne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525400" y="1547280"/>
            <a:ext cx="5064120" cy="471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-mai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TP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elne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ew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Otros...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ero fundamentalmente:  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                “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a WEB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Los 10 Errores Típicos en Diseño para Web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328400" y="2919240"/>
            <a:ext cx="6840360" cy="20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e Nielsen: “Heuristic Evaluation”.               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en-US" sz="2400" spc="-1" strike="noStrike" u="sng">
                <a:solidFill>
                  <a:srgbClr val="6f89f7"/>
                </a:solidFill>
                <a:uFillTx/>
                <a:latin typeface="Tahoma"/>
                <a:hlinkClick r:id="rId1"/>
              </a:rPr>
              <a:t>http://</a:t>
            </a:r>
            <a:r>
              <a:rPr b="0" lang="en-US" sz="2400" spc="-1" strike="noStrike" u="sng">
                <a:solidFill>
                  <a:srgbClr val="6f89f7"/>
                </a:solidFill>
                <a:uFillTx/>
                <a:latin typeface="Tahoma"/>
                <a:hlinkClick r:id="rId2"/>
              </a:rPr>
              <a:t>www.useit.com/alertbox</a:t>
            </a:r>
            <a:r>
              <a:rPr b="0" lang="en-US" sz="2400" spc="-1" strike="noStrike" u="sng">
                <a:solidFill>
                  <a:srgbClr val="6f89f7"/>
                </a:solidFill>
                <a:uFillTx/>
                <a:latin typeface="Tahoma"/>
                <a:hlinkClick r:id="rId3"/>
              </a:rPr>
              <a:t>/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82400" y="240840"/>
            <a:ext cx="84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Los 10 Errores Típicos del Diseño para Web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904760" y="1828440"/>
            <a:ext cx="66294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10. Grandes Tiempos de Descarga (download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9. Información Desactualizad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8. Colores y Consistenci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7. Navegación Inadecuada (no hay diseño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6. Páginas Demasiado Grand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5. Páginas Huérfana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4. URLs Complej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3. Abuso de Animacion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2. Mecanismos para Atracción de Usuari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1. Uso Inapropiado de Fram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10. Grandes Tiempos de Descarga (download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 regla de los 10 segundo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iempo máximo de espera antes de que el usuario comience a perder interés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Es un factor humano muy estudiado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Hasta 15 segundos son aceptables en la Web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as personas se acostumbran a soportar…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…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ero sólo en páginas important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 Web no ha mejorado demasiado su velocidad, pese a todos los avances tecnológicos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roxys, Protocolos de Enrutamiento, Compresión, etc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9. Información Desactualizad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 Web es como un gran jardín, dónde usted es el jardinero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hay que arrancar la maleza y dejar las flores”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 mayoría de las personas crean contenidos, pero no los mantienen actualizados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l volumen de basura en la Web crece más rápidamente que el de la información úti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i un link es aún relevante, manténgalo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n otro caso, quítel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8. Link con Colores no Estándar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inks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inks a páginas no revisadas están en </a:t>
            </a:r>
            <a:r>
              <a:rPr b="0" lang="en-US" sz="2400" spc="-1" strike="noStrike">
                <a:solidFill>
                  <a:srgbClr val="0066ff"/>
                </a:solidFill>
                <a:latin typeface="Tahoma"/>
              </a:rPr>
              <a:t>Azul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inks a páginas revisadas están en </a:t>
            </a:r>
            <a:r>
              <a:rPr b="0" lang="en-US" sz="2400" spc="-1" strike="noStrike">
                <a:solidFill>
                  <a:srgbClr val="cc00ff"/>
                </a:solidFill>
                <a:latin typeface="Tahoma"/>
              </a:rPr>
              <a:t>púrpura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/</a:t>
            </a:r>
            <a:r>
              <a:rPr b="0" lang="en-US" sz="2400" spc="-1" strike="noStrike">
                <a:solidFill>
                  <a:srgbClr val="cc0000"/>
                </a:solidFill>
                <a:latin typeface="Tahoma"/>
              </a:rPr>
              <a:t>roj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o cambie estos color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s una de las pocas ayudas para la navegación, que funcionan en casi todos los browser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 consistencia es importante para el Alumn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o subraye objetos con rojo/azul/púrpura, pueden confundirse con un link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838080" y="3429000"/>
            <a:ext cx="7540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o muestre cosas que parecen botones, a menos que efectivamente sea un botón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nsistenci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2944800" y="1841400"/>
            <a:ext cx="3240000" cy="1198800"/>
          </a:xfrm>
          <a:prstGeom prst="rect">
            <a:avLst/>
          </a:prstGeom>
          <a:ln w="0">
            <a:noFill/>
          </a:ln>
        </p:spPr>
      </p:pic>
      <p:grpSp>
        <p:nvGrpSpPr>
          <p:cNvPr id="332" name=""/>
          <p:cNvGrpSpPr/>
          <p:nvPr/>
        </p:nvGrpSpPr>
        <p:grpSpPr>
          <a:xfrm>
            <a:off x="2822400" y="631440"/>
            <a:ext cx="4810320" cy="3386520"/>
            <a:chOff x="2822400" y="631440"/>
            <a:chExt cx="4810320" cy="3386520"/>
          </a:xfrm>
        </p:grpSpPr>
        <p:grpSp>
          <p:nvGrpSpPr>
            <p:cNvPr id="333" name=""/>
            <p:cNvGrpSpPr/>
            <p:nvPr/>
          </p:nvGrpSpPr>
          <p:grpSpPr>
            <a:xfrm>
              <a:off x="2822400" y="631440"/>
              <a:ext cx="3564720" cy="3386520"/>
              <a:chOff x="2822400" y="631440"/>
              <a:chExt cx="3564720" cy="3386520"/>
            </a:xfrm>
          </p:grpSpPr>
          <p:sp>
            <p:nvSpPr>
              <p:cNvPr id="334" name=""/>
              <p:cNvSpPr/>
              <p:nvPr/>
            </p:nvSpPr>
            <p:spPr>
              <a:xfrm>
                <a:off x="2886120" y="1657440"/>
                <a:ext cx="3403440" cy="1522440"/>
              </a:xfrm>
              <a:custGeom>
                <a:avLst/>
                <a:gdLst/>
                <a:ahLst/>
                <a:rect l="l" t="t" r="r" b="b"/>
                <a:pathLst>
                  <a:path w="1888" h="851">
                    <a:moveTo>
                      <a:pt x="0" y="0"/>
                    </a:moveTo>
                    <a:cubicBezTo>
                      <a:pt x="61" y="102"/>
                      <a:pt x="251" y="123"/>
                      <a:pt x="345" y="153"/>
                    </a:cubicBezTo>
                    <a:cubicBezTo>
                      <a:pt x="531" y="211"/>
                      <a:pt x="721" y="260"/>
                      <a:pt x="909" y="313"/>
                    </a:cubicBezTo>
                    <a:cubicBezTo>
                      <a:pt x="973" y="331"/>
                      <a:pt x="1042" y="334"/>
                      <a:pt x="1101" y="364"/>
                    </a:cubicBezTo>
                    <a:cubicBezTo>
                      <a:pt x="1186" y="408"/>
                      <a:pt x="1263" y="427"/>
                      <a:pt x="1357" y="448"/>
                    </a:cubicBezTo>
                    <a:cubicBezTo>
                      <a:pt x="1413" y="483"/>
                      <a:pt x="1469" y="518"/>
                      <a:pt x="1523" y="556"/>
                    </a:cubicBezTo>
                    <a:cubicBezTo>
                      <a:pt x="1533" y="563"/>
                      <a:pt x="1545" y="568"/>
                      <a:pt x="1555" y="576"/>
                    </a:cubicBezTo>
                    <a:cubicBezTo>
                      <a:pt x="1569" y="587"/>
                      <a:pt x="1593" y="614"/>
                      <a:pt x="1593" y="614"/>
                    </a:cubicBezTo>
                    <a:cubicBezTo>
                      <a:pt x="1626" y="704"/>
                      <a:pt x="1694" y="751"/>
                      <a:pt x="1773" y="800"/>
                    </a:cubicBezTo>
                    <a:cubicBezTo>
                      <a:pt x="1797" y="815"/>
                      <a:pt x="1822" y="830"/>
                      <a:pt x="1849" y="838"/>
                    </a:cubicBezTo>
                    <a:cubicBezTo>
                      <a:pt x="1862" y="842"/>
                      <a:pt x="1888" y="851"/>
                      <a:pt x="1888" y="851"/>
                    </a:cubicBezTo>
                  </a:path>
                </a:pathLst>
              </a:custGeom>
              <a:noFill/>
              <a:ln w="57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rot="8330400">
                <a:off x="2902680" y="1563480"/>
                <a:ext cx="3403800" cy="1522440"/>
              </a:xfrm>
              <a:custGeom>
                <a:avLst/>
                <a:gdLst/>
                <a:ahLst/>
                <a:rect l="l" t="t" r="r" b="b"/>
                <a:pathLst>
                  <a:path w="1888" h="851">
                    <a:moveTo>
                      <a:pt x="0" y="0"/>
                    </a:moveTo>
                    <a:cubicBezTo>
                      <a:pt x="61" y="102"/>
                      <a:pt x="251" y="123"/>
                      <a:pt x="345" y="153"/>
                    </a:cubicBezTo>
                    <a:cubicBezTo>
                      <a:pt x="531" y="211"/>
                      <a:pt x="721" y="260"/>
                      <a:pt x="909" y="313"/>
                    </a:cubicBezTo>
                    <a:cubicBezTo>
                      <a:pt x="973" y="331"/>
                      <a:pt x="1042" y="334"/>
                      <a:pt x="1101" y="364"/>
                    </a:cubicBezTo>
                    <a:cubicBezTo>
                      <a:pt x="1186" y="408"/>
                      <a:pt x="1263" y="427"/>
                      <a:pt x="1357" y="448"/>
                    </a:cubicBezTo>
                    <a:cubicBezTo>
                      <a:pt x="1413" y="483"/>
                      <a:pt x="1469" y="518"/>
                      <a:pt x="1523" y="556"/>
                    </a:cubicBezTo>
                    <a:cubicBezTo>
                      <a:pt x="1533" y="563"/>
                      <a:pt x="1545" y="568"/>
                      <a:pt x="1555" y="576"/>
                    </a:cubicBezTo>
                    <a:cubicBezTo>
                      <a:pt x="1569" y="587"/>
                      <a:pt x="1593" y="614"/>
                      <a:pt x="1593" y="614"/>
                    </a:cubicBezTo>
                    <a:cubicBezTo>
                      <a:pt x="1626" y="704"/>
                      <a:pt x="1694" y="751"/>
                      <a:pt x="1773" y="800"/>
                    </a:cubicBezTo>
                    <a:cubicBezTo>
                      <a:pt x="1797" y="815"/>
                      <a:pt x="1822" y="830"/>
                      <a:pt x="1849" y="838"/>
                    </a:cubicBezTo>
                    <a:cubicBezTo>
                      <a:pt x="1862" y="842"/>
                      <a:pt x="1888" y="851"/>
                      <a:pt x="1888" y="851"/>
                    </a:cubicBezTo>
                  </a:path>
                </a:pathLst>
              </a:custGeom>
              <a:noFill/>
              <a:ln w="57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6391440" y="1847880"/>
              <a:ext cx="1241280" cy="520560"/>
              <a:chOff x="6391440" y="1847880"/>
              <a:chExt cx="1241280" cy="520560"/>
            </a:xfrm>
          </p:grpSpPr>
          <p:sp>
            <p:nvSpPr>
              <p:cNvPr id="337" name=""/>
              <p:cNvSpPr/>
              <p:nvPr/>
            </p:nvSpPr>
            <p:spPr>
              <a:xfrm>
                <a:off x="6708240" y="1847880"/>
                <a:ext cx="924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b2b2b2"/>
                    </a:solidFill>
                    <a:latin typeface="SigLisa"/>
                  </a:rPr>
                  <a:t>Bad!</a:t>
                </a:r>
                <a:endParaRPr b="0" lang="en-US" sz="28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flipH="1">
                <a:off x="6391440" y="2041560"/>
                <a:ext cx="272880" cy="82440"/>
              </a:xfrm>
              <a:prstGeom prst="line">
                <a:avLst/>
              </a:prstGeom>
              <a:ln w="38160">
                <a:solidFill>
                  <a:srgbClr val="b2b2b2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7. Navegación Inadecuada (no hay diseño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l usuario no conoce su Site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iene dificultad para encontrar información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o hay un camino claro para obtener la información(algún tipo de estructura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omunicar la estructura del Site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roveer un mapa del site (subliminal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l usuario sabrá dónde está y a dónde quiere ir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roveer alguna herramienta de búsqued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l mejor soporte para la navegación, nunca será suficient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Qué Podría Ser Peor Que Esto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438280" y="1828800"/>
            <a:ext cx="4945320" cy="484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6. Páginas Demasiado Grandes (largas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ólo el 10% de los usuarios usan la barra de scroll para revisar las partes no visibles en la presentación inicial de la página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as cosas importantes y la estructura de navegación de la página debería estar siempre en la parte más alta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os nodos “hoja” pueden ser un poco más largo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s personas interesadas en él, lo leerán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ero, no abuse con est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Qué Podría Estar Mal Aquí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1071720" y="2314440"/>
            <a:ext cx="741996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plicaciones a partir de la WEB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301480" y="1587240"/>
            <a:ext cx="4886280" cy="46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ducació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omercio Electrónic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guridad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Gestión Empresaria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Gobiern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omunicació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ntretenimiento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tc....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. Páginas Huérfan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n todas las páginas debería indicarse el Web Site al que percenece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os usuarios podrían accederla a través de un link extern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ada página debería tene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un link al home pag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lguna indicación del lugar que ocupa, dentro de la estructura del sit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4. URLs Complej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o debe incluir direcciones (IP) de máquina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os usuarios tratan de decodificar el URL de la págin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ara inferir la estructura del Web Sit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 pierde el soporte para la navegación y el sentido de la ubicación dentro del site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s URLs deberían ser legibles para las persona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os nombres usados en cada URL deberían ser representariv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o deben incluir caracteres especiales, ni combinaciones Mayúscula/Minúcula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3. Animaciones Permanent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o use movimiento permanente en las animacione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 captura de movimiento tiene un poder especial dentro del sistema de percepción humano, úselo adecuadament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l usuario necesita tranquilidad para asimilar la información que ud. pretende entregarle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l &lt;BLINK&gt; es simplemente MALO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2. Mecanismos de Atracción de Usuarios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861840" y="1676520"/>
            <a:ext cx="8282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o mienta respecto a lo que ofrece y/o regala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o intente atraer a la muchedumbre, el costo asociado es muy alto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 su sistema se cae mientras consultan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os usuarios nunca regresarán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sar Advertencias, en caso de ser necesari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or ej.: el software es de prueba, y vencerá su licencia de uso en 30 día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1. Uso de Inapropiado de Fram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458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ueden confundir a los usuari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ompe el modelo de página Web que tiene el usuari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s acciones del usuario pierden predictibilida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¿quién sabe qué información aparecerá dónde, cu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a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ndo usted hace un click en un link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?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os frames deben ser a lo más tr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eben usarse para reflejar la estructur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a estructura dada, debe respetarse en todas las página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Uso inapropiado de Frames (cont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15960" y="1752120"/>
            <a:ext cx="82231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os motores de búsqueda tienen problemas con la información en los fram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lgunos estudios encontraron que la mayoría de los usuarios prefieren los sites sin fram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Advertencia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: diseñadores muy experimentados pueden (algunas veces) usar frames para mejorar el impacto de una página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Pero debe usarlos tan económicamente como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a 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posibl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52280" y="29160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Conclusion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8001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La construcción de sistemas para Internet aún está muy verde..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Fundamentalmente en: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Metodologías de desarroll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stimacion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Herramienta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Madurez de las tecnologías involucrada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Diseñar para la web no es fácil, requiere repensar todo de nuevo....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También es cierto que hay que abordar este desafío lo antes posible..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... con respecto a esto, no hay alternativas..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eferenci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ielsen’s top 10 lis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f89f7"/>
                </a:solidFill>
                <a:uFillTx/>
                <a:latin typeface="Tahoma"/>
                <a:hlinkClick r:id="rId2"/>
              </a:rPr>
              <a:t>http://www.useit.com/alertbox/9605.htm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Web pages that suck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f89f7"/>
                </a:solidFill>
                <a:uFillTx/>
                <a:latin typeface="Tahoma"/>
                <a:hlinkClick r:id="rId4"/>
              </a:rPr>
              <a:t>http://</a:t>
            </a:r>
            <a:r>
              <a:rPr b="0" lang="en-US" sz="2800" spc="-1" strike="noStrike" u="sng">
                <a:solidFill>
                  <a:srgbClr val="6f89f7"/>
                </a:solidFill>
                <a:uFillTx/>
                <a:latin typeface="Tahoma"/>
                <a:hlinkClick r:id="rId5"/>
              </a:rPr>
              <a:t>www.webpagesthatsuck.com</a:t>
            </a:r>
            <a:r>
              <a:rPr b="0" lang="en-US" sz="2800" spc="-1" strike="noStrike" u="sng">
                <a:solidFill>
                  <a:srgbClr val="6f89f7"/>
                </a:solidFill>
                <a:uFillTx/>
                <a:latin typeface="Tahoma"/>
                <a:hlinkClick r:id="rId6"/>
              </a:rPr>
              <a:t>/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et tips for designer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f89f7"/>
                </a:solidFill>
                <a:uFillTx/>
                <a:latin typeface="Tahoma"/>
                <a:hlinkClick r:id="rId8"/>
              </a:rPr>
              <a:t>http://</a:t>
            </a:r>
            <a:r>
              <a:rPr b="0" lang="en-US" sz="2800" spc="-1" strike="noStrike" u="sng">
                <a:solidFill>
                  <a:srgbClr val="6f89f7"/>
                </a:solidFill>
                <a:uFillTx/>
                <a:latin typeface="Tahoma"/>
                <a:hlinkClick r:id="rId9"/>
              </a:rPr>
              <a:t>www.dsiegel.com</a:t>
            </a:r>
            <a:r>
              <a:rPr b="0" lang="en-US" sz="2800" spc="-1" strike="noStrike" u="sng">
                <a:solidFill>
                  <a:srgbClr val="6f89f7"/>
                </a:solidFill>
                <a:uFillTx/>
                <a:latin typeface="Tahoma"/>
                <a:hlinkClick r:id="rId10"/>
              </a:rPr>
              <a:t>/tips/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ser Interface Engineer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f89f7"/>
                </a:solidFill>
                <a:uFillTx/>
                <a:latin typeface="Tahoma"/>
              </a:rPr>
              <a:t>http:///</a:t>
            </a:r>
            <a:r>
              <a:rPr b="0" lang="en-US" sz="2800" spc="-1" strike="noStrike" u="sng">
                <a:solidFill>
                  <a:srgbClr val="6f89f7"/>
                </a:solidFill>
                <a:uFillTx/>
                <a:latin typeface="Tahoma"/>
              </a:rPr>
              <a:t>www.uie.com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317160"/>
            <a:ext cx="797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ducación en la Web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764640" y="1638000"/>
            <a:ext cx="798516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Han aparecido muchas herramientas para impartir conocimientos a través de la Web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1893960" y="2644920"/>
          <a:ext cx="5253120" cy="377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93960" y="2644920"/>
                    <a:ext cx="5253120" cy="37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5" name=""/>
          <p:cNvSpPr/>
          <p:nvPr/>
        </p:nvSpPr>
        <p:spPr>
          <a:xfrm>
            <a:off x="523800" y="5908680"/>
            <a:ext cx="5384880" cy="707760"/>
          </a:xfrm>
          <a:prstGeom prst="rect">
            <a:avLst/>
          </a:prstGeom>
          <a:solidFill>
            <a:srgbClr val="fcfdc6"/>
          </a:solidFill>
          <a:ln w="12600">
            <a:solidFill>
              <a:srgbClr val="40458c"/>
            </a:solidFill>
            <a:miter/>
          </a:ln>
          <a:effectLst>
            <a:outerShdw dist="107932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choa: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stado del arte en el mercado de Educación a Distancia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97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mercio Electrónic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1677960" y="1646280"/>
          <a:ext cx="6031080" cy="489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7960" y="1646280"/>
                    <a:ext cx="6031080" cy="489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9" name=""/>
          <p:cNvSpPr/>
          <p:nvPr/>
        </p:nvSpPr>
        <p:spPr>
          <a:xfrm>
            <a:off x="955800" y="5527800"/>
            <a:ext cx="7912080" cy="1078200"/>
          </a:xfrm>
          <a:prstGeom prst="rect">
            <a:avLst/>
          </a:prstGeom>
          <a:solidFill>
            <a:srgbClr val="fcfdc6"/>
          </a:solidFill>
          <a:ln w="12600">
            <a:solidFill>
              <a:srgbClr val="40458c"/>
            </a:solidFill>
            <a:miter/>
          </a:ln>
          <a:effectLst>
            <a:outerShdw dist="107932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ochoa: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-24 hs y 365 días al año vendiendo sin empleados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- millones de potenciales clientes.                - Se requiere muy poca infraestructura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86960" y="253800"/>
            <a:ext cx="7975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egurida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1170000" y="1692360"/>
          <a:ext cx="7211880" cy="466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70000" y="1692360"/>
                    <a:ext cx="7211880" cy="466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3" name=""/>
          <p:cNvSpPr/>
          <p:nvPr/>
        </p:nvSpPr>
        <p:spPr>
          <a:xfrm>
            <a:off x="536400" y="5667480"/>
            <a:ext cx="8344080" cy="1078200"/>
          </a:xfrm>
          <a:prstGeom prst="rect">
            <a:avLst/>
          </a:prstGeom>
          <a:solidFill>
            <a:srgbClr val="fcfdc6"/>
          </a:solidFill>
          <a:ln w="12600">
            <a:solidFill>
              <a:srgbClr val="40458c"/>
            </a:solidFill>
            <a:miter/>
          </a:ln>
          <a:effectLst>
            <a:outerShdw dist="107932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choa: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Policía, Aduana, Ejército, Agencias de Investigaciones, etc.  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Comunicación barata, fácil y rápida.      - Capacidades de audio, video, imágenes y texto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86960" y="240840"/>
            <a:ext cx="7975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Gestión Empresarial (Intranets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777960" y="1704960"/>
          <a:ext cx="7618320" cy="470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7960" y="1704960"/>
                    <a:ext cx="7618320" cy="470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7" name=""/>
          <p:cNvSpPr/>
          <p:nvPr/>
        </p:nvSpPr>
        <p:spPr>
          <a:xfrm>
            <a:off x="15840" y="6145200"/>
            <a:ext cx="9128160" cy="1078200"/>
          </a:xfrm>
          <a:prstGeom prst="rect">
            <a:avLst/>
          </a:prstGeom>
          <a:solidFill>
            <a:srgbClr val="fcfdc6"/>
          </a:solidFill>
          <a:ln w="9360">
            <a:solidFill>
              <a:srgbClr val="40458c"/>
            </a:solidFill>
            <a:miter/>
          </a:ln>
          <a:effectLst>
            <a:outerShdw dist="107932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choa: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Independencia del puesto de trabajo, S.O., Aplicación Cliente  - Mejores canales de comunicación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Circulación de documentos electrónicos en vez de papel          - Aumento de la eficiencia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05T16:18:49Z</dcterms:created>
  <dc:creator>sochoa</dc:creator>
  <dc:description/>
  <dc:language>en-US</dc:language>
  <cp:lastModifiedBy>Sergio F. Ochoa</cp:lastModifiedBy>
  <cp:lastPrinted>2000-04-26T16:56:46Z</cp:lastPrinted>
  <dcterms:modified xsi:type="dcterms:W3CDTF">2005-10-20T17:09:01Z</dcterms:modified>
  <cp:revision>59</cp:revision>
  <dc:subject/>
  <dc:title>Diseñando para la Web (#1)</dc:title>
</cp:coreProperties>
</file>