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0231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728-AA18-45AA-83BA-56FE2F5D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15A-FDD0-475F-AEA5-B4A6005D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4575-BBFA-46FC-BD70-34D792FC5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ECB4-C6F5-4EB6-8482-6A70EBED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161-DAF3-4D39-B844-8A5BE08C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95DB-88AD-4060-931B-BAEDF2AE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0A55-DAC0-4920-B88C-DA439733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629-6B2A-48B4-B422-6D88102D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53B-8742-4BF5-8FA0-936B8583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CAE7-2208-42D2-8FE2-A19EB021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B6AF-D574-4A78-A9F5-1143524E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8B08-B386-4904-93C9-137E11D4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1B34-1086-4D10-BAFA-29AE626F66D8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ferencias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edificio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n tangibl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ólo pequeños camb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ética es importa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estilo de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contratado por el cliente para diseñar y supervisar la construcción del edific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oftware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intangibl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 modificars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estructura es esencial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zcla de patr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rquitecto de softwar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empleado de la empresa desarrolladora del softwar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3953-7805-4899-91C8-D9EAF3F02D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205740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Estructura de Sub Sistema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810240" cy="8380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odelamiento del Contro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4952880"/>
            <a:ext cx="3810240" cy="8384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escomposición de Módulo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90" idx="2"/>
            <a:endCxn id="91" idx="0"/>
          </p:cNvCxnSpPr>
          <p:nvPr/>
        </p:nvCxnSpPr>
        <p:spPr>
          <a:xfrm>
            <a:off x="4571640" y="2895480"/>
            <a:ext cx="1080" cy="61056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1" idx="2"/>
            <a:endCxn id="92" idx="0"/>
          </p:cNvCxnSpPr>
          <p:nvPr/>
        </p:nvCxnSpPr>
        <p:spPr>
          <a:xfrm>
            <a:off x="4571640" y="4343040"/>
            <a:ext cx="1080" cy="61020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8928-3D07-47E7-A399-8D4D960A4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ub Sistemas y Módul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sub sistem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 sistema independiente que no requiere servicios de otro sub sistema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tá compuesto por módulos que interactúan entre sí y con módulos de otros sub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 módul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una componente de un sistema que provee servicios a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 uso de servicios de otros módulo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no son sistemas independi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tener sub componentes más simp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07E6-731E-4672-B5CC-5A1F12127E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ructura del Sistem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primera actividad del diseño de la arquitectura de un sistema de software es definir un conjunto de sub sistemas que componen el sistema comple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primera aproximación es un diagrama de cajas y flechas dond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cajas son sub sistem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las flechas son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dat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lujos de contro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EFD-3656-47A2-8AB4-ABF54AC32E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76680" y="53316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Estructura de un Robot de Empaqu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5680" y="1828800"/>
            <a:ext cx="4419360" cy="3886200"/>
            <a:chOff x="4495680" y="1828800"/>
            <a:chExt cx="4419360" cy="3886200"/>
          </a:xfrm>
        </p:grpSpPr>
        <p:sp>
          <p:nvSpPr>
            <p:cNvPr id="102" name=""/>
            <p:cNvSpPr/>
            <p:nvPr/>
          </p:nvSpPr>
          <p:spPr>
            <a:xfrm>
              <a:off x="5462640" y="3772080"/>
              <a:ext cx="1518840" cy="194292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5680" y="182880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Vi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49568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Identifica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Obje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5276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l Braz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03200" y="2800080"/>
              <a:ext cx="117396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Agarr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00520" y="391068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005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Sistem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Empaq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72320" y="4881960"/>
              <a:ext cx="1173600" cy="624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Control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de Transpor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14880" y="2661480"/>
              <a:ext cx="2900160" cy="971280"/>
            </a:xfrm>
            <a:prstGeom prst="rect">
              <a:avLst/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11" name=""/>
            <p:cNvCxnSpPr>
              <a:stCxn id="103" idx="2"/>
              <a:endCxn id="104" idx="0"/>
            </p:cNvCxnSpPr>
            <p:nvPr/>
          </p:nvCxnSpPr>
          <p:spPr>
            <a:xfrm>
              <a:off x="5082480" y="2452680"/>
              <a:ext cx="1080" cy="34740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04" idx="2"/>
              <a:endCxn id="102" idx="1"/>
            </p:cNvCxnSpPr>
            <p:nvPr/>
          </p:nvCxnSpPr>
          <p:spPr>
            <a:xfrm flipH="1" rot="16200000">
              <a:off x="4613040" y="3893760"/>
              <a:ext cx="1319400" cy="38016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3" name=""/>
            <p:cNvCxnSpPr>
              <a:stCxn id="107" idx="2"/>
              <a:endCxn id="108" idx="0"/>
            </p:cNvCxnSpPr>
            <p:nvPr/>
          </p:nvCxnSpPr>
          <p:spPr>
            <a:xfrm>
              <a:off x="6186960" y="4534920"/>
              <a:ext cx="1080" cy="347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4" name=""/>
            <p:cNvCxnSpPr>
              <a:stCxn id="103" idx="3"/>
              <a:endCxn id="110" idx="0"/>
            </p:cNvCxnSpPr>
            <p:nvPr/>
          </p:nvCxnSpPr>
          <p:spPr>
            <a:xfrm>
              <a:off x="5669280" y="2140560"/>
              <a:ext cx="1796040" cy="5209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08" idx="3"/>
              <a:endCxn id="110" idx="2"/>
            </p:cNvCxnSpPr>
            <p:nvPr/>
          </p:nvCxnSpPr>
          <p:spPr>
            <a:xfrm flipV="1">
              <a:off x="6774480" y="3632040"/>
              <a:ext cx="691200" cy="156204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16" name=""/>
            <p:cNvSpPr/>
            <p:nvPr/>
          </p:nvSpPr>
          <p:spPr>
            <a:xfrm>
              <a:off x="6774480" y="5298480"/>
              <a:ext cx="8978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sistema 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tecta objetos en una cinta transportado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identifica el tipo de obje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lecciona el tipo de empaque apropiad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transporta los objetos al lugar de empaqu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os objetos empacados se colocan en otra cinta transportador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2CF-1DDA-45C0-9728-2F0F2F0851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estaciones de tiempo recogen información y la transmiten para ser proces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 base de datos de mapas proporciona mapas básicos para agregar datos d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 mapa de tiempo puede desplegarse o imprimirs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datos del tiempo son usados para producir los mapas y también son archiva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61C-9F37-40DC-A09D-BF6C822657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 de Mapas del Tiemp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219320" y="1905120"/>
            <a:ext cx="6171840" cy="4038120"/>
            <a:chOff x="1219320" y="1905120"/>
            <a:chExt cx="6171840" cy="4038120"/>
          </a:xfrm>
        </p:grpSpPr>
        <p:sp>
          <p:nvSpPr>
            <p:cNvPr id="122" name=""/>
            <p:cNvSpPr/>
            <p:nvPr/>
          </p:nvSpPr>
          <p:spPr>
            <a:xfrm>
              <a:off x="384408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Procesado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48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Archiv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4240" y="402660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Base de 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9304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splieg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95480" y="532728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Impres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Mapa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44080" y="306864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istema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Telecomuni-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c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9320" y="19051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0800" y="20415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03000" y="21783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44840" y="231552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Estacione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e Tiempo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408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eptor de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Satél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72400" y="1973160"/>
              <a:ext cx="1276920" cy="615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66"/>
              </a:solidFill>
              <a:miter/>
            </a:ln>
            <a:effectLst>
              <a:outerShdw dist="107932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Recolecció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Manual 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800080"/>
                  </a:solidFill>
                  <a:latin typeface="Times New Roman"/>
                </a:rPr>
                <a:t>Dato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31" idx="2"/>
              <a:endCxn id="127" idx="1"/>
            </p:cNvCxnSpPr>
            <p:nvPr/>
          </p:nvCxnSpPr>
          <p:spPr>
            <a:xfrm flipH="1" rot="16200000">
              <a:off x="2840400" y="2373840"/>
              <a:ext cx="445680" cy="156132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33" idx="2"/>
              <a:endCxn id="127" idx="3"/>
            </p:cNvCxnSpPr>
            <p:nvPr/>
          </p:nvCxnSpPr>
          <p:spPr>
            <a:xfrm rot="5400000">
              <a:off x="5472000" y="2237760"/>
              <a:ext cx="788040" cy="1490400"/>
            </a:xfrm>
            <a:prstGeom prst="bentConnector2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32" idx="2"/>
              <a:endCxn id="127" idx="0"/>
            </p:cNvCxnSpPr>
            <p:nvPr/>
          </p:nvCxnSpPr>
          <p:spPr>
            <a:xfrm>
              <a:off x="4482360" y="2588760"/>
              <a:ext cx="1080" cy="4798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7" idx="2"/>
              <a:endCxn id="122" idx="0"/>
            </p:cNvCxnSpPr>
            <p:nvPr/>
          </p:nvCxnSpPr>
          <p:spPr>
            <a:xfrm>
              <a:off x="4482360" y="3684600"/>
              <a:ext cx="1080" cy="34272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8" name=""/>
            <p:cNvCxnSpPr>
              <a:stCxn id="122" idx="1"/>
              <a:endCxn id="123" idx="3"/>
            </p:cNvCxnSpPr>
            <p:nvPr/>
          </p:nvCxnSpPr>
          <p:spPr>
            <a:xfrm flipH="1">
              <a:off x="2921400" y="4334400"/>
              <a:ext cx="92304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24" idx="1"/>
              <a:endCxn id="122" idx="3"/>
            </p:cNvCxnSpPr>
            <p:nvPr/>
          </p:nvCxnSpPr>
          <p:spPr>
            <a:xfrm flipH="1">
              <a:off x="5121000" y="4334400"/>
              <a:ext cx="993600" cy="1080"/>
            </a:xfrm>
            <a:prstGeom prst="straightConnector1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22" idx="2"/>
              <a:endCxn id="125" idx="0"/>
            </p:cNvCxnSpPr>
            <p:nvPr/>
          </p:nvCxnSpPr>
          <p:spPr>
            <a:xfrm rot="5400000">
              <a:off x="3714120" y="455940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stCxn id="122" idx="2"/>
              <a:endCxn id="126" idx="0"/>
            </p:cNvCxnSpPr>
            <p:nvPr/>
          </p:nvCxnSpPr>
          <p:spPr>
            <a:xfrm flipH="1" rot="16200000">
              <a:off x="4565880" y="4559040"/>
              <a:ext cx="685080" cy="851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4F4C-D4C2-4246-8656-DD3BC05E8D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blemas a Considerar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l es la diferencia entre las distintas flechas? ¿Qué significa cada una de ella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Qué datos se archivan? ¿Qué se hacen con los datos erróneos que pueden recibirse de las estaciones de tiempo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¿Cuántas estaciones de tiempo hay en el sistema? ¿Son todas iguales o tienen diferentes particularidades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020280" y="53341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Formalida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5410080"/>
            <a:ext cx="1600200" cy="381240"/>
          </a:xfrm>
          <a:prstGeom prst="rightArrow">
            <a:avLst>
              <a:gd name="adj1" fmla="val 50000"/>
              <a:gd name="adj2" fmla="val 104934"/>
            </a:avLst>
          </a:prstGeom>
          <a:solidFill>
            <a:srgbClr val="3333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E3CA-BD44-4FB2-82F3-12B8333668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de los Formalismo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ejor comunicación entre el diseñador y el lecto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análisis de decisiones tempranas de diseño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osibilidad de generar código a partir de la especificació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Mayor probabilidad de mantener la especificación de la arquitectura actualizada con respecto a la evolución del sistem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486400" y="1371600"/>
            <a:ext cx="3428640" cy="4723920"/>
            <a:chOff x="5486400" y="1371600"/>
            <a:chExt cx="3428640" cy="4723920"/>
          </a:xfrm>
        </p:grpSpPr>
        <p:sp>
          <p:nvSpPr>
            <p:cNvPr id="149" name=""/>
            <p:cNvSpPr/>
            <p:nvPr/>
          </p:nvSpPr>
          <p:spPr>
            <a:xfrm>
              <a:off x="602424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38120" y="25524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24240" y="380304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31000" y="1371600"/>
              <a:ext cx="1276920" cy="8334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8640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98320" y="512316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72400" y="3942000"/>
              <a:ext cx="1008360" cy="97236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156" name=""/>
            <p:cNvCxnSpPr>
              <a:stCxn id="152" idx="2"/>
              <a:endCxn id="149" idx="0"/>
            </p:cNvCxnSpPr>
            <p:nvPr/>
          </p:nvCxnSpPr>
          <p:spPr>
            <a:xfrm flipH="1">
              <a:off x="666252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7" name=""/>
            <p:cNvCxnSpPr>
              <a:stCxn id="152" idx="2"/>
              <a:endCxn id="150" idx="0"/>
            </p:cNvCxnSpPr>
            <p:nvPr/>
          </p:nvCxnSpPr>
          <p:spPr>
            <a:xfrm>
              <a:off x="7469640" y="2205000"/>
              <a:ext cx="807480" cy="3477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8" name=""/>
            <p:cNvCxnSpPr>
              <a:stCxn id="149" idx="2"/>
              <a:endCxn id="151" idx="0"/>
            </p:cNvCxnSpPr>
            <p:nvPr/>
          </p:nvCxnSpPr>
          <p:spPr>
            <a:xfrm>
              <a:off x="6662880" y="3385800"/>
              <a:ext cx="1080" cy="41724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59" name=""/>
            <p:cNvCxnSpPr>
              <a:stCxn id="150" idx="2"/>
              <a:endCxn id="155" idx="0"/>
            </p:cNvCxnSpPr>
            <p:nvPr/>
          </p:nvCxnSpPr>
          <p:spPr>
            <a:xfrm>
              <a:off x="8276400" y="3386160"/>
              <a:ext cx="1080" cy="55656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0" name=""/>
            <p:cNvCxnSpPr>
              <a:stCxn id="151" idx="2"/>
              <a:endCxn id="153" idx="0"/>
            </p:cNvCxnSpPr>
            <p:nvPr/>
          </p:nvCxnSpPr>
          <p:spPr>
            <a:xfrm flipH="1">
              <a:off x="5990040" y="4636440"/>
              <a:ext cx="67284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  <p:cxnSp>
          <p:nvCxnSpPr>
            <p:cNvPr id="161" name=""/>
            <p:cNvCxnSpPr>
              <a:stCxn id="151" idx="2"/>
              <a:endCxn id="154" idx="0"/>
            </p:cNvCxnSpPr>
            <p:nvPr/>
          </p:nvCxnSpPr>
          <p:spPr>
            <a:xfrm>
              <a:off x="6663240" y="4636440"/>
              <a:ext cx="740160" cy="487080"/>
            </a:xfrm>
            <a:prstGeom prst="straightConnector1">
              <a:avLst/>
            </a:prstGeom>
            <a:ln w="19080">
              <a:solidFill>
                <a:srgbClr val="3366ff"/>
              </a:solidFill>
              <a:miter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B80-2CD6-4A0B-80DC-09D470D608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762120" y="4572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chitecture Definition Languages: ADL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209680"/>
            <a:ext cx="3962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olución tecnológica emergente para representar y analizar arquitecturas de softwar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si todos los ADLs están en etapa de investigación, y sólo unos pocos son productos comercial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12400" y="2590920"/>
            <a:ext cx="5037840" cy="2590200"/>
            <a:chOff x="3812400" y="2590920"/>
            <a:chExt cx="5037840" cy="2590200"/>
          </a:xfrm>
        </p:grpSpPr>
        <p:sp>
          <p:nvSpPr>
            <p:cNvPr id="165" name=""/>
            <p:cNvSpPr/>
            <p:nvPr/>
          </p:nvSpPr>
          <p:spPr>
            <a:xfrm>
              <a:off x="5181480" y="2819160"/>
              <a:ext cx="1676160" cy="1676160"/>
            </a:xfrm>
            <a:prstGeom prst="ellipse">
              <a:avLst/>
            </a:prstGeom>
            <a:noFill/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440" y="259092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240" y="3504960"/>
              <a:ext cx="1676520" cy="1676160"/>
            </a:xfrm>
            <a:prstGeom prst="ellipse">
              <a:avLst/>
            </a:prstGeom>
            <a:noFill/>
            <a:ln w="57240">
              <a:solidFill>
                <a:srgbClr val="ffe1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2400" y="335160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REQUERIMIENT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500600" y="3047040"/>
              <a:ext cx="134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MODEL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67840" y="4494600"/>
              <a:ext cx="21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66"/>
                  </a:solidFill>
                  <a:latin typeface="Times New Roman"/>
                </a:rPr>
                <a:t>PROGRAMACIÓ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248160" y="3352680"/>
              <a:ext cx="914400" cy="837720"/>
            </a:xfrm>
            <a:prstGeom prst="ellipse">
              <a:avLst/>
            </a:prstGeom>
            <a:solidFill>
              <a:srgbClr val="dddddd">
                <a:alpha val="50000"/>
              </a:srgbClr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1880" y="350388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Times New Roman"/>
                </a:rPr>
                <a:t>AD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84C-86DD-4727-9106-2935319393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11280"/>
            <a:ext cx="83818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en el proceso de desarroll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-360" y="4495320"/>
            <a:ext cx="4876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clarar intenc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Hacer explícitas las decision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ir análisis a nivel de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48520" y="28195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Reducir los costos de mantenimiento directa e indirect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7524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equisi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24382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rquitectur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31240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talla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129564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4495680"/>
            <a:ext cx="1295280" cy="685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086600" y="5181480"/>
            <a:ext cx="129528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312372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9880"/>
            <a:ext cx="0" cy="1295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5EB-E775-4FE5-81F3-6C102A221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ropiedades de un ADL idea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mposi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un sistema como componentes y conectores independi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bstrac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s componentes y sus interacciones indicando clara y explícitamente su rol abstracto en 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Reutiliz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reutilizar componentes, conectores y patrones de arquitectura en distintos 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Configuración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describir la estructura del sistema, independientemente de los detalles de los elementos que la componen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Heterogeneidad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combinar descripciones de arquitecturas variadas y heterogén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Tahoma"/>
              </a:rPr>
              <a:t>Análisis</a:t>
            </a: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 - poder aplicar análisis a las descripciones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AF4-78E1-46A1-A812-F089CC505D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Estado del Arte en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ntaxis y semántica form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Notación gráfica y textua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ementos típicos de modelamiento de sistemas distribuid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Algunas facilidades para registrar la motivación de las decisiones de diseñ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Flujo de datos y control como los principales mecanismos de conexión; pocos representan otros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Varios niveles de abstrac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Instanciación múltiple de elementos definidos una vez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AC9-DA43-48AD-94E9-48EB92D92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cc0099"/>
                </a:solidFill>
                <a:latin typeface="Tahoma"/>
              </a:rPr>
              <a:t>Ejemplos de ADL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UniCon - componentes y conect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5 †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Rapide - modelamiento de dinámica, especificaciones ejecutab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Stanford, 1995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C2 - interfaces humano-computador y evol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University of California Irvine, 1995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Wright - conectores como elementos independientes (CSP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7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Darwin - lenguaje de control de la configuración (</a:t>
            </a:r>
            <a:r>
              <a:rPr b="0" lang="es-AR" sz="20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-calculus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Imperial College, London, 1995, †?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58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66"/>
                </a:solidFill>
                <a:latin typeface="Tahoma"/>
              </a:rPr>
              <a:t>ACME - lenguaje de intercambio de descripción de arquitectur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ahoma"/>
              </a:rPr>
              <a:t>Carnegie Melon University, 1998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3F12-C626-4213-BF09-E65BFDBE2D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Modelamiento del Cont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os modelos de Control organizan las componentes de acuerdo con el flujo de control entre las mism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formas básic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centralizado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componente es responsable de inciar y controlar la ejecución de las demás componentes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control basado en eventos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componente puede reaccionar a eventos generados externam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034F-DD91-4392-8130-A3DA43B874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ntrol Centraliz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Una componente central dirige la acción de las demá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xisten dos ti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llamada-retorno: jerarquía de procedimientos que ejecutan secuencialment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modelo de administrador: el control central sincroniza la ejecución paralela de las demá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24F-8634-46E7-9831-10853BA8AFC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Llamada - Retorn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09880" y="1905120"/>
            <a:ext cx="15242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gra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incip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34290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34290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1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5029200"/>
            <a:ext cx="15242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2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029200"/>
            <a:ext cx="15238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Rutina 3.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88" idx="2"/>
            <a:endCxn id="189" idx="0"/>
          </p:cNvCxnSpPr>
          <p:nvPr/>
        </p:nvCxnSpPr>
        <p:spPr>
          <a:xfrm flipH="1">
            <a:off x="1980360" y="2666520"/>
            <a:ext cx="25916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2"/>
            <a:endCxn id="190" idx="0"/>
          </p:cNvCxnSpPr>
          <p:nvPr/>
        </p:nvCxnSpPr>
        <p:spPr>
          <a:xfrm>
            <a:off x="4571640" y="2666520"/>
            <a:ext cx="108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2"/>
            <a:endCxn id="191" idx="0"/>
          </p:cNvCxnSpPr>
          <p:nvPr/>
        </p:nvCxnSpPr>
        <p:spPr>
          <a:xfrm>
            <a:off x="4572000" y="2666520"/>
            <a:ext cx="2667240" cy="76284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2"/>
            <a:endCxn id="192" idx="0"/>
          </p:cNvCxnSpPr>
          <p:nvPr/>
        </p:nvCxnSpPr>
        <p:spPr>
          <a:xfrm flipH="1">
            <a:off x="106632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9" idx="2"/>
            <a:endCxn id="193" idx="0"/>
          </p:cNvCxnSpPr>
          <p:nvPr/>
        </p:nvCxnSpPr>
        <p:spPr>
          <a:xfrm>
            <a:off x="1980720" y="4191120"/>
            <a:ext cx="76284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0" idx="2"/>
            <a:endCxn id="194" idx="0"/>
          </p:cNvCxnSpPr>
          <p:nvPr/>
        </p:nvCxnSpPr>
        <p:spPr>
          <a:xfrm>
            <a:off x="4571640" y="4191120"/>
            <a:ext cx="1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91" idx="2"/>
            <a:endCxn id="195" idx="0"/>
          </p:cNvCxnSpPr>
          <p:nvPr/>
        </p:nvCxnSpPr>
        <p:spPr>
          <a:xfrm flipH="1">
            <a:off x="6476760" y="4191120"/>
            <a:ext cx="7624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2"/>
            <a:endCxn id="196" idx="0"/>
          </p:cNvCxnSpPr>
          <p:nvPr/>
        </p:nvCxnSpPr>
        <p:spPr>
          <a:xfrm>
            <a:off x="7238880" y="4191120"/>
            <a:ext cx="91512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E9B8-880D-4809-9EA8-F4D12909C1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dministrador de Control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32004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ontrol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l Sistem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38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Sens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1676520"/>
            <a:ext cx="175284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8288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198108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Actuant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4952880"/>
            <a:ext cx="175284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5105520"/>
            <a:ext cx="1752480" cy="76176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Proceso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Cálcul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de Error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657600" y="5029200"/>
            <a:ext cx="1752480" cy="76212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  <a:effectLst>
            <a:outerShdw dist="107932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faz c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el Usuari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9" idx="2"/>
            <a:endCxn id="206" idx="1"/>
          </p:cNvCxnSpPr>
          <p:nvPr/>
        </p:nvCxnSpPr>
        <p:spPr>
          <a:xfrm>
            <a:off x="2705040" y="2743200"/>
            <a:ext cx="9532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"/>
          <p:cNvCxnSpPr>
            <a:stCxn id="212" idx="2"/>
            <a:endCxn id="206" idx="3"/>
          </p:cNvCxnSpPr>
          <p:nvPr/>
        </p:nvCxnSpPr>
        <p:spPr>
          <a:xfrm flipH="1">
            <a:off x="5409360" y="2743200"/>
            <a:ext cx="1639080" cy="8388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9" name=""/>
          <p:cNvCxnSpPr>
            <a:stCxn id="206" idx="2"/>
            <a:endCxn id="216" idx="0"/>
          </p:cNvCxnSpPr>
          <p:nvPr/>
        </p:nvCxnSpPr>
        <p:spPr>
          <a:xfrm>
            <a:off x="4533480" y="3962160"/>
            <a:ext cx="1080" cy="1067400"/>
          </a:xfrm>
          <a:prstGeom prst="straightConnector1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 flipV="1">
            <a:off x="2819520" y="3962160"/>
            <a:ext cx="1066680" cy="114300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257800" y="3962160"/>
            <a:ext cx="1295280" cy="10666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B53F-AFC3-4E74-B7CB-5CACC5F384F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 rigidez del esquema hace que sea sencillo analizar el sistema y predecir su funcionamient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acceso a datos compartidos hace que cambios en la estructura de los datos requiera ajustes en todas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0F6-AF35-423B-B768-624356ED1D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Sistemas Centrados en Ev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610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ventos son sucesos externos que desencadenan a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Las componentes no tienen control sobre estos even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jempl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planillas electrónicas que se modifican al haber un camb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sistemas de reglas de producción (IA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Dos tipos de sistem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broadcast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interrupcion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A3A0-ECA5-4D08-B199-1073813A1F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Broadcas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registra su interés en ciertos tipos de eventos con los cuales podrá reacciona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ada subsistema también genera eventos que son diseminados a todos los demás subsistem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Aquellos subsistemas que reaccionen con los eventos realizarán la acción correspondiente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fácil integrar nuev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66720" y="4267080"/>
            <a:ext cx="4876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seguir el flujo de ejecu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l manejador puede informar de los eventos sólo a las componentes interesadas para evitar tantos mensaj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3276720"/>
            <a:ext cx="426708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Manejador de Eventos y Mensaj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1500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168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2057400"/>
            <a:ext cx="914400" cy="380880"/>
          </a:xfrm>
          <a:prstGeom prst="flowChartAlternateProcess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Comp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7220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23888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05920" y="2438280"/>
            <a:ext cx="0" cy="8384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16C-E4C5-4469-9C2B-624FD1C93B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Arquitectura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5000" indent="0"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0" lang="es-CR" sz="2800" spc="-1" strike="noStrike">
                <a:solidFill>
                  <a:srgbClr val="000066"/>
                </a:solidFill>
                <a:latin typeface="Tahoma"/>
              </a:rPr>
              <a:t>arquitectur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de un </a:t>
            </a:r>
            <a:r>
              <a:rPr b="0" lang="es-UY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 computacional es la estructura de ese </a:t>
            </a:r>
            <a:r>
              <a:rPr b="0" lang="es-MX" sz="2800" spc="-1" strike="noStrike">
                <a:solidFill>
                  <a:srgbClr val="000066"/>
                </a:solidFill>
                <a:latin typeface="Tahoma"/>
              </a:rPr>
              <a:t>sistema</a:t>
            </a:r>
            <a:r>
              <a:rPr b="0" lang="en-GB" sz="2800" spc="-1" strike="noStrike">
                <a:solidFill>
                  <a:srgbClr val="000066"/>
                </a:solidFill>
                <a:latin typeface="Tahoma"/>
              </a:rPr>
              <a:t>, y comprende la definición de las componentes del software, sus propiedades externamente visibles, y las relaciones entre las mismas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74B-FBAB-4381-A3A6-5E9BEE8136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Interrupc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Se usan en sistemas de tiempo real “hard”, donde se requiere una acción inmediata a ciert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Cuando ocurre una interrupción particular,  un switch de hardware invoca al manejador de la interrup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54100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1992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29400" y="3048120"/>
            <a:ext cx="60948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048120"/>
            <a:ext cx="60984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endCxn id="241" idx="0"/>
          </p:cNvCxnSpPr>
          <p:nvPr/>
        </p:nvCxnSpPr>
        <p:spPr>
          <a:xfrm>
            <a:off x="57146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6" name=""/>
          <p:cNvCxnSpPr/>
          <p:nvPr/>
        </p:nvCxnSpPr>
        <p:spPr>
          <a:xfrm>
            <a:off x="632412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7" name=""/>
          <p:cNvCxnSpPr/>
          <p:nvPr/>
        </p:nvCxnSpPr>
        <p:spPr>
          <a:xfrm>
            <a:off x="693396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>
            <a:off x="7543440" y="2057400"/>
            <a:ext cx="108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5788080" y="16146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9560" y="2362320"/>
            <a:ext cx="1503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Vector d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imes New Roman"/>
              </a:rPr>
              <a:t>Interrupcion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stCxn id="251" idx="2"/>
            <a:endCxn id="252" idx="0"/>
          </p:cNvCxnSpPr>
          <p:nvPr/>
        </p:nvCxnSpPr>
        <p:spPr>
          <a:xfrm>
            <a:off x="495252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91320" y="4419720"/>
            <a:ext cx="76176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91320" y="5334120"/>
            <a:ext cx="76176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54" idx="2"/>
            <a:endCxn id="255" idx="0"/>
          </p:cNvCxnSpPr>
          <p:nvPr/>
        </p:nvCxnSpPr>
        <p:spPr>
          <a:xfrm>
            <a:off x="617184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7" idx="2"/>
            <a:endCxn id="258" idx="0"/>
          </p:cNvCxnSpPr>
          <p:nvPr/>
        </p:nvCxnSpPr>
        <p:spPr>
          <a:xfrm>
            <a:off x="7391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8153280" y="4419720"/>
            <a:ext cx="7621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Manejado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153280" y="5334120"/>
            <a:ext cx="762120" cy="3808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Proceso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60" idx="2"/>
            <a:endCxn id="261" idx="0"/>
          </p:cNvCxnSpPr>
          <p:nvPr/>
        </p:nvCxnSpPr>
        <p:spPr>
          <a:xfrm>
            <a:off x="8534160" y="4876920"/>
            <a:ext cx="1080" cy="45792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1" idx="2"/>
            <a:endCxn id="251" idx="0"/>
          </p:cNvCxnSpPr>
          <p:nvPr/>
        </p:nvCxnSpPr>
        <p:spPr>
          <a:xfrm flipH="1">
            <a:off x="4952160" y="3429000"/>
            <a:ext cx="7628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2" idx="2"/>
            <a:endCxn id="254" idx="0"/>
          </p:cNvCxnSpPr>
          <p:nvPr/>
        </p:nvCxnSpPr>
        <p:spPr>
          <a:xfrm flipH="1">
            <a:off x="6171480" y="3429000"/>
            <a:ext cx="15300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3" idx="2"/>
            <a:endCxn id="257" idx="0"/>
          </p:cNvCxnSpPr>
          <p:nvPr/>
        </p:nvCxnSpPr>
        <p:spPr>
          <a:xfrm>
            <a:off x="6934320" y="3429000"/>
            <a:ext cx="45792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44" idx="2"/>
            <a:endCxn id="260" idx="0"/>
          </p:cNvCxnSpPr>
          <p:nvPr/>
        </p:nvCxnSpPr>
        <p:spPr>
          <a:xfrm>
            <a:off x="7543800" y="3429000"/>
            <a:ext cx="991440" cy="99144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E228-D7D8-4996-AEA9-26D6E3D237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Ventajas y Desventaj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implementar una respuesta muy rápida a algunos evento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Desventaj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s difícil de programar y aún más difícil validar su corrección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existe una limitación en el número de interrupciones que pueden manejars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428-1D17-49DC-B8D9-760E4E41708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Arquitectura de Software es: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 diseño de alto nivel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 estructura del siste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Las componentes de un programa o sistema, sus relaciones, y principios que gobiernan su diseño y su evolución e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 y conector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150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ponentes, conectores, configuración y restriccion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4191120" y="5487840"/>
            <a:ext cx="912600" cy="379440"/>
          </a:xfrm>
          <a:custGeom>
            <a:avLst/>
            <a:gdLst/>
            <a:ahLst/>
            <a:rect l="l" t="t" r="r" b="b"/>
            <a:pathLst>
              <a:path w="2541" h="1059">
                <a:moveTo>
                  <a:pt x="0" y="265"/>
                </a:moveTo>
                <a:lnTo>
                  <a:pt x="1905" y="265"/>
                </a:lnTo>
                <a:lnTo>
                  <a:pt x="1905" y="0"/>
                </a:lnTo>
                <a:lnTo>
                  <a:pt x="2540" y="529"/>
                </a:lnTo>
                <a:lnTo>
                  <a:pt x="1905" y="1058"/>
                </a:lnTo>
                <a:lnTo>
                  <a:pt x="1905" y="794"/>
                </a:lnTo>
                <a:lnTo>
                  <a:pt x="0" y="794"/>
                </a:lnTo>
                <a:lnTo>
                  <a:pt x="318" y="529"/>
                </a:lnTo>
                <a:lnTo>
                  <a:pt x="0" y="265"/>
                </a:lnTo>
              </a:path>
            </a:pathLst>
          </a:custGeom>
          <a:solidFill>
            <a:srgbClr val="cc0099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81480" y="5452920"/>
            <a:ext cx="3503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85000"/>
              </a:lnSpc>
              <a:spcBef>
                <a:spcPts val="488"/>
              </a:spcBef>
              <a:tabLst>
                <a:tab algn="l" pos="0"/>
                <a:tab algn="l" pos="863640"/>
                <a:tab algn="l" pos="1728720"/>
                <a:tab algn="l" pos="259236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</a:rPr>
              <a:t>No hay una definición únic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422-C5DF-4434-B3EA-67A78EFC05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99"/>
                </a:solidFill>
                <a:latin typeface="Tahoma"/>
              </a:rPr>
              <a:t>Importa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comunicación entre las personas involucrad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documentación temprana de las decisiones de diseñ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restricción de la implement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la arquitectura dicta la estructura organizacional,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facilita o inhibe propie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ermite predecir cualidades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facilita la administración de la evolu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una abstracción transferible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las líneas de productos comparten arquitectur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pueden usarse COT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1250"/>
              </a:spcAft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66"/>
                </a:solidFill>
                <a:latin typeface="Tahoma"/>
              </a:rPr>
              <a:t>base para el entrenamiento de nuevo personal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C241-4B99-46E7-A270-D56569CCA7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6000"/>
            <a:ext cx="9144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cc0099"/>
                </a:solidFill>
                <a:latin typeface="Tahoma"/>
              </a:rPr>
              <a:t>Distribución del Costo del Software</a:t>
            </a:r>
            <a:endParaRPr b="0" lang="en-US" sz="4200" spc="-1" strike="noStrike">
              <a:solidFill>
                <a:srgbClr val="cc0099"/>
              </a:solidFill>
              <a:latin typeface="Tahoma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3880" y="1523880"/>
          <a:ext cx="6613560" cy="488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66135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667800" y="377496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560" y="15238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2880" y="300672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61640" y="50706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Te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69DC-F17D-4423-828E-A683E98B6C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Costos de Mantenimiento del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360" y="1447920"/>
            <a:ext cx="6340320" cy="4845240"/>
            <a:chOff x="-360" y="1447920"/>
            <a:chExt cx="6340320" cy="4845240"/>
          </a:xfrm>
        </p:grpSpPr>
        <p:graphicFrame>
          <p:nvGraphicFramePr>
            <p:cNvPr id="72" name=""/>
            <p:cNvGraphicFramePr/>
            <p:nvPr/>
          </p:nvGraphicFramePr>
          <p:xfrm>
            <a:off x="229320" y="1716840"/>
            <a:ext cx="6110640" cy="454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9320" y="1716840"/>
                      <a:ext cx="6110640" cy="454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4720680" y="2090520"/>
              <a:ext cx="1314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Test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puració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363200" y="5517720"/>
              <a:ext cx="1482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Implement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5589360"/>
              <a:ext cx="102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Rastre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lógica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360" y="3804120"/>
              <a:ext cx="102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efini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cambi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400" y="223308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n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15400" y="1447920"/>
              <a:ext cx="141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Actualiza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66"/>
                  </a:solidFill>
                  <a:latin typeface="Times New Roman"/>
                </a:rPr>
                <a:t>documento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38680" y="2895120"/>
            <a:ext cx="33530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Tahoma"/>
              </a:rPr>
              <a:t>Más del 50% del tiempo del programador encargado de mantenimiento está dedicado a comprender el código y la documentación del sistema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504C-0250-4B6F-BBA5-8DED4A6A9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Diseño de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Sistemas de software grandes pueden (deben?) descomponerse en sub-sistemas más pequeñ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proceso de diseño que identifica estos sub-sistemas y establece la infraestructura para su control y la comunicación es el </a:t>
            </a:r>
            <a:r>
              <a:rPr b="1" lang="es-MX" sz="2400" spc="-1" strike="noStrike">
                <a:solidFill>
                  <a:srgbClr val="000066"/>
                </a:solidFill>
                <a:latin typeface="Tahoma"/>
              </a:rPr>
              <a:t>diseño de la arquitectura del software</a:t>
            </a: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78E-D4E5-4C64-A3E5-553AD14BD4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99"/>
                </a:solidFill>
                <a:latin typeface="Tahoma"/>
              </a:rPr>
              <a:t>Paralelismo con la Arquitectur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ahoma"/>
              </a:rPr>
              <a:t>El rol del arquitec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s el interlocutor entre el cliente y el contratista responsable de construir el edificio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un mal diseño de arquitectura no puede rescatarse con una buena construcción; una mala arquitectura de software no puede enmendarse con una buena implement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especialistas en ciertos tipos de construcciones, así como existen diseñadores de arquitecturas de softwa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66"/>
                </a:solidFill>
                <a:latin typeface="Tahoma"/>
              </a:rPr>
              <a:t>existen distintos estilos de arquitecturas urbanas, así como distintos patrones de arquitecturas de softwar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81720" y="1295280"/>
            <a:ext cx="1785960" cy="221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5E6-212C-4689-AD7B-F1152F3552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0-08-30T18:25:31Z</cp:lastPrinted>
  <dcterms:modified xsi:type="dcterms:W3CDTF">2004-10-08T16:51:11Z</dcterms:modified>
  <cp:revision>92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