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2F4-61C8-4D7D-BA7E-E4A8BEFF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007C-D564-493E-AE32-B0735BDC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7D5-04F6-4D1C-AFCD-A05C0418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735-0351-4B64-868E-A5A6244E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8A3-492F-46E1-880D-166DC53C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99A-C77B-4DFF-B306-8A2F0A17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E28-4CBB-4A3E-BA30-ED7C01E5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57C7-B690-4AF0-9835-3D16AF34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117-53E6-4501-8003-63624779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87B-7C36-4227-94B1-EFEE760C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59E-A410-4B79-9DE9-120F12BC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EB2-B2F3-4309-ADF9-4CFCB834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DBE6-09D7-481F-9D83-B385C9A5507E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Arquitectura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iferencias con la Arquitectur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os edificio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on tangible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ólo pequeños cambi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a estética es importante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 estilo de arquitectur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arquitect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contratado por el cliente para diseñar y supervisar la construcción del edifici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52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software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intangible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uede modificarse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a estructura es esencial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ezcla de patr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arquitecto de softwar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un empleado de la empresa desarrolladora del softwar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D8E-8AF3-44C9-B721-1379874AC7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ceso de Diseñ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2057400"/>
            <a:ext cx="3810240" cy="8380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Estructura de Sub Sistema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3505320"/>
            <a:ext cx="3810240" cy="8380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Modelamiento del Contro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4952880"/>
            <a:ext cx="3810240" cy="8384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Descomposición de Módul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90" idx="2"/>
            <a:endCxn id="91" idx="0"/>
          </p:cNvCxnSpPr>
          <p:nvPr/>
        </p:nvCxnSpPr>
        <p:spPr>
          <a:xfrm>
            <a:off x="4571640" y="2895480"/>
            <a:ext cx="1080" cy="610560"/>
          </a:xfrm>
          <a:prstGeom prst="straightConnector1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1" idx="2"/>
            <a:endCxn id="92" idx="0"/>
          </p:cNvCxnSpPr>
          <p:nvPr/>
        </p:nvCxnSpPr>
        <p:spPr>
          <a:xfrm>
            <a:off x="4571640" y="4343040"/>
            <a:ext cx="1080" cy="610200"/>
          </a:xfrm>
          <a:prstGeom prst="straightConnector1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E927-3A2E-4A15-A582-3258B49B68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Sub Sistemas y Módul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 sub sistem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un sistema independiente que no requiere servicios de otro sub sistema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tá compuesto por módulos que interactúan entre sí y con módulos de otros sub sistem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 módul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una componente de un sistema que provee servicios a otros módulo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hace uso de servicios de otros módulo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no son sistemas independiente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ueden tener sub componentes más simpl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1CF1-D4CA-4A6E-B51A-43E429E672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structura del Sistem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primera actividad del diseño de la arquitectura de un sistema de software es definir un conjunto de sub sistemas que componen el sistema comple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primera aproximación es un diagrama de cajas y flechas don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s cajas son sub sistem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s flechas son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lujos de dat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lujos de contro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96F-2498-46C5-843C-9DA2FF1FF5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76680" y="5331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cc0099"/>
                </a:solidFill>
                <a:latin typeface="Tahoma"/>
              </a:rPr>
              <a:t>Estructura de un Robot de Empaque</a:t>
            </a:r>
            <a:endParaRPr b="0" lang="en-US" sz="42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495680" y="1828800"/>
            <a:ext cx="4419360" cy="3886200"/>
            <a:chOff x="4495680" y="1828800"/>
            <a:chExt cx="4419360" cy="3886200"/>
          </a:xfrm>
        </p:grpSpPr>
        <p:sp>
          <p:nvSpPr>
            <p:cNvPr id="102" name=""/>
            <p:cNvSpPr/>
            <p:nvPr/>
          </p:nvSpPr>
          <p:spPr>
            <a:xfrm>
              <a:off x="5462640" y="3772080"/>
              <a:ext cx="1518840" cy="194292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5680" y="1828800"/>
              <a:ext cx="1173960" cy="624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Sistem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 Visió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800080"/>
              <a:ext cx="1173960" cy="624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Sistema 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Identificació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 Objeto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52760" y="2800080"/>
              <a:ext cx="1173960" cy="624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Controlado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l Braz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03200" y="2800080"/>
              <a:ext cx="1173960" cy="624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Controlado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 Agarr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00520" y="3910680"/>
              <a:ext cx="1173600" cy="624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Sistem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 Elecció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 Empaqu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00520" y="4881960"/>
              <a:ext cx="1173600" cy="624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Sistem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 Empaqu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72320" y="4881960"/>
              <a:ext cx="1173600" cy="624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Controlado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 Transpor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14880" y="2661480"/>
              <a:ext cx="2900160" cy="97128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3" idx="2"/>
              <a:endCxn id="104" idx="0"/>
            </p:cNvCxnSpPr>
            <p:nvPr/>
          </p:nvCxnSpPr>
          <p:spPr>
            <a:xfrm>
              <a:off x="5082480" y="2452680"/>
              <a:ext cx="1080" cy="34740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04" idx="2"/>
              <a:endCxn id="102" idx="1"/>
            </p:cNvCxnSpPr>
            <p:nvPr/>
          </p:nvCxnSpPr>
          <p:spPr>
            <a:xfrm flipH="1" rot="16200000">
              <a:off x="4613040" y="3893760"/>
              <a:ext cx="1319400" cy="3801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13" name=""/>
            <p:cNvCxnSpPr>
              <a:stCxn id="107" idx="2"/>
              <a:endCxn id="108" idx="0"/>
            </p:cNvCxnSpPr>
            <p:nvPr/>
          </p:nvCxnSpPr>
          <p:spPr>
            <a:xfrm>
              <a:off x="6186960" y="4534920"/>
              <a:ext cx="1080" cy="3474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4" name=""/>
            <p:cNvCxnSpPr>
              <a:stCxn id="103" idx="3"/>
              <a:endCxn id="110" idx="0"/>
            </p:cNvCxnSpPr>
            <p:nvPr/>
          </p:nvCxnSpPr>
          <p:spPr>
            <a:xfrm>
              <a:off x="5669280" y="2140560"/>
              <a:ext cx="1796040" cy="52092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>
              <a:stCxn id="108" idx="3"/>
              <a:endCxn id="110" idx="2"/>
            </p:cNvCxnSpPr>
            <p:nvPr/>
          </p:nvCxnSpPr>
          <p:spPr>
            <a:xfrm flipV="1">
              <a:off x="6774480" y="3632040"/>
              <a:ext cx="691200" cy="156204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16" name=""/>
            <p:cNvSpPr/>
            <p:nvPr/>
          </p:nvSpPr>
          <p:spPr>
            <a:xfrm>
              <a:off x="6774480" y="5298480"/>
              <a:ext cx="897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sistema 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tecta objetos en una cinta transportador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dentifica el tipo de objeto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lecciona el tipo de empaque apropiado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transporta los objetos al lugar de empaque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os objetos empacados se colocan en otra cinta transportador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047-C842-49F6-A583-6365BD1921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Sistema de Mapas del Tiemp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estaciones de tiempo recogen información y la transmiten para ser procesad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base de datos de mapas proporciona mapas básicos para agregar datos del tiemp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 mapa de tiempo puede desplegarse o imprimirs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datos del tiempo son usados para producir los mapas y también son archiv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A0F3-FE85-41F1-92C9-87CE489380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Sistema de Mapas del Tiemp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219320" y="1905120"/>
            <a:ext cx="6171840" cy="4038120"/>
            <a:chOff x="1219320" y="1905120"/>
            <a:chExt cx="6171840" cy="4038120"/>
          </a:xfrm>
        </p:grpSpPr>
        <p:sp>
          <p:nvSpPr>
            <p:cNvPr id="122" name=""/>
            <p:cNvSpPr/>
            <p:nvPr/>
          </p:nvSpPr>
          <p:spPr>
            <a:xfrm>
              <a:off x="3844080" y="402660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Procesado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e Datos de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Tiemp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44840" y="402660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Archivo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e Dato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14240" y="402660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Base de Dato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e Mapa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93040" y="532728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espliegu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e Mapa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95480" y="532728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Impresió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e Mapa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44080" y="306864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Sistema 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Telecomuni-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cacion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19320" y="190512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60800" y="204156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03000" y="217836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44840" y="231552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Estacion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e Tiemp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44080" y="197316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Receptor de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Satél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72400" y="197316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Recolecció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Manual 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ato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>
              <a:stCxn id="131" idx="2"/>
              <a:endCxn id="127" idx="1"/>
            </p:cNvCxnSpPr>
            <p:nvPr/>
          </p:nvCxnSpPr>
          <p:spPr>
            <a:xfrm flipH="1" rot="16200000">
              <a:off x="2840400" y="2373840"/>
              <a:ext cx="445680" cy="156132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33" idx="2"/>
              <a:endCxn id="127" idx="3"/>
            </p:cNvCxnSpPr>
            <p:nvPr/>
          </p:nvCxnSpPr>
          <p:spPr>
            <a:xfrm rot="5400000">
              <a:off x="5472000" y="2237760"/>
              <a:ext cx="788040" cy="149040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32" idx="2"/>
              <a:endCxn id="127" idx="0"/>
            </p:cNvCxnSpPr>
            <p:nvPr/>
          </p:nvCxnSpPr>
          <p:spPr>
            <a:xfrm>
              <a:off x="4482360" y="2588760"/>
              <a:ext cx="1080" cy="4798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7" idx="2"/>
              <a:endCxn id="122" idx="0"/>
            </p:cNvCxnSpPr>
            <p:nvPr/>
          </p:nvCxnSpPr>
          <p:spPr>
            <a:xfrm>
              <a:off x="4482360" y="3684600"/>
              <a:ext cx="1080" cy="3427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8" name=""/>
            <p:cNvCxnSpPr>
              <a:stCxn id="122" idx="1"/>
              <a:endCxn id="123" idx="3"/>
            </p:cNvCxnSpPr>
            <p:nvPr/>
          </p:nvCxnSpPr>
          <p:spPr>
            <a:xfrm flipH="1">
              <a:off x="2921400" y="4334400"/>
              <a:ext cx="923040" cy="1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24" idx="1"/>
              <a:endCxn id="122" idx="3"/>
            </p:cNvCxnSpPr>
            <p:nvPr/>
          </p:nvCxnSpPr>
          <p:spPr>
            <a:xfrm flipH="1">
              <a:off x="5121000" y="4334400"/>
              <a:ext cx="993600" cy="1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22" idx="2"/>
              <a:endCxn id="125" idx="0"/>
            </p:cNvCxnSpPr>
            <p:nvPr/>
          </p:nvCxnSpPr>
          <p:spPr>
            <a:xfrm rot="5400000">
              <a:off x="3714120" y="4559400"/>
              <a:ext cx="685080" cy="851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stCxn id="122" idx="2"/>
              <a:endCxn id="126" idx="0"/>
            </p:cNvCxnSpPr>
            <p:nvPr/>
          </p:nvCxnSpPr>
          <p:spPr>
            <a:xfrm flipH="1" rot="16200000">
              <a:off x="4565880" y="4559040"/>
              <a:ext cx="685080" cy="851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BC2-8625-4BA0-99E4-A5F5EB29B2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blemas a Considerar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¿Cuál es la diferencia entre las distintas flechas? ¿Qué significa cada una de ella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¿Qué datos se archivan? ¿Qué se hacen con los datos erróneos que pueden recibirse de las estaciones de tiemp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¿Cuántas estaciones de tiempo hay en el sistema? ¿Son todas iguales o tienen diferentes particularidade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6020280" y="53341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ormalida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5410080"/>
            <a:ext cx="1600200" cy="381240"/>
          </a:xfrm>
          <a:prstGeom prst="rightArrow">
            <a:avLst>
              <a:gd name="adj1" fmla="val 50000"/>
              <a:gd name="adj2" fmla="val 104934"/>
            </a:avLst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F190-C28E-4784-A39F-8B40696673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ntajas de los Formalismo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676520"/>
            <a:ext cx="5105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ejor comunicación entre el diseñador y el lecto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sibilidad de análisis de decisiones tempranas de diseñ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sibilidad de generar código a partir de la especificació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ayor probabilidad de mantener la especificación de la arquitectura actualizada con respecto a la evolución del sistem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486400" y="1371600"/>
            <a:ext cx="3428640" cy="4723920"/>
            <a:chOff x="5486400" y="1371600"/>
            <a:chExt cx="3428640" cy="4723920"/>
          </a:xfrm>
        </p:grpSpPr>
        <p:sp>
          <p:nvSpPr>
            <p:cNvPr id="149" name=""/>
            <p:cNvSpPr/>
            <p:nvPr/>
          </p:nvSpPr>
          <p:spPr>
            <a:xfrm>
              <a:off x="6024240" y="2552400"/>
              <a:ext cx="1276920" cy="833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38120" y="2552400"/>
              <a:ext cx="1276920" cy="833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24240" y="3803040"/>
              <a:ext cx="1276920" cy="833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31000" y="1371600"/>
              <a:ext cx="1276920" cy="833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5123160"/>
              <a:ext cx="1008360" cy="9723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98320" y="5123160"/>
              <a:ext cx="1008360" cy="9723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72400" y="3942000"/>
              <a:ext cx="1008360" cy="9723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56" name=""/>
            <p:cNvCxnSpPr>
              <a:stCxn id="152" idx="2"/>
              <a:endCxn id="149" idx="0"/>
            </p:cNvCxnSpPr>
            <p:nvPr/>
          </p:nvCxnSpPr>
          <p:spPr>
            <a:xfrm flipH="1">
              <a:off x="6662520" y="2205000"/>
              <a:ext cx="807480" cy="347760"/>
            </a:xfrm>
            <a:prstGeom prst="straightConnector1">
              <a:avLst/>
            </a:prstGeom>
            <a:ln w="19080">
              <a:solidFill>
                <a:srgbClr val="3366ff"/>
              </a:solidFill>
              <a:miter/>
            </a:ln>
          </p:spPr>
        </p:cxnSp>
        <p:cxnSp>
          <p:nvCxnSpPr>
            <p:cNvPr id="157" name=""/>
            <p:cNvCxnSpPr>
              <a:stCxn id="152" idx="2"/>
              <a:endCxn id="150" idx="0"/>
            </p:cNvCxnSpPr>
            <p:nvPr/>
          </p:nvCxnSpPr>
          <p:spPr>
            <a:xfrm>
              <a:off x="7469640" y="2205000"/>
              <a:ext cx="807480" cy="347760"/>
            </a:xfrm>
            <a:prstGeom prst="straightConnector1">
              <a:avLst/>
            </a:prstGeom>
            <a:ln w="19080">
              <a:solidFill>
                <a:srgbClr val="3366ff"/>
              </a:solidFill>
              <a:miter/>
            </a:ln>
          </p:spPr>
        </p:cxnSp>
        <p:cxnSp>
          <p:nvCxnSpPr>
            <p:cNvPr id="158" name=""/>
            <p:cNvCxnSpPr>
              <a:stCxn id="149" idx="2"/>
              <a:endCxn id="151" idx="0"/>
            </p:cNvCxnSpPr>
            <p:nvPr/>
          </p:nvCxnSpPr>
          <p:spPr>
            <a:xfrm>
              <a:off x="6662880" y="3385800"/>
              <a:ext cx="1080" cy="417240"/>
            </a:xfrm>
            <a:prstGeom prst="straightConnector1">
              <a:avLst/>
            </a:prstGeom>
            <a:ln w="19080">
              <a:solidFill>
                <a:srgbClr val="3366ff"/>
              </a:solidFill>
              <a:miter/>
            </a:ln>
          </p:spPr>
        </p:cxnSp>
        <p:cxnSp>
          <p:nvCxnSpPr>
            <p:cNvPr id="159" name=""/>
            <p:cNvCxnSpPr>
              <a:stCxn id="150" idx="2"/>
              <a:endCxn id="155" idx="0"/>
            </p:cNvCxnSpPr>
            <p:nvPr/>
          </p:nvCxnSpPr>
          <p:spPr>
            <a:xfrm>
              <a:off x="8276400" y="3386160"/>
              <a:ext cx="1080" cy="556560"/>
            </a:xfrm>
            <a:prstGeom prst="straightConnector1">
              <a:avLst/>
            </a:prstGeom>
            <a:ln w="19080">
              <a:solidFill>
                <a:srgbClr val="3366ff"/>
              </a:solidFill>
              <a:miter/>
            </a:ln>
          </p:spPr>
        </p:cxnSp>
        <p:cxnSp>
          <p:nvCxnSpPr>
            <p:cNvPr id="160" name=""/>
            <p:cNvCxnSpPr>
              <a:stCxn id="151" idx="2"/>
              <a:endCxn id="153" idx="0"/>
            </p:cNvCxnSpPr>
            <p:nvPr/>
          </p:nvCxnSpPr>
          <p:spPr>
            <a:xfrm flipH="1">
              <a:off x="5990040" y="4636440"/>
              <a:ext cx="672840" cy="487080"/>
            </a:xfrm>
            <a:prstGeom prst="straightConnector1">
              <a:avLst/>
            </a:prstGeom>
            <a:ln w="19080">
              <a:solidFill>
                <a:srgbClr val="3366ff"/>
              </a:solidFill>
              <a:miter/>
            </a:ln>
          </p:spPr>
        </p:cxnSp>
        <p:cxnSp>
          <p:nvCxnSpPr>
            <p:cNvPr id="161" name=""/>
            <p:cNvCxnSpPr>
              <a:stCxn id="151" idx="2"/>
              <a:endCxn id="154" idx="0"/>
            </p:cNvCxnSpPr>
            <p:nvPr/>
          </p:nvCxnSpPr>
          <p:spPr>
            <a:xfrm>
              <a:off x="6663240" y="4636440"/>
              <a:ext cx="740160" cy="487080"/>
            </a:xfrm>
            <a:prstGeom prst="straightConnector1">
              <a:avLst/>
            </a:prstGeom>
            <a:ln w="19080">
              <a:solidFill>
                <a:srgbClr val="3366ff"/>
              </a:solidFill>
              <a:miter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B01A-E8A5-45B6-AB8B-C0736F9494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62120" y="4572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Architecture Definition Languages: ADL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2209680"/>
            <a:ext cx="3962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olución tecnológica emergente para representar y analizar arquitecturas de softwar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si todos los ADLs están en etapa de investigación, y sólo unos pocos son productos comercial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812400" y="2590920"/>
            <a:ext cx="5037840" cy="2590200"/>
            <a:chOff x="3812400" y="2590920"/>
            <a:chExt cx="5037840" cy="2590200"/>
          </a:xfrm>
        </p:grpSpPr>
        <p:sp>
          <p:nvSpPr>
            <p:cNvPr id="165" name=""/>
            <p:cNvSpPr/>
            <p:nvPr/>
          </p:nvSpPr>
          <p:spPr>
            <a:xfrm>
              <a:off x="5181480" y="2819160"/>
              <a:ext cx="1676160" cy="1676160"/>
            </a:xfrm>
            <a:prstGeom prst="ellipse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00440" y="2590920"/>
              <a:ext cx="1676520" cy="167616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43240" y="3504960"/>
              <a:ext cx="1676520" cy="1676160"/>
            </a:xfrm>
            <a:prstGeom prst="ellipse">
              <a:avLst/>
            </a:prstGeom>
            <a:noFill/>
            <a:ln w="57240">
              <a:solidFill>
                <a:srgbClr val="ffe1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12400" y="3351600"/>
              <a:ext cx="232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66"/>
                  </a:solidFill>
                  <a:latin typeface="Times New Roman"/>
                </a:rPr>
                <a:t>REQUERIMIENTO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00600" y="304704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66"/>
                  </a:solidFill>
                  <a:latin typeface="Times New Roman"/>
                </a:rPr>
                <a:t>MODELO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67840" y="4494600"/>
              <a:ext cx="21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66"/>
                  </a:solidFill>
                  <a:latin typeface="Times New Roman"/>
                </a:rPr>
                <a:t>PROGRAMACIÓ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48160" y="3352680"/>
              <a:ext cx="914400" cy="83772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1880" y="350388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Times New Roman"/>
                </a:rPr>
                <a:t>ADL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310A-E80D-4CAB-BFD1-924D5F62DF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11280"/>
            <a:ext cx="83818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Arquitectura en el proceso de desarroll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876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clarar inten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Hacer explícitas las decis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mitir análisis a nivel de sistem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48520" y="2819520"/>
            <a:ext cx="2743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Reducir los costos de mantenimiento directa e indirectam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752480"/>
            <a:ext cx="12956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2438280"/>
            <a:ext cx="129528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Arquitectur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3124080"/>
            <a:ext cx="12952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Diseñ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Detallad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809880"/>
            <a:ext cx="12956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rogramació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4495680"/>
            <a:ext cx="12952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Tes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5181480"/>
            <a:ext cx="129528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Mantenimient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3123720"/>
            <a:ext cx="0" cy="1295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0120" y="3809880"/>
            <a:ext cx="0" cy="1295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1AF-38C0-44C7-89F2-C3C318D64E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piedades de un ADL idea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Composición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- describir un sistema como componentes y conectores independien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Abstracción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- describir las componentes y sus interacciones indicando clara y explícitamente su rol abstracto en 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Reutilización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- reutilizar componentes, conectores y patrones de arquitectura en distintos sistem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Configuración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- describir la estructura del sistema, independientemente de los detalles de los elementos que la componen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Heterogeneidad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- combinar descripciones de arquitecturas variadas y heterogéne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Análisis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- poder aplicar análisis a las descripciones de arquitectur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4E98-5453-4B85-A1D7-5766D9CC9D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stado del Arte en ADL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ntaxis y semántica forma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Notación gráfica y textu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ementos típicos de modelamiento de sistemas distribui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lgunas facilidades para registrar la motivación de las decisiones de diseñ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Flujo de datos y control como los principales mecanismos de conexión; pocos representan otros conector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Varios niveles de abstrac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Instanciación múltiple de elementos definidos una vez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EE2-16CC-4F89-85D8-98EE1697B6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0099"/>
                </a:solidFill>
                <a:latin typeface="Tahoma"/>
              </a:rPr>
              <a:t>Ejemplos de ADL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UniCon - componentes y conect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ahoma"/>
              </a:rPr>
              <a:t>Carnegie Melon University, 1995 †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Rapide - modelamiento de dinámica, especificaciones ejecutabl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ahoma"/>
              </a:rPr>
              <a:t>University of Stanford, 1995 †?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C2 - interfaces humano-computador y evolu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ahoma"/>
              </a:rPr>
              <a:t>University of California Irvine, 1995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Wright - conectores como elementos independientes (CSP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ahoma"/>
              </a:rPr>
              <a:t>Carnegie Melon University, 1997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Darwin - lenguaje de control de la configuración (</a:t>
            </a:r>
            <a:r>
              <a:rPr b="0" lang="es-AR" sz="20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-calculus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ahoma"/>
              </a:rPr>
              <a:t>Imperial College, London, 1995, †?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ACME - lenguaje de intercambio de descripción de arquitectur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ahoma"/>
              </a:rPr>
              <a:t>Carnegie Melon University, 1998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168-D88E-4057-89FC-C7579E88A0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Modelamiento del Conto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modelos de Control organizan las componentes de acuerdo con el flujo de control entre las mis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dos formas básic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ntrol centralizado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a componente es responsable de inciar y controlar la ejecución de las demás componente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ntrol basado en eventos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da componente puede reaccionar a eventos generados externam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ACF5-4120-46B2-AC61-D142BFB056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ontrol Centraliza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componente central dirige la acción de las demá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dos tip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modelo de llamada-retorno: jerarquía de procedimientos que ejecutan secuencialment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modelo de administrador: el control central sincroniza la ejecución paralela de las demás component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F43-9D7A-431F-AE17-24CEB9C174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Llamada - Retorn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1905120"/>
            <a:ext cx="1524240" cy="76176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rogra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rincip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3429000"/>
            <a:ext cx="15238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3429000"/>
            <a:ext cx="152424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3429000"/>
            <a:ext cx="15238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5029200"/>
            <a:ext cx="15238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1.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5029200"/>
            <a:ext cx="152424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1.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5029200"/>
            <a:ext cx="152424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2.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5029200"/>
            <a:ext cx="15238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3.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91520" y="5029200"/>
            <a:ext cx="15238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3.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88" idx="2"/>
            <a:endCxn id="189" idx="0"/>
          </p:cNvCxnSpPr>
          <p:nvPr/>
        </p:nvCxnSpPr>
        <p:spPr>
          <a:xfrm flipH="1">
            <a:off x="1980360" y="2666520"/>
            <a:ext cx="259164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88" idx="2"/>
            <a:endCxn id="190" idx="0"/>
          </p:cNvCxnSpPr>
          <p:nvPr/>
        </p:nvCxnSpPr>
        <p:spPr>
          <a:xfrm>
            <a:off x="4571640" y="266652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8" idx="2"/>
            <a:endCxn id="191" idx="0"/>
          </p:cNvCxnSpPr>
          <p:nvPr/>
        </p:nvCxnSpPr>
        <p:spPr>
          <a:xfrm>
            <a:off x="4572000" y="2666520"/>
            <a:ext cx="266724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89" idx="2"/>
            <a:endCxn id="192" idx="0"/>
          </p:cNvCxnSpPr>
          <p:nvPr/>
        </p:nvCxnSpPr>
        <p:spPr>
          <a:xfrm flipH="1">
            <a:off x="1066320" y="4191120"/>
            <a:ext cx="915120" cy="838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89" idx="2"/>
            <a:endCxn id="193" idx="0"/>
          </p:cNvCxnSpPr>
          <p:nvPr/>
        </p:nvCxnSpPr>
        <p:spPr>
          <a:xfrm>
            <a:off x="1980720" y="4191120"/>
            <a:ext cx="762840" cy="838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0" idx="2"/>
            <a:endCxn id="194" idx="0"/>
          </p:cNvCxnSpPr>
          <p:nvPr/>
        </p:nvCxnSpPr>
        <p:spPr>
          <a:xfrm>
            <a:off x="4571640" y="4191120"/>
            <a:ext cx="1080" cy="838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1" idx="2"/>
            <a:endCxn id="195" idx="0"/>
          </p:cNvCxnSpPr>
          <p:nvPr/>
        </p:nvCxnSpPr>
        <p:spPr>
          <a:xfrm flipH="1">
            <a:off x="6476760" y="4191120"/>
            <a:ext cx="762480" cy="838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1" idx="2"/>
            <a:endCxn id="196" idx="0"/>
          </p:cNvCxnSpPr>
          <p:nvPr/>
        </p:nvCxnSpPr>
        <p:spPr>
          <a:xfrm>
            <a:off x="7238880" y="4191120"/>
            <a:ext cx="915120" cy="838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38A9-23BA-4FE5-BBA7-E04932D033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Administrador de Contro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657600" y="3200400"/>
            <a:ext cx="17524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Controlado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del Siste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1676520"/>
            <a:ext cx="1752840" cy="76176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1828800"/>
            <a:ext cx="17524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1981080"/>
            <a:ext cx="17524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roceso Senso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1676520"/>
            <a:ext cx="1752840" cy="76176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1828800"/>
            <a:ext cx="17524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1981080"/>
            <a:ext cx="17524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roces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Actua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4952880"/>
            <a:ext cx="175284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5105520"/>
            <a:ext cx="1752480" cy="76176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roceso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Cálcul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5029200"/>
            <a:ext cx="17524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Manejado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de Error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57600" y="5029200"/>
            <a:ext cx="17524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Interfaz c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el Usuar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09" idx="2"/>
            <a:endCxn id="206" idx="1"/>
          </p:cNvCxnSpPr>
          <p:nvPr/>
        </p:nvCxnSpPr>
        <p:spPr>
          <a:xfrm>
            <a:off x="2705040" y="2743200"/>
            <a:ext cx="953280" cy="838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"/>
          <p:cNvCxnSpPr>
            <a:stCxn id="212" idx="2"/>
            <a:endCxn id="206" idx="3"/>
          </p:cNvCxnSpPr>
          <p:nvPr/>
        </p:nvCxnSpPr>
        <p:spPr>
          <a:xfrm flipH="1">
            <a:off x="5409360" y="2743200"/>
            <a:ext cx="1639080" cy="838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9" name=""/>
          <p:cNvCxnSpPr>
            <a:stCxn id="206" idx="2"/>
            <a:endCxn id="216" idx="0"/>
          </p:cNvCxnSpPr>
          <p:nvPr/>
        </p:nvCxnSpPr>
        <p:spPr>
          <a:xfrm>
            <a:off x="4533480" y="3962160"/>
            <a:ext cx="1080" cy="10674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 flipV="1">
            <a:off x="2819520" y="3962160"/>
            <a:ext cx="1066680" cy="114300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257800" y="3962160"/>
            <a:ext cx="1295280" cy="106668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663-00E4-41BB-BB3C-92CF3EC383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ntajas y Desventaj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Ventaj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a rigidez del esquema hace que sea sencillo analizar el sistema y predecir su funcionamien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ventaj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acceso a datos compartidos hace que cambios en la estructura de los datos requiera ajustes en todas las componen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EF3-8806-4DE4-B410-8D37450D70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Sistemas Centrados en Ev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ventos son sucesos externos que desencadenan accion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componentes no tienen control sobre estos even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lanillas electrónicas que se modifican al haber un cambio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istemas de reglas de producción (IA)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os tipos de sistem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broadcast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interrupcion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CEB6-BFB2-4816-B6F5-FCD5542395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Broadcas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da subsistema registra su interés en ciertos tipos de eventos con los cuales podrá reaccion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da subsistema también genera eventos que son diseminados a todos los demás subsistem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quellos subsistemas que reaccionen con los eventos realizarán la acción correspondiente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fácil integrar nuevas componen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66720" y="4267080"/>
            <a:ext cx="48769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difícil seguir el flujo de ejecu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manejador puede informar de los eventos sólo a las componentes interesadas para evitar tantos mensaj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3276720"/>
            <a:ext cx="426708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Manejador de Eventos y Mensaj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2057400"/>
            <a:ext cx="914400" cy="38088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Comp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15000" y="2057400"/>
            <a:ext cx="914400" cy="38088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Comp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81680" y="2057400"/>
            <a:ext cx="914400" cy="38088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Comp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8720" y="2057400"/>
            <a:ext cx="914400" cy="38088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Comp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2438280"/>
            <a:ext cx="0" cy="83844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2438280"/>
            <a:ext cx="0" cy="83844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38880" y="2438280"/>
            <a:ext cx="0" cy="83844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05920" y="2438280"/>
            <a:ext cx="0" cy="83844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9666-26F9-492D-B967-0915C3E8626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Arquitectura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6553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500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0" lang="es-CR" sz="2800" spc="-1" strike="noStrike">
                <a:solidFill>
                  <a:srgbClr val="000066"/>
                </a:solidFill>
                <a:latin typeface="Tahoma"/>
              </a:rPr>
              <a:t>arquitectura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de un </a:t>
            </a:r>
            <a:r>
              <a:rPr b="0" lang="es-UY" sz="2800" spc="-1" strike="noStrike">
                <a:solidFill>
                  <a:srgbClr val="000066"/>
                </a:solidFill>
                <a:latin typeface="Tahoma"/>
              </a:rPr>
              <a:t>sistema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computacional es la estructura de ese </a:t>
            </a: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sistema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, y comprende la definición de las componentes del software, sus propiedades externamente visibles, y las relaciones entre las mismas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A0D-8A71-4109-9F0E-9021A74982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Interrup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 usan en sistemas de tiempo real “hard”, donde se requiere una acción inmediata a ciertos even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ando ocurre una interrupción particular,  un switch de hardware invoca al manejador de la interrup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3048120"/>
            <a:ext cx="60984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19920" y="3048120"/>
            <a:ext cx="6094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3048120"/>
            <a:ext cx="6094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38880" y="3048120"/>
            <a:ext cx="60984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endCxn id="241" idx="0"/>
          </p:cNvCxnSpPr>
          <p:nvPr/>
        </p:nvCxnSpPr>
        <p:spPr>
          <a:xfrm>
            <a:off x="5714640" y="2057400"/>
            <a:ext cx="108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46" name=""/>
          <p:cNvCxnSpPr/>
          <p:nvPr/>
        </p:nvCxnSpPr>
        <p:spPr>
          <a:xfrm>
            <a:off x="6324120" y="2057400"/>
            <a:ext cx="108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47" name=""/>
          <p:cNvCxnSpPr/>
          <p:nvPr/>
        </p:nvCxnSpPr>
        <p:spPr>
          <a:xfrm>
            <a:off x="6933960" y="2057400"/>
            <a:ext cx="108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48" name=""/>
          <p:cNvCxnSpPr/>
          <p:nvPr/>
        </p:nvCxnSpPr>
        <p:spPr>
          <a:xfrm>
            <a:off x="7543440" y="2057400"/>
            <a:ext cx="108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5788080" y="161460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Interrupcion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39560" y="2362320"/>
            <a:ext cx="1503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Vector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Interrupcion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4419720"/>
            <a:ext cx="762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Manejado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5334120"/>
            <a:ext cx="762120" cy="3808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Proces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1" idx="2"/>
            <a:endCxn id="252" idx="0"/>
          </p:cNvCxnSpPr>
          <p:nvPr/>
        </p:nvCxnSpPr>
        <p:spPr>
          <a:xfrm>
            <a:off x="4952520" y="4876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5791320" y="4419720"/>
            <a:ext cx="76176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Manejado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5334120"/>
            <a:ext cx="761760" cy="3808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Proces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54" idx="2"/>
            <a:endCxn id="255" idx="0"/>
          </p:cNvCxnSpPr>
          <p:nvPr/>
        </p:nvCxnSpPr>
        <p:spPr>
          <a:xfrm>
            <a:off x="6171840" y="4876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010280" y="4419720"/>
            <a:ext cx="762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Manejado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10280" y="5334120"/>
            <a:ext cx="762120" cy="3808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Proces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7" idx="2"/>
            <a:endCxn id="258" idx="0"/>
          </p:cNvCxnSpPr>
          <p:nvPr/>
        </p:nvCxnSpPr>
        <p:spPr>
          <a:xfrm>
            <a:off x="7391160" y="4876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8153280" y="4419720"/>
            <a:ext cx="762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Manejado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153280" y="5334120"/>
            <a:ext cx="762120" cy="3808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Proces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0" idx="2"/>
            <a:endCxn id="261" idx="0"/>
          </p:cNvCxnSpPr>
          <p:nvPr/>
        </p:nvCxnSpPr>
        <p:spPr>
          <a:xfrm>
            <a:off x="8534160" y="4876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41" idx="2"/>
            <a:endCxn id="251" idx="0"/>
          </p:cNvCxnSpPr>
          <p:nvPr/>
        </p:nvCxnSpPr>
        <p:spPr>
          <a:xfrm flipH="1">
            <a:off x="4952160" y="3429000"/>
            <a:ext cx="76284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42" idx="2"/>
            <a:endCxn id="254" idx="0"/>
          </p:cNvCxnSpPr>
          <p:nvPr/>
        </p:nvCxnSpPr>
        <p:spPr>
          <a:xfrm flipH="1">
            <a:off x="6171480" y="3429000"/>
            <a:ext cx="15300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43" idx="2"/>
            <a:endCxn id="257" idx="0"/>
          </p:cNvCxnSpPr>
          <p:nvPr/>
        </p:nvCxnSpPr>
        <p:spPr>
          <a:xfrm>
            <a:off x="6934320" y="3429000"/>
            <a:ext cx="45792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44" idx="2"/>
            <a:endCxn id="260" idx="0"/>
          </p:cNvCxnSpPr>
          <p:nvPr/>
        </p:nvCxnSpPr>
        <p:spPr>
          <a:xfrm>
            <a:off x="7543800" y="3429000"/>
            <a:ext cx="99144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1AC3-EDB7-4EFC-A394-B49BF852B7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ntajas y Desventaj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Ventaj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mite implementar una respuesta muy rápida a algunos even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ventaj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difícil de programar y aún más difícil validar su corrección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xiste una limitación en el número de interrupciones que pueden manejars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6E2A-333E-42D6-8EEC-B4CAE4EE54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99"/>
                </a:solidFill>
                <a:latin typeface="Tahoma"/>
              </a:rPr>
              <a:t>Arquitectura de Software es: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Un diseño de alto nive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La estructura del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Las componentes de un programa o sistema, sus relaciones, y principios que gobiernan su diseño y su evolución en el tiemp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omponentes y conector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omponentes, conectores, configuración y restriccion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5487840"/>
            <a:ext cx="912600" cy="379440"/>
          </a:xfrm>
          <a:custGeom>
            <a:avLst/>
            <a:gdLst/>
            <a:ahLst/>
            <a:rect l="l" t="t" r="r" b="b"/>
            <a:pathLst>
              <a:path w="2541" h="1059">
                <a:moveTo>
                  <a:pt x="0" y="265"/>
                </a:moveTo>
                <a:lnTo>
                  <a:pt x="1905" y="265"/>
                </a:lnTo>
                <a:lnTo>
                  <a:pt x="1905" y="0"/>
                </a:lnTo>
                <a:lnTo>
                  <a:pt x="2540" y="529"/>
                </a:lnTo>
                <a:lnTo>
                  <a:pt x="1905" y="1058"/>
                </a:lnTo>
                <a:lnTo>
                  <a:pt x="1905" y="794"/>
                </a:lnTo>
                <a:lnTo>
                  <a:pt x="0" y="794"/>
                </a:lnTo>
                <a:lnTo>
                  <a:pt x="318" y="529"/>
                </a:lnTo>
                <a:lnTo>
                  <a:pt x="0" y="265"/>
                </a:lnTo>
              </a:path>
            </a:pathLst>
          </a:custGeom>
          <a:solidFill>
            <a:srgbClr val="cc0099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5452920"/>
            <a:ext cx="3503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85000"/>
              </a:lnSpc>
              <a:spcBef>
                <a:spcPts val="488"/>
              </a:spcBef>
              <a:tabLst>
                <a:tab algn="l" pos="0"/>
                <a:tab algn="l" pos="863640"/>
                <a:tab algn="l" pos="1728720"/>
                <a:tab algn="l" pos="259236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No hay una definición únic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6EE-6C26-4BAC-BF2B-902589D03D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99"/>
                </a:solidFill>
                <a:latin typeface="Tahoma"/>
              </a:rPr>
              <a:t>Importa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comunicación entre las personas involucrada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documentación temprana de las decisiones de diseño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restricción de la implementación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la arquitectura dicta la estructura organizacional,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facilita o inhibe propiedades del sistem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mite predecir cualidades del sistem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cilita la administración de la evolución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a abstracción transferible del sistem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as líneas de productos comparten arquitectur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ueden usarse COT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base para el entrenamiento de nuevo persona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F126-8453-4CA6-BF0D-F762094DCF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6000"/>
            <a:ext cx="9144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cc0099"/>
                </a:solidFill>
                <a:latin typeface="Tahoma"/>
              </a:rPr>
              <a:t>Distribución del Costo del Software</a:t>
            </a:r>
            <a:endParaRPr b="0" lang="en-US" sz="4200" spc="-1" strike="noStrike">
              <a:solidFill>
                <a:srgbClr val="cc0099"/>
              </a:solidFill>
              <a:latin typeface="Tahom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523880"/>
          <a:ext cx="6613560" cy="488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523880"/>
                    <a:ext cx="661356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667800" y="377496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Mantenimien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560" y="15238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Diseñ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32880" y="300672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Program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61640" y="50706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AA9-9FD6-4015-8EE8-ABD905454B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ostos de Mantenimiento del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-360" y="1447920"/>
            <a:ext cx="6340320" cy="4845240"/>
            <a:chOff x="-360" y="1447920"/>
            <a:chExt cx="6340320" cy="4845240"/>
          </a:xfrm>
        </p:grpSpPr>
        <p:graphicFrame>
          <p:nvGraphicFramePr>
            <p:cNvPr id="72" name=""/>
            <p:cNvGraphicFramePr/>
            <p:nvPr/>
          </p:nvGraphicFramePr>
          <p:xfrm>
            <a:off x="229320" y="1716840"/>
            <a:ext cx="6110640" cy="454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9320" y="1716840"/>
                      <a:ext cx="6110640" cy="454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4720680" y="2090520"/>
              <a:ext cx="1314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Test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depuración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63200" y="5517720"/>
              <a:ext cx="148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Implementar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cambio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4280" y="5589360"/>
              <a:ext cx="102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Rastrear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lógic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-360" y="3804120"/>
              <a:ext cx="10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Definir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cambio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0400" y="2233080"/>
              <a:ext cx="141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Analizar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documento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15400" y="1447920"/>
              <a:ext cx="141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Actualizar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documento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38680" y="2895120"/>
            <a:ext cx="33530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Más del 50% del tiempo del programador encargado de mantenimiento está dedicado a comprender el código y la documentación del sistema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B94-6059-4D99-90E8-19541C756D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iseño de Arquitectur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stemas de software grandes pueden (deben?) descomponerse en sub-sistemas más pequeñ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 proceso de diseño que identifica estos sub-sistemas y establece la infraestructura para su control y la comunicación es el </a:t>
            </a:r>
            <a:r>
              <a:rPr b="1" lang="es-MX" sz="2400" spc="-1" strike="noStrike">
                <a:solidFill>
                  <a:srgbClr val="000066"/>
                </a:solidFill>
                <a:latin typeface="Tahoma"/>
              </a:rPr>
              <a:t>diseño de la arquitectura del software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EF86-8CF9-46D1-844F-435316E913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aralelismo con la Arquitectur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96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 rol del arquitect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s el interlocutor entre el cliente y el contratista responsable de construir el edificio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mal diseño de arquitectura no puede rescatarse con una buena construcción; una mala arquitectura de software no puede enmendarse con una buena implementación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xisten especialistas en ciertos tipos de construcciones, así como existen diseñadores de arquitecturas de softwar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xisten distintos estilos de arquitecturas urbanas, así como distintos patrones de arquitecturas de software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281720" y="1295280"/>
            <a:ext cx="1785960" cy="221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4F3-62DB-40B0-B7D1-501A15D180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adminsochoa</cp:lastModifiedBy>
  <cp:lastPrinted>2000-08-30T18:25:31Z</cp:lastPrinted>
  <dcterms:modified xsi:type="dcterms:W3CDTF">2004-10-08T16:51:11Z</dcterms:modified>
  <cp:revision>92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