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2EA-1E5F-4BE8-BCA3-CB8193D7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FA1-83EB-45C7-B586-47B7332F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C5A-0B59-4AB9-BDB7-DD086457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119-CF03-42C2-A2CA-5E355D88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A6D-F594-481B-98C0-51204355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563-29F8-4FBA-98C6-22E44BC1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EE1-CF4C-455F-B4F8-7D971164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148-8D33-42D2-A618-4AFF2D14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998-5344-4BB4-B60C-11551672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9DA-F71C-4AD4-8234-19D50195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B63-53B3-44B6-9F5D-1AE492CE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D3F-48C8-4442-BEF4-AD11AB37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1F2A-B595-43D8-AEBF-C83E2D3BD53C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quitectur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erencias con la Arquitectu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edifici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n tangibl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ólo pequeños cambi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 estética es important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estilo de arquitectur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arquitect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contratado por el cliente para diseñar y supervisar la construcción del edific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oftware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intangibl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uede modificars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 estructura es esencial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ezcla de patr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arquitecto de softwar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un empleado de la empresa desarrolladora del softwar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341-912F-4B87-92D3-FCFA51F315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 de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2057400"/>
            <a:ext cx="3810240" cy="8380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Estructura de Sub Sistema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810240" cy="8380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Modelamiento del Contr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4952880"/>
            <a:ext cx="3810240" cy="8384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Descomposición de Módul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90" idx="2"/>
            <a:endCxn id="91" idx="0"/>
          </p:cNvCxnSpPr>
          <p:nvPr/>
        </p:nvCxnSpPr>
        <p:spPr>
          <a:xfrm>
            <a:off x="4571640" y="2895480"/>
            <a:ext cx="1080" cy="61056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1" idx="2"/>
            <a:endCxn id="92" idx="0"/>
          </p:cNvCxnSpPr>
          <p:nvPr/>
        </p:nvCxnSpPr>
        <p:spPr>
          <a:xfrm>
            <a:off x="4571640" y="4343040"/>
            <a:ext cx="1080" cy="6102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5B6-AF61-49E3-98FC-034C515FF4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ub Sistemas y Módul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sub sistem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un sistema independiente que no requiere servicios de otro sub sistem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tá compuesto por módulos que interactúan entre sí y con módulos de otros sub 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módul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una componente de un sistema que provee servicios a otros módulo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hace uso de servicios de otros módulo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o son sistemas independiente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ueden tener sub componentes más simp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7A4-DA1D-4AE1-8401-130066BB4D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tructura del Sistem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imera actividad del diseño de la arquitectura de un sistema de software es definir un conjunto de sub sistemas que componen el sistema comple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primera aproximación es un diagrama de cajas y flechas don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cajas son sub sistem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flechas son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lujos de dat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lujos de contro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F38-8CDF-4F88-A963-137AEFDF77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76680" y="5331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cc0099"/>
                </a:solidFill>
                <a:latin typeface="Tahoma"/>
              </a:rPr>
              <a:t>Estructura de un Robot de Empaque</a:t>
            </a:r>
            <a:endParaRPr b="0" lang="en-US" sz="42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95680" y="1828800"/>
            <a:ext cx="4419360" cy="3886200"/>
            <a:chOff x="4495680" y="1828800"/>
            <a:chExt cx="4419360" cy="3886200"/>
          </a:xfrm>
        </p:grpSpPr>
        <p:sp>
          <p:nvSpPr>
            <p:cNvPr id="102" name=""/>
            <p:cNvSpPr/>
            <p:nvPr/>
          </p:nvSpPr>
          <p:spPr>
            <a:xfrm>
              <a:off x="5462640" y="3772080"/>
              <a:ext cx="1518840" cy="194292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182880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Vis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80008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 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Identificac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Obje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2760" y="280008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Control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l Braz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03200" y="280008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Control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Agarr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00520" y="3910680"/>
              <a:ext cx="117360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Elecc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Empaqu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00520" y="4881960"/>
              <a:ext cx="117360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Empaqu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72320" y="4881960"/>
              <a:ext cx="117360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Control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Transpor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4880" y="2661480"/>
              <a:ext cx="2900160" cy="97128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3" idx="2"/>
              <a:endCxn id="104" idx="0"/>
            </p:cNvCxnSpPr>
            <p:nvPr/>
          </p:nvCxnSpPr>
          <p:spPr>
            <a:xfrm>
              <a:off x="5082480" y="2452680"/>
              <a:ext cx="1080" cy="3474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2" idx="1"/>
            </p:cNvCxnSpPr>
            <p:nvPr/>
          </p:nvCxnSpPr>
          <p:spPr>
            <a:xfrm flipH="1" rot="16200000">
              <a:off x="4613040" y="3893760"/>
              <a:ext cx="1319400" cy="3801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>
              <a:stCxn id="107" idx="2"/>
              <a:endCxn id="108" idx="0"/>
            </p:cNvCxnSpPr>
            <p:nvPr/>
          </p:nvCxnSpPr>
          <p:spPr>
            <a:xfrm>
              <a:off x="6186960" y="4534920"/>
              <a:ext cx="1080" cy="347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4" name=""/>
            <p:cNvCxnSpPr>
              <a:stCxn id="103" idx="3"/>
              <a:endCxn id="110" idx="0"/>
            </p:cNvCxnSpPr>
            <p:nvPr/>
          </p:nvCxnSpPr>
          <p:spPr>
            <a:xfrm>
              <a:off x="5669280" y="2140560"/>
              <a:ext cx="1796040" cy="52092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08" idx="3"/>
              <a:endCxn id="110" idx="2"/>
            </p:cNvCxnSpPr>
            <p:nvPr/>
          </p:nvCxnSpPr>
          <p:spPr>
            <a:xfrm flipV="1">
              <a:off x="6774480" y="3632040"/>
              <a:ext cx="691200" cy="156204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6" name=""/>
            <p:cNvSpPr/>
            <p:nvPr/>
          </p:nvSpPr>
          <p:spPr>
            <a:xfrm>
              <a:off x="6774480" y="5298480"/>
              <a:ext cx="897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tecta objetos en una cinta transportador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dentifica el tipo de objet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lecciona el tipo de empaque apropiad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transporta los objetos al lugar de empaqu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objetos empacados se colocan en otra cinta transportado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308-40C9-4D67-A1A2-1F7A3C8640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istema de Mapas del Tiemp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estaciones de tiempo recogen información y la transmiten para ser proces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base de datos de mapas proporciona mapas básicos para agregar datos del tiemp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mapa de tiempo puede desplegarse o imprimirs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datos del tiempo son usados para producir los mapas y también son archiv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72FF-90C6-4031-988E-9F7171AE66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istema de Mapas del Tiemp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219320" y="1905120"/>
            <a:ext cx="6171840" cy="4038120"/>
            <a:chOff x="1219320" y="1905120"/>
            <a:chExt cx="6171840" cy="4038120"/>
          </a:xfrm>
        </p:grpSpPr>
        <p:sp>
          <p:nvSpPr>
            <p:cNvPr id="122" name=""/>
            <p:cNvSpPr/>
            <p:nvPr/>
          </p:nvSpPr>
          <p:spPr>
            <a:xfrm>
              <a:off x="3844080" y="402660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Proces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Datos de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Tiemp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44840" y="402660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Archiv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Da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4240" y="402660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Base de Da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Mapa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93040" y="532728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spliegu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Mapa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95480" y="532728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Impres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Mapa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44080" y="306864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Sistema 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Telecomuni-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cacion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19320" y="190512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0800" y="20415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03000" y="21783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44840" y="231552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Estacion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Tiemp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44080" y="19731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Receptor de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Satél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72400" y="19731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Recolecc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Manual 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a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1" idx="2"/>
              <a:endCxn id="127" idx="1"/>
            </p:cNvCxnSpPr>
            <p:nvPr/>
          </p:nvCxnSpPr>
          <p:spPr>
            <a:xfrm flipH="1" rot="16200000">
              <a:off x="2840400" y="2373840"/>
              <a:ext cx="445680" cy="156132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33" idx="2"/>
              <a:endCxn id="127" idx="3"/>
            </p:cNvCxnSpPr>
            <p:nvPr/>
          </p:nvCxnSpPr>
          <p:spPr>
            <a:xfrm rot="5400000">
              <a:off x="5472000" y="2237760"/>
              <a:ext cx="788040" cy="149040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32" idx="2"/>
              <a:endCxn id="127" idx="0"/>
            </p:cNvCxnSpPr>
            <p:nvPr/>
          </p:nvCxnSpPr>
          <p:spPr>
            <a:xfrm>
              <a:off x="4482360" y="2588760"/>
              <a:ext cx="1080" cy="4798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7" idx="2"/>
              <a:endCxn id="122" idx="0"/>
            </p:cNvCxnSpPr>
            <p:nvPr/>
          </p:nvCxnSpPr>
          <p:spPr>
            <a:xfrm>
              <a:off x="4482360" y="3684600"/>
              <a:ext cx="1080" cy="3427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8" name=""/>
            <p:cNvCxnSpPr>
              <a:stCxn id="122" idx="1"/>
              <a:endCxn id="123" idx="3"/>
            </p:cNvCxnSpPr>
            <p:nvPr/>
          </p:nvCxnSpPr>
          <p:spPr>
            <a:xfrm flipH="1">
              <a:off x="2921400" y="4334400"/>
              <a:ext cx="923040" cy="1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24" idx="1"/>
              <a:endCxn id="122" idx="3"/>
            </p:cNvCxnSpPr>
            <p:nvPr/>
          </p:nvCxnSpPr>
          <p:spPr>
            <a:xfrm flipH="1">
              <a:off x="5121000" y="4334400"/>
              <a:ext cx="993600" cy="1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22" idx="2"/>
              <a:endCxn id="125" idx="0"/>
            </p:cNvCxnSpPr>
            <p:nvPr/>
          </p:nvCxnSpPr>
          <p:spPr>
            <a:xfrm rot="5400000">
              <a:off x="3714120" y="4559400"/>
              <a:ext cx="685080" cy="851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22" idx="2"/>
              <a:endCxn id="126" idx="0"/>
            </p:cNvCxnSpPr>
            <p:nvPr/>
          </p:nvCxnSpPr>
          <p:spPr>
            <a:xfrm flipH="1" rot="16200000">
              <a:off x="4565880" y="4559040"/>
              <a:ext cx="685080" cy="851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F92-9EC6-4B44-8B51-29B00C7BDC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blemas a Considera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¿Cuál es la diferencia entre las distintas flechas? ¿Qué significa cada una de ella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¿Qué datos se archivan? ¿Qué se hacen con los datos erróneos que pueden recibirse de las estaciones de tiemp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¿Cuántas estaciones de tiempo hay en el sistema? ¿Son todas iguales o tienen diferentes particularidade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020280" y="53341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malid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5410080"/>
            <a:ext cx="1600200" cy="381240"/>
          </a:xfrm>
          <a:prstGeom prst="rightArrow">
            <a:avLst>
              <a:gd name="adj1" fmla="val 50000"/>
              <a:gd name="adj2" fmla="val 104934"/>
            </a:avLst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6C8-C845-4FF7-A5C4-EB655D7C9C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ntajas de los Formalismo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ejor comunicación entre el diseñador y el lecto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sibilidad de análisis de decisiones tempranas de diseñ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sibilidad de generar código a partir de la especific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ayor probabilidad de mantener la especificación de la arquitectura actualizada con respecto a la evolución del sistem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486400" y="1371600"/>
            <a:ext cx="3428640" cy="4723920"/>
            <a:chOff x="5486400" y="1371600"/>
            <a:chExt cx="3428640" cy="4723920"/>
          </a:xfrm>
        </p:grpSpPr>
        <p:sp>
          <p:nvSpPr>
            <p:cNvPr id="149" name=""/>
            <p:cNvSpPr/>
            <p:nvPr/>
          </p:nvSpPr>
          <p:spPr>
            <a:xfrm>
              <a:off x="6024240" y="255240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38120" y="255240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24240" y="380304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31000" y="137160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5123160"/>
              <a:ext cx="1008360" cy="972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98320" y="5123160"/>
              <a:ext cx="1008360" cy="972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72400" y="3942000"/>
              <a:ext cx="1008360" cy="972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2" idx="2"/>
              <a:endCxn id="149" idx="0"/>
            </p:cNvCxnSpPr>
            <p:nvPr/>
          </p:nvCxnSpPr>
          <p:spPr>
            <a:xfrm flipH="1">
              <a:off x="6662520" y="2205000"/>
              <a:ext cx="807480" cy="34776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57" name=""/>
            <p:cNvCxnSpPr>
              <a:stCxn id="152" idx="2"/>
              <a:endCxn id="150" idx="0"/>
            </p:cNvCxnSpPr>
            <p:nvPr/>
          </p:nvCxnSpPr>
          <p:spPr>
            <a:xfrm>
              <a:off x="7469640" y="2205000"/>
              <a:ext cx="807480" cy="34776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58" name=""/>
            <p:cNvCxnSpPr>
              <a:stCxn id="149" idx="2"/>
              <a:endCxn id="151" idx="0"/>
            </p:cNvCxnSpPr>
            <p:nvPr/>
          </p:nvCxnSpPr>
          <p:spPr>
            <a:xfrm>
              <a:off x="6662880" y="3385800"/>
              <a:ext cx="1080" cy="41724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59" name=""/>
            <p:cNvCxnSpPr>
              <a:stCxn id="150" idx="2"/>
              <a:endCxn id="155" idx="0"/>
            </p:cNvCxnSpPr>
            <p:nvPr/>
          </p:nvCxnSpPr>
          <p:spPr>
            <a:xfrm>
              <a:off x="8276400" y="3386160"/>
              <a:ext cx="1080" cy="55656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60" name=""/>
            <p:cNvCxnSpPr>
              <a:stCxn id="151" idx="2"/>
              <a:endCxn id="153" idx="0"/>
            </p:cNvCxnSpPr>
            <p:nvPr/>
          </p:nvCxnSpPr>
          <p:spPr>
            <a:xfrm flipH="1">
              <a:off x="5990040" y="4636440"/>
              <a:ext cx="672840" cy="48708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61" name=""/>
            <p:cNvCxnSpPr>
              <a:stCxn id="151" idx="2"/>
              <a:endCxn id="154" idx="0"/>
            </p:cNvCxnSpPr>
            <p:nvPr/>
          </p:nvCxnSpPr>
          <p:spPr>
            <a:xfrm>
              <a:off x="6663240" y="4636440"/>
              <a:ext cx="740160" cy="48708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0D3-C1D6-4807-9B04-6686B3B47F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4572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chitecture Definition Languages: AD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09680"/>
            <a:ext cx="3962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lución tecnológica emergente para representar y analizar arquitecturas de softwar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si todos los ADLs están en etapa de investigación, y sólo unos pocos son productos comercial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12400" y="2590920"/>
            <a:ext cx="5037840" cy="2590200"/>
            <a:chOff x="3812400" y="2590920"/>
            <a:chExt cx="5037840" cy="2590200"/>
          </a:xfrm>
        </p:grpSpPr>
        <p:sp>
          <p:nvSpPr>
            <p:cNvPr id="165" name=""/>
            <p:cNvSpPr/>
            <p:nvPr/>
          </p:nvSpPr>
          <p:spPr>
            <a:xfrm>
              <a:off x="5181480" y="2819160"/>
              <a:ext cx="1676160" cy="167616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440" y="2590920"/>
              <a:ext cx="1676520" cy="167616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240" y="3504960"/>
              <a:ext cx="1676520" cy="1676160"/>
            </a:xfrm>
            <a:prstGeom prst="ellipse">
              <a:avLst/>
            </a:prstGeom>
            <a:noFill/>
            <a:ln w="57240">
              <a:solidFill>
                <a:srgbClr val="ffe1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12400" y="3351600"/>
              <a:ext cx="23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66"/>
                  </a:solidFill>
                  <a:latin typeface="Times New Roman"/>
                </a:rPr>
                <a:t>REQUERIMIENT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00600" y="304704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66"/>
                  </a:solidFill>
                  <a:latin typeface="Times New Roman"/>
                </a:rPr>
                <a:t>MODEL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67840" y="4494600"/>
              <a:ext cx="21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66"/>
                  </a:solidFill>
                  <a:latin typeface="Times New Roman"/>
                </a:rPr>
                <a:t>PROGRAMACIÓ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48160" y="3352680"/>
              <a:ext cx="914400" cy="83772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1880" y="350388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Times New Roman"/>
                </a:rPr>
                <a:t>AD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806-00C1-4654-B6CD-8B4BFEC121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11280"/>
            <a:ext cx="83818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quitectura en el proceso de desarroll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876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clarar inten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Hacer explícitas las decis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mitir análisis a nivel de 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48520" y="28195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ducir los costos de mantenimiento directa e indirecta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752480"/>
            <a:ext cx="1295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438280"/>
            <a:ext cx="12952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Arquitectur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312408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etalla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809880"/>
            <a:ext cx="1295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449568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5181480"/>
            <a:ext cx="12952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123720"/>
            <a:ext cx="0" cy="1295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0120" y="3809880"/>
            <a:ext cx="0" cy="1295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BB7-D615-4692-8732-D529BF4905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piedades de un ADL idea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Composi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describir un sistema como componentes y conectores independi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Abstrac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describir las componentes y sus interacciones indicando clara y explícitamente su rol abstracto en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eutiliza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reutilizar componentes, conectores y patrones de arquitectura en distintos 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Configura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describir la estructura del sistema, independientemente de los detalles de los elementos que la componen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Heterogeneidad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combinar descripciones de arquitecturas variadas y heterogéne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Análisis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poder aplicar análisis a las descripciones de arquitectur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B5E-5841-43C8-AD57-BE27C5D73D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tado del Arte en ADL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ntaxis y semántica form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otación gráfica y textu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ementos típicos de modelamiento de sistemas distribui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as facilidades para registrar la motivación de las decisiones de diseñ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ujo de datos y control como los principales mecanismos de conexión; pocos representan otros conect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Varios niveles de abstra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nstanciación múltiple de elementos definidos una vez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A4F-3419-4636-AC49-F38EE43BC9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0099"/>
                </a:solidFill>
                <a:latin typeface="Tahoma"/>
              </a:rPr>
              <a:t>Ejemplos de ADL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UniCon - componentes y conec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Carnegie Melon University, 1995 †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Rapide - modelamiento de dinámica, especificaciones ejecutab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University of Stanford, 1995 †?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C2 - interfaces humano-computador y evolu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University of California Irvine, 1995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Wright - conectores como elementos independientes (CSP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Carnegie Melon University, 1997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Darwin - lenguaje de control de la configuración (</a:t>
            </a:r>
            <a:r>
              <a:rPr b="0" lang="es-AR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-calculu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Imperial College, London, 1995, †?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ACME - lenguaje de intercambio de descripción de arquitectur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Carnegie Melon University, 1998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30B-AD29-4D08-A2C7-5BAAF5A6F7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odelamiento del Cont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modelos de Control organizan las componentes de acuerdo con el flujo de control entre las mis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dos formas básic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ntrol centralizado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componente es responsable de inciar y controlar la ejecución de las demás componente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ntrol basado en evento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componente puede reaccionar a eventos generados externa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B05-72D4-4110-AD02-A1E14DEA2E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ontrol Centraliz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componente central dirige la acción de las demá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dos tip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odelo de llamada-retorno: jerarquía de procedimientos que ejecutan secuencialme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odelo de administrador: el control central sincroniza la ejecución paralela de las demás component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AE7-2BEC-4A50-85DD-2AE0CD7591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Llamada - Retorn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1905120"/>
            <a:ext cx="152424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incip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4290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3429000"/>
            <a:ext cx="15242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34290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0292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1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5029200"/>
            <a:ext cx="15242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1.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029200"/>
            <a:ext cx="15242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2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50292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3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50292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3.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88" idx="2"/>
            <a:endCxn id="189" idx="0"/>
          </p:cNvCxnSpPr>
          <p:nvPr/>
        </p:nvCxnSpPr>
        <p:spPr>
          <a:xfrm flipH="1">
            <a:off x="1980360" y="2666520"/>
            <a:ext cx="259164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8" idx="2"/>
            <a:endCxn id="190" idx="0"/>
          </p:cNvCxnSpPr>
          <p:nvPr/>
        </p:nvCxnSpPr>
        <p:spPr>
          <a:xfrm>
            <a:off x="4571640" y="266652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2"/>
            <a:endCxn id="191" idx="0"/>
          </p:cNvCxnSpPr>
          <p:nvPr/>
        </p:nvCxnSpPr>
        <p:spPr>
          <a:xfrm>
            <a:off x="4572000" y="2666520"/>
            <a:ext cx="266724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2"/>
            <a:endCxn id="192" idx="0"/>
          </p:cNvCxnSpPr>
          <p:nvPr/>
        </p:nvCxnSpPr>
        <p:spPr>
          <a:xfrm flipH="1">
            <a:off x="1066320" y="4191120"/>
            <a:ext cx="91512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9" idx="2"/>
            <a:endCxn id="193" idx="0"/>
          </p:cNvCxnSpPr>
          <p:nvPr/>
        </p:nvCxnSpPr>
        <p:spPr>
          <a:xfrm>
            <a:off x="1980720" y="4191120"/>
            <a:ext cx="76284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0" idx="2"/>
            <a:endCxn id="194" idx="0"/>
          </p:cNvCxnSpPr>
          <p:nvPr/>
        </p:nvCxnSpPr>
        <p:spPr>
          <a:xfrm>
            <a:off x="4571640" y="4191120"/>
            <a:ext cx="10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1" idx="2"/>
            <a:endCxn id="195" idx="0"/>
          </p:cNvCxnSpPr>
          <p:nvPr/>
        </p:nvCxnSpPr>
        <p:spPr>
          <a:xfrm flipH="1">
            <a:off x="6476760" y="4191120"/>
            <a:ext cx="7624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1" idx="2"/>
            <a:endCxn id="196" idx="0"/>
          </p:cNvCxnSpPr>
          <p:nvPr/>
        </p:nvCxnSpPr>
        <p:spPr>
          <a:xfrm>
            <a:off x="7238880" y="4191120"/>
            <a:ext cx="91512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903-680F-4D95-8B3A-7B4E04C329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dministrador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32004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Controlad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el 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1676520"/>
            <a:ext cx="175284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8288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198108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ceso Sens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1676520"/>
            <a:ext cx="175284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18288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98108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Actua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4952880"/>
            <a:ext cx="17528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5105520"/>
            <a:ext cx="175248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ceso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Cálcul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50292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e Err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50292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Interfaz c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el 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09" idx="2"/>
            <a:endCxn id="206" idx="1"/>
          </p:cNvCxnSpPr>
          <p:nvPr/>
        </p:nvCxnSpPr>
        <p:spPr>
          <a:xfrm>
            <a:off x="2705040" y="2743200"/>
            <a:ext cx="9532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"/>
          <p:cNvCxnSpPr>
            <a:stCxn id="212" idx="2"/>
            <a:endCxn id="206" idx="3"/>
          </p:cNvCxnSpPr>
          <p:nvPr/>
        </p:nvCxnSpPr>
        <p:spPr>
          <a:xfrm flipH="1">
            <a:off x="5409360" y="2743200"/>
            <a:ext cx="16390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"/>
          <p:cNvCxnSpPr>
            <a:stCxn id="206" idx="2"/>
            <a:endCxn id="216" idx="0"/>
          </p:cNvCxnSpPr>
          <p:nvPr/>
        </p:nvCxnSpPr>
        <p:spPr>
          <a:xfrm>
            <a:off x="4533480" y="3962160"/>
            <a:ext cx="1080" cy="10674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 flipV="1">
            <a:off x="2819520" y="3962160"/>
            <a:ext cx="1066680" cy="114300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257800" y="3962160"/>
            <a:ext cx="1295280" cy="106668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ABB-6EE0-479E-9C05-957312F92D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ntajas y Desventaj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 rigidez del esquema hace que sea sencillo analizar el sistema y predecir su funcionamien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acceso a datos compartidos hace que cambios en la estructura de los datos requiera ajustes en todas las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125-1EC3-4E0C-AF88-DAD2351749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istemas Centrados en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ventos son sucesos externos que desencadenan ac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componentes no tienen control sobre estos even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lanillas electrónicas que se modifican al haber un cambi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stemas de reglas de producción (IA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os tipos de sistem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broadcast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interrup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699-378C-4C8B-AB1C-26F3FFEC31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Broadcas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subsistema registra su interés en ciertos tipos de eventos con los cuales podrá reaccion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subsistema también genera eventos que son diseminados a todos los demás sub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quellos subsistemas que reaccionen con los eventos realizarán la acción correspondiente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fácil integrar nuevas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66720" y="4267080"/>
            <a:ext cx="4876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difícil seguir el flujo de ejecu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manejador puede informar de los eventos sólo a las componentes interesadas para evitar tantos mensaj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276720"/>
            <a:ext cx="426708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Manejador de Eventos y Mensaj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0592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42A-9EB2-42D7-848D-E126994DA4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quitectur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500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0" lang="es-CR" sz="2800" spc="-1" strike="noStrike">
                <a:solidFill>
                  <a:srgbClr val="000066"/>
                </a:solidFill>
                <a:latin typeface="Tahoma"/>
              </a:rPr>
              <a:t>arquitectura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de un </a:t>
            </a:r>
            <a:r>
              <a:rPr b="0" lang="es-UY" sz="2800" spc="-1" strike="noStrike">
                <a:solidFill>
                  <a:srgbClr val="000066"/>
                </a:solidFill>
                <a:latin typeface="Tahoma"/>
              </a:rPr>
              <a:t>sistema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computacional es la estructura de ese 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sistema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, y comprende la definición de las componentes del software, sus propiedades externamente visibles, y las relaciones entre las mismas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A56-5F43-4151-98F5-193BE2C562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Interrup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usan en sistemas de tiempo real “hard”, donde se requiere una acción inmediata a ciertos even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ando ocurre una interrupción particular,  un switch de hardware invoca al manejador de la interrup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3048120"/>
            <a:ext cx="6098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3048120"/>
            <a:ext cx="6094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3048120"/>
            <a:ext cx="6094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8880" y="3048120"/>
            <a:ext cx="6098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endCxn id="241" idx="0"/>
          </p:cNvCxnSpPr>
          <p:nvPr/>
        </p:nvCxnSpPr>
        <p:spPr>
          <a:xfrm>
            <a:off x="571464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6" name=""/>
          <p:cNvCxnSpPr/>
          <p:nvPr/>
        </p:nvCxnSpPr>
        <p:spPr>
          <a:xfrm>
            <a:off x="632412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7" name=""/>
          <p:cNvCxnSpPr/>
          <p:nvPr/>
        </p:nvCxnSpPr>
        <p:spPr>
          <a:xfrm>
            <a:off x="693396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8" name=""/>
          <p:cNvCxnSpPr/>
          <p:nvPr/>
        </p:nvCxnSpPr>
        <p:spPr>
          <a:xfrm>
            <a:off x="754344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5788080" y="161460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Interrupcion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9560" y="2362320"/>
            <a:ext cx="150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Vector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nterrupcion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44197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5334120"/>
            <a:ext cx="76212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1" idx="2"/>
            <a:endCxn id="252" idx="0"/>
          </p:cNvCxnSpPr>
          <p:nvPr/>
        </p:nvCxnSpPr>
        <p:spPr>
          <a:xfrm>
            <a:off x="495252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91320" y="4419720"/>
            <a:ext cx="7617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5334120"/>
            <a:ext cx="76176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4" idx="2"/>
            <a:endCxn id="255" idx="0"/>
          </p:cNvCxnSpPr>
          <p:nvPr/>
        </p:nvCxnSpPr>
        <p:spPr>
          <a:xfrm>
            <a:off x="617184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010280" y="44197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5334120"/>
            <a:ext cx="76212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2"/>
            <a:endCxn id="258" idx="0"/>
          </p:cNvCxnSpPr>
          <p:nvPr/>
        </p:nvCxnSpPr>
        <p:spPr>
          <a:xfrm>
            <a:off x="739116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8153280" y="44197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53280" y="5334120"/>
            <a:ext cx="76212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0" idx="2"/>
            <a:endCxn id="261" idx="0"/>
          </p:cNvCxnSpPr>
          <p:nvPr/>
        </p:nvCxnSpPr>
        <p:spPr>
          <a:xfrm>
            <a:off x="853416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1" idx="2"/>
            <a:endCxn id="251" idx="0"/>
          </p:cNvCxnSpPr>
          <p:nvPr/>
        </p:nvCxnSpPr>
        <p:spPr>
          <a:xfrm flipH="1">
            <a:off x="4952160" y="3429000"/>
            <a:ext cx="76284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42" idx="2"/>
            <a:endCxn id="254" idx="0"/>
          </p:cNvCxnSpPr>
          <p:nvPr/>
        </p:nvCxnSpPr>
        <p:spPr>
          <a:xfrm flipH="1">
            <a:off x="6171480" y="3429000"/>
            <a:ext cx="15300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43" idx="2"/>
            <a:endCxn id="257" idx="0"/>
          </p:cNvCxnSpPr>
          <p:nvPr/>
        </p:nvCxnSpPr>
        <p:spPr>
          <a:xfrm>
            <a:off x="6934320" y="3429000"/>
            <a:ext cx="45792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44" idx="2"/>
            <a:endCxn id="260" idx="0"/>
          </p:cNvCxnSpPr>
          <p:nvPr/>
        </p:nvCxnSpPr>
        <p:spPr>
          <a:xfrm>
            <a:off x="7543800" y="3429000"/>
            <a:ext cx="99144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4C8-DD8B-40DA-B524-BE83BD1257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ntajas y Desventaj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mite implementar una respuesta muy rápida a algunos even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difícil de programar y aún más difícil validar su corrección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iste una limitación en el número de interrupciones que pueden manejars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023-8A5C-4C36-BC83-EA27D2FB36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Tahoma"/>
              </a:rPr>
              <a:t>Arquitectura de Software es: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n diseño de alto nive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La estructura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Las componentes de un programa o sistema, sus relaciones, y principios que gobiernan su diseño y su evolución en el tiemp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mponentes y conect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mponentes, conectores, configuración y restric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5487840"/>
            <a:ext cx="912600" cy="379440"/>
          </a:xfrm>
          <a:custGeom>
            <a:avLst/>
            <a:gdLst/>
            <a:ahLst/>
            <a:rect l="l" t="t" r="r" b="b"/>
            <a:pathLst>
              <a:path w="2541" h="1059">
                <a:moveTo>
                  <a:pt x="0" y="265"/>
                </a:moveTo>
                <a:lnTo>
                  <a:pt x="1905" y="265"/>
                </a:lnTo>
                <a:lnTo>
                  <a:pt x="1905" y="0"/>
                </a:lnTo>
                <a:lnTo>
                  <a:pt x="2540" y="529"/>
                </a:lnTo>
                <a:lnTo>
                  <a:pt x="1905" y="1058"/>
                </a:lnTo>
                <a:lnTo>
                  <a:pt x="1905" y="794"/>
                </a:lnTo>
                <a:lnTo>
                  <a:pt x="0" y="794"/>
                </a:lnTo>
                <a:lnTo>
                  <a:pt x="318" y="529"/>
                </a:lnTo>
                <a:lnTo>
                  <a:pt x="0" y="265"/>
                </a:lnTo>
              </a:path>
            </a:pathLst>
          </a:custGeom>
          <a:solidFill>
            <a:srgbClr val="cc0099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5452920"/>
            <a:ext cx="3503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863640"/>
                <a:tab algn="l" pos="1728720"/>
                <a:tab algn="l" pos="259236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No hay una definición únic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F0B-9138-49BF-BE44-EB78873187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Tahoma"/>
              </a:rPr>
              <a:t>Importa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comunicación entre las personas involucrada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ocumentación temprana de las decisiones de diseñ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restricción de la implementació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a arquitectura dicta la estructura organizacional,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facilita o inhibe propiedades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mite predecir cualidades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cilita la administración de la evolució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abstracción transferible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s líneas de productos comparten arquitectur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ueden usarse COT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ase para el entrenamiento de nuevo person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25F-D40F-4CCD-BD0D-8E59FC3C69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6000"/>
            <a:ext cx="9144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cc0099"/>
                </a:solidFill>
                <a:latin typeface="Tahoma"/>
              </a:rPr>
              <a:t>Distribución del Costo del Software</a:t>
            </a:r>
            <a:endParaRPr b="0" lang="en-US" sz="42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523880"/>
          <a:ext cx="6613560" cy="48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66135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667800" y="377496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560" y="15238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2880" y="3006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1640" y="5070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D47-7AC2-4AC9-A16B-E660F89911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ostos de Mantenimiento del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360" y="1447920"/>
            <a:ext cx="6340320" cy="4845240"/>
            <a:chOff x="-360" y="1447920"/>
            <a:chExt cx="6340320" cy="4845240"/>
          </a:xfrm>
        </p:grpSpPr>
        <p:graphicFrame>
          <p:nvGraphicFramePr>
            <p:cNvPr id="72" name=""/>
            <p:cNvGraphicFramePr/>
            <p:nvPr/>
          </p:nvGraphicFramePr>
          <p:xfrm>
            <a:off x="229320" y="1716840"/>
            <a:ext cx="6110640" cy="454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9320" y="1716840"/>
                      <a:ext cx="6110640" cy="454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4720680" y="2090520"/>
              <a:ext cx="131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Test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epuració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63200" y="5517720"/>
              <a:ext cx="148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Implement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cambi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5589360"/>
              <a:ext cx="102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Rastre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lógic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360" y="3804120"/>
              <a:ext cx="10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efini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cambi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0400" y="2233080"/>
              <a:ext cx="141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Analiz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ocument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15400" y="1447920"/>
              <a:ext cx="141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Actualiz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ocument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38680" y="2895120"/>
            <a:ext cx="33530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Más del 50% del tiempo del programador encargado de mantenimiento está dedicado a comprender el código y la documentación del sistem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CD7-38A5-4AF3-B5A1-3108364D50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seño de Arquitectu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stemas de software grandes pueden (deben?) descomponerse en sub-sistemas más pequeñ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proceso de diseño que identifica estos sub-sistemas y establece la infraestructura para su control y la comunicación es el </a:t>
            </a: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diseño de la arquitectura del softwar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942-95C5-4B5E-9552-531C42F47F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aralelismo con la Arquitectu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rol del arquitect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el interlocutor entre el cliente y el contratista responsable de construir el edifici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mal diseño de arquitectura no puede rescatarse con una buena construcción; una mala arquitectura de software no puede enmendarse con una buena implementa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xisten especialistas en ciertos tipos de construcciones, así como existen diseñadores de arquitecturas de softwa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xisten distintos estilos de arquitecturas urbanas, así como distintos patrones de arquitecturas de softwar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81720" y="1295280"/>
            <a:ext cx="1785960" cy="22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519-A441-4043-8777-7BB0EF5FCF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adminsochoa</cp:lastModifiedBy>
  <cp:lastPrinted>2000-08-30T18:25:31Z</cp:lastPrinted>
  <dcterms:modified xsi:type="dcterms:W3CDTF">2004-10-08T16:51:11Z</dcterms:modified>
  <cp:revision>92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