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067-C5C1-4323-8A7A-D76A171D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EEA-34E5-402B-B11A-D2136E23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3D65-3460-499F-9C4D-1215432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1EB6-51BA-4504-B99A-0C861D45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A05E-3107-4E30-BC6F-FDD2F8FE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4CC4-8995-46ED-8A31-A17C1D72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85F0-ED1C-4BA7-9BAA-BEA096C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39F-922E-49AA-829A-AB7914A4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AE0-4E93-4204-97F5-62EFC1E9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A14-5831-41E1-B8E7-E018015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87B-948E-4823-87B5-B4A5C814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A53-101B-4501-A4FA-DEB6CDAA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1049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104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104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D401-D3DF-46CD-A191-966CC8BA26AD}" type="slidenum">
              <a:rPr b="0" lang="es-CL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esarrollo de Software Orientado a Obje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querimiento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ACII es una aplicación para PC que reemplaza los libros de recetas de cocin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sólo contiene recetas de cocina, sino que ayuda en la planificación de la comida por un cierto período (una seman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usuario puede interactuar con el ACII para planear los menúes de cada dí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sistema escala los menúes de la semana según el número de comensales e imprime una lista de ingredientes a compr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F8D3-D966-45E7-B4D2-6ABFF03090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dentificar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o de software complejo se inicia identificando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ponente es una entidad abstracta que puede desarrollar una tarea, o sea, asumir un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racterísticas de una componente (en el diseño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ener un conjunto pequeño y bien definido de responsabilidad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actuar mínimamente con otras component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AD1F-1C83-4192-BFAB-27752D4811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Tarjetas CRC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tarjetas CRC (Componente - Responsabilidad - Colaborador) son una técnica para organizar y registrar las responsabilidades de las component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tarjeta contien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ombre de la componente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sta de responsabilidad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otras componentes con las que interactú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4267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miembro del equipo de desarrollo tiene una o más tarjeta y está encargado de simular un escenario de ejecución, pasándole el control a otro objeto cuando correspond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257800" y="4114800"/>
            <a:ext cx="3024720" cy="1981080"/>
            <a:chOff x="5257800" y="4114800"/>
            <a:chExt cx="3024720" cy="1981080"/>
          </a:xfrm>
        </p:grpSpPr>
        <p:sp>
          <p:nvSpPr>
            <p:cNvPr id="91" name=""/>
            <p:cNvSpPr/>
            <p:nvPr/>
          </p:nvSpPr>
          <p:spPr>
            <a:xfrm>
              <a:off x="5257800" y="4114800"/>
              <a:ext cx="2895480" cy="1981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210440" y="4114800"/>
              <a:ext cx="0" cy="19810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61040" y="4183200"/>
              <a:ext cx="193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Nombre de la Component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259960" y="459252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Lista de Responsabilidad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47800" y="4183200"/>
              <a:ext cx="1134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66"/>
                  </a:solidFill>
                  <a:latin typeface="Arial Narrow"/>
                </a:rPr>
                <a:t>Colaboradore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57800" y="4572000"/>
              <a:ext cx="19810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C5E8-F1D1-49E3-BA6D-D0BB60C92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iclo “Qué - Quién”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ada actividad, tarea o funcionalidad identificada debe ser asignada a una componente como parte de sus responsabilidad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i una componente tiene muchas responsabilidades, es posiblemente mejor separarla en dos o más sub-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94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ocumento de diseño puede empezar a escribirse en este moment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ún el análisis se hace a nivel del sistema completo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decisiones de diseño están frescas en la mente de los desarrolladore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524-7DC5-4233-857B-926B3ADFE4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omponentes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Al comenzar la ejecución del ACII, se presentará una pantalla de Bienvenida con las siguientes opcion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correr las recetas existent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gregar una nueva receta a la base de dato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modificar una receta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rever un plan de comidas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actividades pueden clasificarse en dos grup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a base de datos de recet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acciones sobre los planes de comid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D47-E9B8-4C8A-B19E-99230D5467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ienvenid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13560" y="206856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8360" y="2900520"/>
            <a:ext cx="283824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mensaje inici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Ofrecer las opciones de acció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asar el control a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190440"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2133720"/>
            <a:ext cx="18288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39B4-0528-4758-BA08-6FCD7B4A95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Base de Datos de 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198108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92920" y="198108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28321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44880" y="206856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32120" y="2900520"/>
            <a:ext cx="23367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Recorrida de las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recetas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ncluir nuevas recet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1337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ienven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11F-D197-4A79-90B5-625E1BCA5F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 Cambio es Inevitabl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os cambios deben afectar el menor número posible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Concentrar los cambios probables en una o dos componente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nterfaces, formatos de comunicación y sal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las dependencias del hardware (portabilidad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inimizar el acoplamiento entr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ocumentar las razones de las decisiones de diseño como apoyo para futuros cambi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8E9C-5893-41D1-B61D-FBCDFAA1F6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osponer Decision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Hay que presentarle al usuario una lista de categorías de recetas a recorrer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Podrá el usuario dar palabras clave como una serie de ingredientes y buscar las recetas con esos ingrediente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¿Deben usarse barras de scroll o el cursor para moverse a través de la lista de recetas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as decisiones no son fundamentales porque afectan solamente la componente Bienvenida (anticipación del cambio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8A95-A541-4A4D-8F55-6424CF7315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Recet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ceta será también una componen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be contener una cierta informació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ngredientes necesari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asos a seguir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s actividades que debe realizar una receta son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splegar la receta en pantall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ermitir modificar ingredientes y/o paso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13160" indent="-27432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419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e es un modelo de formato para cada una de las recet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uando la Base de Datos ofrece incluir una nueva recet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crea una nueva componente de Receta en blanco;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asignan los valores de la información con los datos proporcionados por el usuari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Base de Datos da el inicio pero la componente Receta realiza las tarea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05A1-3762-45E8-9DC0-C1698BC594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¿Qué es Orientación a Objetos?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efinición de clases y herenci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asaje de mensaj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Métodos estáticos y virtual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er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un lenguaje orientado a objetos no es condición necesaria ni suficiente para hacer un programa orientado a objeto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BBF-1A54-48C3-8B72-AD36D81099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Recet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1828800"/>
            <a:ext cx="6175440" cy="4114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88000" y="1828800"/>
            <a:ext cx="0" cy="4114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67984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20160" y="19162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Recet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5880" y="2747880"/>
            <a:ext cx="2914200" cy="18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Desplegar la receta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ingredient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odificación de pasos a seguir,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Imprimir la recet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1981080"/>
            <a:ext cx="182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Base de Datos de Recet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 de Comida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A4D2-A2E1-42FF-8BCF-18967916378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Otra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Plan de Comidas permite (responsabilidad)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rear un nuevo plan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 y modificar un plan existente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un plan de comid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alcular la lista de compras necesarias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nuevo plan tiene una Fechas asociadas. Cada Fecha es también una component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nsultar la comida de una Fecha particular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 del dí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74B-C6CF-46D5-90E5-6997278E9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ás Component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Comida es la descripción de todas las Recetas a servirse en una determinada Fech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úmero de comensal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desplegar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ditar/modificar recetas de la Comida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imprimir la Comid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592-9C8F-48FA-BD63-61420FC622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Comunicación en ACII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1981080"/>
            <a:ext cx="1676520" cy="6098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34290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Planes d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4290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de 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Fech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800600"/>
            <a:ext cx="167616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800600"/>
            <a:ext cx="1676520" cy="60948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</a:rPr>
              <a:t>Recet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H="1">
            <a:off x="2285280" y="2590920"/>
            <a:ext cx="198180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1" name=""/>
          <p:cNvCxnSpPr>
            <a:stCxn id="134" idx="2"/>
            <a:endCxn id="136" idx="0"/>
          </p:cNvCxnSpPr>
          <p:nvPr/>
        </p:nvCxnSpPr>
        <p:spPr>
          <a:xfrm>
            <a:off x="4266720" y="2590920"/>
            <a:ext cx="1600920" cy="8388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2" name=""/>
          <p:cNvCxnSpPr>
            <a:stCxn id="135" idx="2"/>
            <a:endCxn id="137" idx="0"/>
          </p:cNvCxnSpPr>
          <p:nvPr/>
        </p:nvCxnSpPr>
        <p:spPr>
          <a:xfrm>
            <a:off x="2285640" y="4038120"/>
            <a:ext cx="108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3" name=""/>
          <p:cNvCxnSpPr>
            <a:stCxn id="136" idx="2"/>
            <a:endCxn id="138" idx="0"/>
          </p:cNvCxnSpPr>
          <p:nvPr/>
        </p:nvCxnSpPr>
        <p:spPr>
          <a:xfrm flipH="1">
            <a:off x="4799880" y="4038120"/>
            <a:ext cx="106740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4" name=""/>
          <p:cNvCxnSpPr>
            <a:stCxn id="136" idx="2"/>
            <a:endCxn id="139" idx="0"/>
          </p:cNvCxnSpPr>
          <p:nvPr/>
        </p:nvCxnSpPr>
        <p:spPr>
          <a:xfrm>
            <a:off x="5866920" y="4038120"/>
            <a:ext cx="1296360" cy="76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5" name=""/>
          <p:cNvCxnSpPr>
            <a:stCxn id="138" idx="3"/>
            <a:endCxn id="139" idx="1"/>
          </p:cNvCxnSpPr>
          <p:nvPr/>
        </p:nvCxnSpPr>
        <p:spPr>
          <a:xfrm>
            <a:off x="5638320" y="5105160"/>
            <a:ext cx="68652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146" name=""/>
          <p:cNvCxnSpPr>
            <a:stCxn id="137" idx="3"/>
            <a:endCxn id="138" idx="1"/>
          </p:cNvCxnSpPr>
          <p:nvPr/>
        </p:nvCxnSpPr>
        <p:spPr>
          <a:xfrm>
            <a:off x="3123720" y="5105160"/>
            <a:ext cx="839160" cy="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B11-4690-4B2E-9922-24A47BE36F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0099"/>
                </a:solidFill>
                <a:latin typeface="Tahoma"/>
              </a:rPr>
              <a:t>Diagrama de Interacción o Secuenci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52712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322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896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7040" y="2209680"/>
            <a:ext cx="0" cy="3733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41320" y="181296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ienven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2360" y="1812960"/>
            <a:ext cx="169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97440" y="181296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Receta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30840" y="1812960"/>
            <a:ext cx="213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Times New Roman"/>
              </a:rPr>
              <a:t>Planes de Comid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7120" y="2514600"/>
            <a:ext cx="17524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2240" y="3124080"/>
            <a:ext cx="19047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584520" y="3657600"/>
            <a:ext cx="19051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679040" y="4343400"/>
            <a:ext cx="175284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7120" y="4952880"/>
            <a:ext cx="586728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07040" y="2503440"/>
            <a:ext cx="17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09640" y="28195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37360" y="3352680"/>
            <a:ext cx="184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desplega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39800" y="4038480"/>
            <a:ext cx="16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Retorno recorrer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94320" y="4648320"/>
            <a:ext cx="187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66"/>
                </a:solidFill>
                <a:latin typeface="Tahoma"/>
              </a:rPr>
              <a:t>Mensaje hacerPlan(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74840" y="2362320"/>
            <a:ext cx="304560" cy="33526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9600" y="2438280"/>
            <a:ext cx="304920" cy="2057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7000" y="2971800"/>
            <a:ext cx="304920" cy="838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4400" y="4876920"/>
            <a:ext cx="304920" cy="91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2362320"/>
            <a:ext cx="304560" cy="3504960"/>
          </a:xfrm>
          <a:prstGeom prst="downArrow">
            <a:avLst>
              <a:gd name="adj1" fmla="val 40620"/>
              <a:gd name="adj2" fmla="val 198038"/>
            </a:avLst>
          </a:prstGeom>
          <a:gradFill rotWithShape="0">
            <a:gsLst>
              <a:gs pos="0">
                <a:srgbClr val="ffcc00"/>
              </a:gs>
              <a:gs pos="100000">
                <a:srgbClr val="a50021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-198720" y="362520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96E-006C-40F9-BCB2-1F7AAA5EB13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stado y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omportamient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el conjunto de acciones que puede realizar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conjunto de todas las acciones posibles de una componente se llama 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protocol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de la compon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00240" y="18288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es la información contenida dentro de ell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Estado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 de una componente no es estático sino que puede cambiar con el tiemp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57360" y="5486400"/>
            <a:ext cx="7877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380880">
              <a:lnSpc>
                <a:spcPct val="100000"/>
              </a:lnSpc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No es necesario que una componente mantenga variables de Estad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37D-B019-4B1B-905F-A0D5EF1793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stancias y Clas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xisten varias Recetas en la Base de Dato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robablemente tienen distintos ingredientes y distintos pasos a seguir (estado)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pero todas tendrán las mismas responsabilidades (comportamiento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Iniciando la especificación de un sistema, nos concentramos en el comportamiento común de las Receta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Clase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 es un conjunto de objetos con el mismo comportamien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Un individuo de una Clase es una </a:t>
            </a:r>
            <a:r>
              <a:rPr b="0" i="1" lang="es-ES_tradnl" sz="2400" spc="-1" strike="noStrike">
                <a:solidFill>
                  <a:srgbClr val="000066"/>
                </a:solidFill>
                <a:latin typeface="Tahoma"/>
              </a:rPr>
              <a:t>Instancia; </a:t>
            </a: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caracteriza su esta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6A2-077A-4383-A80C-F4BC8957DDA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finir el comportamiento de una componente permite que otro programador pued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usarl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in conocer su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to se llama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ocultamiento de la información (information hiding)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29040" indent="-3290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ecimos que la component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encapsula 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u comportamiento y muestra sólo los detalles necesarios para usar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nterfaz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lo que la componente puede hacer: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hacia otros programador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a </a:t>
            </a:r>
            <a:r>
              <a:rPr b="1" lang="es-ES_tradnl" sz="2000" spc="-1" strike="noStrike">
                <a:solidFill>
                  <a:srgbClr val="000066"/>
                </a:solidFill>
                <a:latin typeface="Tahoma"/>
              </a:rPr>
              <a:t>Implement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describe cómo la componente realiza sus tareas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s la cara de la componente que ve el programador trabajando en ell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347A-A630-4481-A085-65EF524E3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Interfaz e Implementación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 separación de la Interfaz y la Implementación es quizás uno de los principales principios de la Ingeniería de Software (separación de intereses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ocultamiento de la información es especialmente útil en desarrollos donde participan muchas personas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l factor crítico aquí es la comunica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05600" indent="-2714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componentes se desarrollan en forma independiente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5800" indent="-3258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 también muy importante para la reutilización de componente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51A-286C-487B-819D-35BDE30A2B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Principios de Parna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debe proveer al usuario de toda la información necesaria para hacer uso efectivo de sus servicios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-31896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l desarrollador de una componente de software será provisto de toda la información neceraria para llevar a cabo las responsabilidades que le son asignadas a la componente, y ninguna otra información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189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0840" indent="-265680">
              <a:spcBef>
                <a:spcPts val="825"/>
              </a:spcBef>
              <a:buClr>
                <a:srgbClr val="ff0000"/>
              </a:buClr>
              <a:buSzPct val="7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Varias implementaciones pueden probarse para la mism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41A-96F5-41F5-AFD0-0B22F43145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Diseño de Software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El diseño del software consiste en crear un </a:t>
            </a:r>
            <a:r>
              <a:rPr b="1" lang="es-UY" sz="2400" spc="-1" strike="noStrike">
                <a:solidFill>
                  <a:srgbClr val="000066"/>
                </a:solidFill>
                <a:latin typeface="Tahoma"/>
              </a:rPr>
              <a:t>modelo</a:t>
            </a: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 del software deseado de modo que satisfaga los requerimientos de buena form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1141560" y="3962520"/>
            <a:ext cx="27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10440" y="3962520"/>
            <a:ext cx="133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5334120"/>
            <a:ext cx="113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qué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440" y="533412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66"/>
                </a:solidFill>
                <a:latin typeface="Times New Roman"/>
              </a:rPr>
              <a:t>¿cómo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451800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591-12D8-4D99-929D-138512BC87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guiendo el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structura general del sistem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sin estado interno, pueden implementarse como una función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Componentes con estado y varias responsabilidades pueden implementarse como clase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ada responsabilidad será un método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Todos los datos necesarios deben identificarse: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arámetros de los métodos se identifican con su nombre y su orige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751"/>
              </a:spcBef>
              <a:buClr>
                <a:srgbClr val="33cc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datos internos se identifica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E810-A31D-4567-A40E-F1C136F001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lección de Nombr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Guías para elección de nombres [Keller, 1990]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nombres fácilmente pronunciabl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usar mayúsculas o guiones para unir palab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r cuidadoso con las abreviatura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nombres con diferentes interpretaciones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evitar los números como parte de un nombre;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698400" indent="-26856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las funciones o variables con valores lógicos, deben tener nombres que sugieran este tipo, e.g., estaLista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22200" indent="-32220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Reescribir las tarjetas CRC con los nombres seleccionados para cada variable y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9E9-65C5-4B22-A96B-C5EBD393D0B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CRC de Fech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1752480"/>
            <a:ext cx="6175440" cy="42674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64320" y="1752480"/>
            <a:ext cx="27000" cy="4267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600200" y="2603520"/>
            <a:ext cx="4164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91800" y="18399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Tahoma"/>
              </a:rPr>
              <a:t>Fech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671920"/>
            <a:ext cx="4191120" cy="32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Mantener información de un día específico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Fecha (año, mes, dia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crea una fech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DesplegarEditar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despliega la información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un día en una ventana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ermitiendo que el usuario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modifique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rearListaCompras ()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- agregar ingredientes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la comida a la lista de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pra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905120"/>
            <a:ext cx="182880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66"/>
                </a:solidFill>
                <a:latin typeface="Tahoma"/>
              </a:rPr>
              <a:t>Colaboradore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66"/>
                </a:solidFill>
                <a:latin typeface="Tahoma"/>
              </a:rPr>
              <a:t>Planes de Comid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D7F0-316B-4C0E-AC3B-FC334675388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Detallad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uego de detallar los nombres precisos de cada variable de estado y responsabilidad, cada componente puede desarrollarse separadamen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el diseño detallado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eligen las estructuras de datos internas,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se implementan los métodos definidos en la interfaz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959-45A2-4C71-A7E1-4B95BAF4199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Proceso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Principio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477120" y="2743200"/>
            <a:ext cx="1828800" cy="1752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66"/>
                </a:solidFill>
                <a:latin typeface="Times New Roman"/>
              </a:rPr>
              <a:t>Cualidad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3047760" cy="1676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DISEÑO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048120"/>
            <a:ext cx="533520" cy="1295280"/>
          </a:xfrm>
          <a:prstGeom prst="downArrow">
            <a:avLst>
              <a:gd name="adj1" fmla="val 50000"/>
              <a:gd name="adj2" fmla="val 60695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1295280"/>
            <a:ext cx="304776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66"/>
                </a:solidFill>
                <a:latin typeface="Times New Roman"/>
              </a:rPr>
              <a:t>Requerimiento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99880" y="3505320"/>
            <a:ext cx="1523880" cy="30456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496832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B73-B416-4A8B-8C90-61F4C156C8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cc0099"/>
                </a:solidFill>
                <a:latin typeface="Tahoma"/>
              </a:rPr>
              <a:t>Métodos Estructurados de Diseñ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5410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Estructurado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Yourd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Análisis Estructurado de Sistema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Gane &amp; Sarson, 1979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esarrollo de Sistemas Jackson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Jackson, 198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Diseño Orientado a Objeto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Robinson, 1992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Boock, 1994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90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ahoma"/>
              </a:rPr>
              <a:t>UML, 1997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8006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88440" y="3733920"/>
            <a:ext cx="3115800" cy="228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Más que métodos, s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notaciones y guías par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el diseño de softwar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creatividad y 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disciplina siguen siend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66"/>
                </a:solidFill>
                <a:latin typeface="Times New Roman"/>
              </a:rPr>
              <a:t>la esencia del diseño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BD5-211C-4917-8748-20A8F06569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Diseño por Responsabilida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Dar a alguien (algo) una responsabilidad implica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espera un cierto comportamiento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se le dará independencia para hacer su tare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principios de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delegación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y </a:t>
            </a:r>
            <a:r>
              <a:rPr b="0" i="1" lang="es-ES_tradnl" sz="2000" spc="-1" strike="noStrike">
                <a:solidFill>
                  <a:srgbClr val="000066"/>
                </a:solidFill>
                <a:latin typeface="Tahoma"/>
              </a:rPr>
              <a:t>no interferencia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son esenciales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ncapsulamiento y modularidad como un arte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Base para la reutilización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5592600" y="2081160"/>
            <a:ext cx="8924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238880" y="20811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138560"/>
            <a:ext cx="89064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83520" y="4138560"/>
            <a:ext cx="892080" cy="12034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5040" y="2549520"/>
            <a:ext cx="12333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47080" y="4138560"/>
            <a:ext cx="136440" cy="120348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29320" y="4606920"/>
            <a:ext cx="6858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47320" y="3363840"/>
            <a:ext cx="276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imperativ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84800" y="53942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</a:rPr>
              <a:t>Programación orientada a objeto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CED3-2BF8-4693-AF54-4BD2E9FEF3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Sistemas Chicos y Grandes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chico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código desarrollado por uno o unos pocos programadore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una persona entiende todas las facetas del sistema.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4340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76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Programación en grand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uchas personas participan en la programación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s especificadores, diseñadores y programadores pueden ser distintas personas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nadie abarca todo el conocimiento del sistema,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1" marL="735480" indent="-282960">
              <a:spcBef>
                <a:spcPts val="751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el manejo de la comunicación es un asunto importante y complejo.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5A3-48C0-4B58-B3F5-327CE5A54A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Modelar el Comportamiento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En general es más fácil comprender la funcionalidad del sistema antes que otros aspectos (datos, sincronización, etc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Diseño Dirigido por la Responsabilidad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96A6-48FF-4408-8C26-BEE2659A7A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0099"/>
                </a:solidFill>
                <a:latin typeface="Tahoma"/>
              </a:rPr>
              <a:t>Ejemplo: Ayudante de Cocina</a:t>
            </a:r>
            <a:endParaRPr b="0" lang="en-US" sz="4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Producto a desarrollar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825"/>
              </a:spcBef>
              <a:buClr>
                <a:srgbClr val="33cc33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A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yudante d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C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ocina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ractivo e </a:t>
            </a:r>
            <a:r>
              <a:rPr b="1" lang="es-ES_tradnl" sz="2200" spc="-1" strike="noStrike">
                <a:solidFill>
                  <a:srgbClr val="000066"/>
                </a:solidFill>
                <a:latin typeface="Tahoma"/>
              </a:rPr>
              <a:t>I</a:t>
            </a:r>
            <a:r>
              <a:rPr b="0" lang="es-ES_tradnl" sz="2200" spc="-1" strike="noStrike">
                <a:solidFill>
                  <a:srgbClr val="000066"/>
                </a:solidFill>
                <a:latin typeface="Tahoma"/>
              </a:rPr>
              <a:t>nteligente (ACII).</a:t>
            </a:r>
            <a:endParaRPr b="0" lang="en-US" sz="2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Las especificaciones son poco más que el nombre del produc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049"/>
              </a:spcBef>
              <a:buClr>
                <a:srgbClr val="33cc33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ahoma"/>
              </a:rPr>
              <a:t>Se supone que éste es el primero de una línea de productos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C31B: Desarrollo de Software de Aplicacion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C788-1BE4-418A-A2C9-48253B1E75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17:06:55Z</dcterms:created>
  <dc:creator>cecilia</dc:creator>
  <dc:description/>
  <dc:language>en-US</dc:language>
  <cp:lastModifiedBy>adminsochoa</cp:lastModifiedBy>
  <cp:lastPrinted>2001-09-24T14:57:33Z</cp:lastPrinted>
  <dcterms:modified xsi:type="dcterms:W3CDTF">2004-10-07T20:51:36Z</dcterms:modified>
  <cp:revision>106</cp:revision>
  <dc:subject/>
  <dc:title>CC31B: Desarrollo de Software de Aplicaci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cecilia@dcc.uchile.cl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SoftAplic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