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328-494A-44E4-98A8-5A1F0393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966-3FB0-4AE8-B2DC-44D26608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7D0-DEFF-45BB-A8E2-1D08BE8F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415F-8548-4C13-9D75-14361D06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EEC-4CC1-49E9-A001-A8402EB7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A68-A928-48F4-9217-7E51237C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AED-8FF1-4362-AC9D-87A5FAFD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D145-E023-481B-9DEA-442FB4BE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188-6C66-4D32-AA97-FF8BE059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969-A0C5-4360-BE3D-8F5CC1E5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0A3-F56E-4184-A487-D288E097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482-1AA2-4122-B115-89E5AB0F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F5CC-9D12-4269-86A5-D9009CE7CD8F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esarrollo de Software Orientado a Obje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Requerimi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ACII es una aplicación para PC que reemplaza los libros de recetas de cocin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 sólo contiene recetas de cocina, sino que ayuda en la planificación de la comida por un cierto período (una semana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usuario puede interactuar con el ACII para planear los menúes de cada dí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sistema escala los menúes de la semana según el número de comensales e imprime una lista de ingredientes a compra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1DC9-495B-47E2-B35B-CBF7EB943C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dentificar Component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desarrollo de software complejo se inicia identificando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componente es una entidad abstracta que puede desarrollar una tarea, o sea, asumir una responsa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aracterísticas de una componente (en el diseño)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tener un conjunto pequeño y bien definido de responsabilidad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nteractuar mínimamente con otras component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2A18-20CA-412A-9483-712DC18979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Tarjetas CRC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tarjetas CRC (Componente - Responsabilidad - Colaborador) son una técnica para organizar y registrar las responsabilidades de las compone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tarjeta contien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ombre de la componente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ista de responsabilidade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tras componentes con las que interactú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4267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miembro del equipo de desarrollo tiene una o más tarjeta y está encargado de simular un escenario de ejecución, pasándole el control a otro objeto cuando correspond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257800" y="4114800"/>
            <a:ext cx="3024720" cy="1981080"/>
            <a:chOff x="5257800" y="4114800"/>
            <a:chExt cx="3024720" cy="1981080"/>
          </a:xfrm>
        </p:grpSpPr>
        <p:sp>
          <p:nvSpPr>
            <p:cNvPr id="91" name=""/>
            <p:cNvSpPr/>
            <p:nvPr/>
          </p:nvSpPr>
          <p:spPr>
            <a:xfrm>
              <a:off x="5257800" y="4114800"/>
              <a:ext cx="28954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10440" y="4114800"/>
              <a:ext cx="0" cy="1981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61040" y="4183200"/>
              <a:ext cx="19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66"/>
                  </a:solidFill>
                  <a:latin typeface="Arial Narrow"/>
                </a:rPr>
                <a:t>Nombre de la Component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59960" y="4592520"/>
              <a:ext cx="19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66"/>
                  </a:solidFill>
                  <a:latin typeface="Arial Narrow"/>
                </a:rPr>
                <a:t>Lista de Responsabilidade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47800" y="418320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66"/>
                  </a:solidFill>
                  <a:latin typeface="Arial Narrow"/>
                </a:rPr>
                <a:t>Colaboradore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57800" y="4572000"/>
              <a:ext cx="19810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972B-CDE2-4D86-A775-42155F30F5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iclo “Qué - Quién”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ada actividad, tarea o funcionalidad identificada debe ser asignada a una componente como parte de sus responsabilidad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i una componente tiene muchas responsabilidades, es posiblemente mejor separarla en dos o más sub-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documento de diseño puede empezar a escribirse en este moment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ún el análisis se hace a nivel del sistema complet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decisiones de diseño están frescas en la mente de los desarrollador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574-48E3-424E-A0D3-DADC7A8968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mponentes y Comportamien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Al comenzar la ejecución del ACII, se presentará una pantalla de Bienvenida con las siguientes opcion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correr las recetas existent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gregar una nueva receta a la base de dat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modificar una receta existent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ver un plan de comidas existent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rear un nuevo plan de comid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actividades pueden clasificarse en dos grup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cciones sobre la base de datos de recet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cciones sobre los planes de comid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4D3B-AE9A-436C-BA6F-A8EB0A6136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RC de Bienvenid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1981080"/>
            <a:ext cx="617544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92920" y="1981080"/>
            <a:ext cx="0" cy="4114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2832120"/>
            <a:ext cx="4164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13560" y="206856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ahoma"/>
              </a:rPr>
              <a:t>Bienvenid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8360" y="2900520"/>
            <a:ext cx="283824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Desplegar mensaje inici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Ofrecer las opciones de ac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asar el control a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190440"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Base de Datos de Recet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190440"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es de Comida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2133720"/>
            <a:ext cx="18288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Base de Datos de Recet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2364-4FA4-4F94-BA0F-CA7FED1A97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RC de Base de Datos de Recet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1981080"/>
            <a:ext cx="617544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92920" y="1981080"/>
            <a:ext cx="0" cy="4114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2832120"/>
            <a:ext cx="4164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44880" y="206856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ahoma"/>
              </a:rPr>
              <a:t>Base de Datos de Recet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32120" y="2900520"/>
            <a:ext cx="2336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Recorrida de las recetas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Modificación de recetas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Incluir nuevas receta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Bienven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BA1-681C-4837-BB4D-5602CE9D3F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Cambio es Inevitabl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cambios deben afectar el menor número posible de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oncentrar los cambios probables en una o dos component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nterfaces, formatos de comunicación y sali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Minimizar las dependencias del hardware (portabilidad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Minimizar el acoplamiento entre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ocumentar las razones de las decisiones de diseño como apoyo para futuros cambi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8E0-435E-462B-8D9F-3688B1D03F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osponer Decis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¿Hay que presentarle al usuario una lista de categorías de recetas a recorrer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¿Podrá el usuario dar palabras clave como una serie de ingredientes y buscar las recetas con esos ingrediente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¿Deben usarse barras de scroll o el cursor para moverse a través de la lista de receta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ff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as decisiones no son fundamentales porque afectan solamente la componente Bienvenida (anticipación del cambio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9E9-F940-4FD8-A053-6799FBCFE5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Recet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Receta será también una compon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be contener una cierta información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ingredientes necesari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asos a segui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actividades que debe realizar una receta son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plegar la receta en pantall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ermitir modificar ingredientes y/o pas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imprimir la recet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419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e es un modelo de formato para cada una de las recet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uando la Base de Datos ofrece incluir una nueva recet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crea una nueva componente de Receta en blanco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asignan los valores de la información con los datos proporcionados por el usuari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Base de Datos da el inicio pero la componente Receta realiza las tare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C65-D19C-411A-82AD-AD8C5762DA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¿Qué es Orientación a Objetos?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finición de clases y herenci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asaje de mensaj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Métodos estáticos y virtua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er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sar un lenguaje orientado a objetos no es condición necesaria ni suficiente para hacer un programa orientado a objet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E46-52DF-43FC-91B1-F0494A2D2E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RC de Recet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1828800"/>
            <a:ext cx="617544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88000" y="1828800"/>
            <a:ext cx="0" cy="4114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679840"/>
            <a:ext cx="4164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0160" y="19162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ahoma"/>
              </a:rPr>
              <a:t>Rece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5880" y="2747880"/>
            <a:ext cx="291420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Desplegar la receta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Modificación de ingredient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Modificación de pasos a seguir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Imprimir la receta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198108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Base de Datos de Recet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 de Comid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7E6-251E-4332-A9B1-D9F11EE812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tras Component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Plan de Comidas permite (responsabilidad)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rear un nuevo pla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ditar y modificar un plan existent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mprimir un plan de comid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alcular la lista de compras necesari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 nuevo plan tiene una Fechas asociadas. Cada Fecha es también una component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nsultar la comida de una Fecha particular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mprimir la comida del dí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3F4-20F1-4782-B24C-6C282BB22F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ás Component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Comida es la descripción de todas las Recetas a servirse en una determinada Fech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úmero de comensal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esplegar la Comi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ditar/modificar recetas de la Comi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mprimir la Comi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3F3-4B37-40CB-AF1E-56339EA4C7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omunicación en ACII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1981080"/>
            <a:ext cx="1676520" cy="6098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Bienven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3429000"/>
            <a:ext cx="167616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lanes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429000"/>
            <a:ext cx="167652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e Recet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4800600"/>
            <a:ext cx="167616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ech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4800600"/>
            <a:ext cx="167616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800600"/>
            <a:ext cx="167652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ce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H="1">
            <a:off x="2285280" y="2590920"/>
            <a:ext cx="1981800" cy="838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1" name=""/>
          <p:cNvCxnSpPr>
            <a:stCxn id="134" idx="2"/>
            <a:endCxn id="136" idx="0"/>
          </p:cNvCxnSpPr>
          <p:nvPr/>
        </p:nvCxnSpPr>
        <p:spPr>
          <a:xfrm>
            <a:off x="4266720" y="2590920"/>
            <a:ext cx="1600920" cy="838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2" name=""/>
          <p:cNvCxnSpPr>
            <a:stCxn id="135" idx="2"/>
            <a:endCxn id="137" idx="0"/>
          </p:cNvCxnSpPr>
          <p:nvPr/>
        </p:nvCxnSpPr>
        <p:spPr>
          <a:xfrm>
            <a:off x="2285640" y="4038120"/>
            <a:ext cx="1080" cy="7628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3" name=""/>
          <p:cNvCxnSpPr>
            <a:stCxn id="136" idx="2"/>
            <a:endCxn id="138" idx="0"/>
          </p:cNvCxnSpPr>
          <p:nvPr/>
        </p:nvCxnSpPr>
        <p:spPr>
          <a:xfrm flipH="1">
            <a:off x="4799880" y="4038120"/>
            <a:ext cx="1067400" cy="7628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4" name=""/>
          <p:cNvCxnSpPr>
            <a:stCxn id="136" idx="2"/>
            <a:endCxn id="139" idx="0"/>
          </p:cNvCxnSpPr>
          <p:nvPr/>
        </p:nvCxnSpPr>
        <p:spPr>
          <a:xfrm>
            <a:off x="5866920" y="4038120"/>
            <a:ext cx="1296360" cy="7628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5" name=""/>
          <p:cNvCxnSpPr>
            <a:stCxn id="138" idx="3"/>
            <a:endCxn id="139" idx="1"/>
          </p:cNvCxnSpPr>
          <p:nvPr/>
        </p:nvCxnSpPr>
        <p:spPr>
          <a:xfrm>
            <a:off x="5638320" y="5105160"/>
            <a:ext cx="6865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6" name=""/>
          <p:cNvCxnSpPr>
            <a:stCxn id="137" idx="3"/>
            <a:endCxn id="138" idx="1"/>
          </p:cNvCxnSpPr>
          <p:nvPr/>
        </p:nvCxnSpPr>
        <p:spPr>
          <a:xfrm>
            <a:off x="3123720" y="5105160"/>
            <a:ext cx="8391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950-D926-4133-BCE0-633EC34F16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Diagrama de Interacción o Secu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527120" y="220968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32240" y="220968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9640" y="220968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47040" y="220968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41320" y="181296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Bienven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2360" y="181296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97440" y="18129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Recet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30840" y="181296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Planes de Com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7120" y="2514600"/>
            <a:ext cx="17524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32240" y="3124080"/>
            <a:ext cx="19047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584520" y="3657600"/>
            <a:ext cx="19051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679040" y="4343400"/>
            <a:ext cx="17528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7120" y="4952880"/>
            <a:ext cx="58672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7040" y="2503440"/>
            <a:ext cx="17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Mensaje recorrer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9640" y="2819520"/>
            <a:ext cx="18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Mensaje desplegar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37360" y="335268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Retorno desplegar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39800" y="403848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Retorno recorrer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94320" y="464832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Mensaje hacerPlan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4840" y="2362320"/>
            <a:ext cx="30456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9600" y="2438280"/>
            <a:ext cx="3049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7000" y="2971800"/>
            <a:ext cx="30492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4400" y="4876920"/>
            <a:ext cx="3049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2362320"/>
            <a:ext cx="304560" cy="3504960"/>
          </a:xfrm>
          <a:prstGeom prst="downArrow">
            <a:avLst>
              <a:gd name="adj1" fmla="val 40620"/>
              <a:gd name="adj2" fmla="val 198038"/>
            </a:avLst>
          </a:prstGeom>
          <a:gradFill rotWithShape="0">
            <a:gsLst>
              <a:gs pos="0">
                <a:srgbClr val="ffcc00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-198720" y="36252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D67C-1C61-4FB1-80B9-60F2EF9CE2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tado y Comportamien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Comportamient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 de una componente es el conjunto de acciones que puede realiza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conjunto de todas las acciones posibles de una componente se llama el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protocol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de la compon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00240" y="18288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Estad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 de una componente es la información contenida dentro de ell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Estad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 de una componente no es estático sino que puede cambiar con el tiemp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57360" y="5486400"/>
            <a:ext cx="7877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80880">
              <a:lnSpc>
                <a:spcPct val="10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 es necesario que una componente mantenga variables de Estad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33F-5ACF-4BD3-8126-441F58D650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stancias y Clas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xisten varias Recetas en la Base de Dat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robablemente tienen distintos ingredientes y distintos pasos a seguir (estado)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ero todas tendrán las mismas responsabilidades (comportamiento)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Iniciando la especificación de un sistema, nos concentramos en el comportamiento común de las Recet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Clase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es un conjunto de objetos con el mismo comportamien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 individuo de una Clase es una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Instancia;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caracteriza su est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B66-890A-402C-B73D-DC00DF4BFF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terfaz e Implemen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finir el comportamiento de una componente permite que otro programador pueda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usarl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sin conocer su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implementación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o se llama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ocultamiento de la información (information hiding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cimos que la componente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ncapsula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su comportamiento y muestra sólo los detalles necesarios para usarl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1" lang="es-ES_tradnl" sz="2000" spc="-1" strike="noStrike">
                <a:solidFill>
                  <a:srgbClr val="000066"/>
                </a:solidFill>
                <a:latin typeface="Tahoma"/>
              </a:rPr>
              <a:t>Interfaz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describe lo que la componente puede hacer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 la cara de la componente hacia otros programad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1" lang="es-ES_tradnl" sz="2000" spc="-1" strike="noStrike">
                <a:solidFill>
                  <a:srgbClr val="000066"/>
                </a:solidFill>
                <a:latin typeface="Tahoma"/>
              </a:rPr>
              <a:t>Implementación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describe cómo la componente realiza sus tare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 la cara de la componente que ve el programador trabajando en ell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A79-63F6-4E60-9781-E28608F3B7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terfaz e Implemen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separación de la Interfaz y la Implementación es quizás uno de los principales principios de la Ingeniería de Software (separación de intereses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ocultamiento de la información es especialmente útil en desarrollos donde participan muchas person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l factor crítico aquí es la comunicación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componentes se desarrollan en forma independiente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 también muy importante para la reutilización de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32D-789A-4F13-8DEF-154AE97EFA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rincipios de Parn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desarrollador de una componente de software debe proveer al usuario de toda la información necesaria para hacer uso efectivo de sus servicios, y ninguna otra infor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desarrollador de una componente de software será provisto de toda la información neceraria para llevar a cabo las responsabilidades que le son asignadas a la componente, y ninguna otra infor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ff00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Varias implementaciones pueden probarse para la misma interfa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0B1-B065-4001-8B8A-05CC6B7696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cc0099"/>
                </a:solidFill>
                <a:latin typeface="Tahoma"/>
              </a:rPr>
              <a:t>Diseño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El diseño del software consiste en crear un </a:t>
            </a:r>
            <a:r>
              <a:rPr b="1" lang="es-UY" sz="2400" spc="-1" strike="noStrike">
                <a:solidFill>
                  <a:srgbClr val="000066"/>
                </a:solidFill>
                <a:latin typeface="Tahoma"/>
              </a:rPr>
              <a:t>modelo</a:t>
            </a: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 del software deseado de modo que satisfaga los requerimientos de buena for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1141560" y="3962520"/>
            <a:ext cx="27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66"/>
                </a:solidFill>
                <a:latin typeface="Times New Roman"/>
              </a:rPr>
              <a:t>Requerimient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0440" y="396252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66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5334120"/>
            <a:ext cx="11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66"/>
                </a:solidFill>
                <a:latin typeface="Times New Roman"/>
              </a:rPr>
              <a:t>¿qué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440" y="5334120"/>
            <a:ext cx="14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66"/>
                </a:solidFill>
                <a:latin typeface="Times New Roman"/>
              </a:rPr>
              <a:t>¿cómo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4C0-0E32-4F6E-A6FB-51D892226A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Siguiendo el Diseñ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ructura general del sistem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mponentes sin estado interno, pueden implementarse como una función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mponentes con estado y varias responsabilidades pueden implementarse como clas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responsabilidad será un méto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Todos los datos necesarios deben identificarse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parámetros de los métodos se identifican con su nombre y su origen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datos internos se identifica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33C-A08E-48E0-A1A3-CB115D09BF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ección de Nombr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Guías para elección de nombres [Keller, 1990]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sar nombres fácilmente pronunciabl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sar mayúsculas o guiones para unir palabra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r cuidadoso con las abreviatura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vitar nombres con diferentes interpreta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vitar los números como parte de un nombr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funciones o variables con valores lógicos, deben tener nombres que sugieran este tipo, e.g., estaList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Reescribir las tarjetas CRC con los nombres seleccionados para cada variable y responsa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B82-0758-4113-B896-B50C324367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RC de Fech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1752480"/>
            <a:ext cx="6175440" cy="426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64320" y="1752480"/>
            <a:ext cx="27000" cy="4267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2603520"/>
            <a:ext cx="4164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91800" y="18399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ahoma"/>
              </a:rPr>
              <a:t>Fech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2671920"/>
            <a:ext cx="419112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Mantener información de un día específico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Fecha (año, mes, dia)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- crea una fech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DesplegarEditar()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- despliega la información de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un día en una ventana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ermitiendo que el usuario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la modifique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rearListaCompras ()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- agregar ingredientes de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la comida a la lista de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compra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9051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Com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3E8-E0A9-465F-94F4-73B860AA61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seño Detall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uego de detallar los nombres precisos de cada variable de estado y responsabilidad, cada componente puede desarrollarse separadam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n el diseño detallad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 eligen las estructuras de datos intern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 implementan los métodos definidos en la interfa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2682-3F17-45B6-9297-66E5EF7D293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cc0099"/>
                </a:solidFill>
                <a:latin typeface="Tahoma"/>
              </a:rPr>
              <a:t>Proceso de Diseñ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743200"/>
            <a:ext cx="1828800" cy="1752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66"/>
                </a:solidFill>
                <a:latin typeface="Times New Roman"/>
              </a:rPr>
              <a:t>Principio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2743200"/>
            <a:ext cx="1828800" cy="1752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66"/>
                </a:solidFill>
                <a:latin typeface="Times New Roman"/>
              </a:rPr>
              <a:t>Cualidad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19720"/>
            <a:ext cx="3047760" cy="1676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0066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048120"/>
            <a:ext cx="533520" cy="1295280"/>
          </a:xfrm>
          <a:prstGeom prst="downArrow">
            <a:avLst>
              <a:gd name="adj1" fmla="val 50000"/>
              <a:gd name="adj2" fmla="val 60695"/>
            </a:avLst>
          </a:prstGeom>
          <a:solidFill>
            <a:srgbClr val="a5002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1295280"/>
            <a:ext cx="3047760" cy="1676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0066"/>
                </a:solidFill>
                <a:latin typeface="Times New Roman"/>
              </a:rPr>
              <a:t>Requerimient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3505320"/>
            <a:ext cx="1523880" cy="304560"/>
          </a:xfrm>
          <a:custGeom>
            <a:avLst/>
            <a:gdLst>
              <a:gd name="textAreaLeft" fmla="*/ 190440 w 1523880"/>
              <a:gd name="textAreaRight" fmla="*/ 1333440 w 1523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99880" y="3505320"/>
            <a:ext cx="1523880" cy="304560"/>
          </a:xfrm>
          <a:custGeom>
            <a:avLst/>
            <a:gdLst>
              <a:gd name="textAreaLeft" fmla="*/ 190440 w 1523880"/>
              <a:gd name="textAreaRight" fmla="*/ 1333440 w 1523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159-30AD-4FDA-AEF1-1203E9D0E5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cc0099"/>
                </a:solidFill>
                <a:latin typeface="Tahoma"/>
              </a:rPr>
              <a:t>Métodos Estructurados de Diseñ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410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Diseño Estructurado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Yourdon, 1979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Análisis Estructurado de Sistema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Gane &amp; Sarson, 1979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Desarrollo de Sistemas Jackson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Jackson, 198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Diseño Orientado a Objeto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Robinson, 1992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Boock, 1994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UML, 1997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8006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a5002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88440" y="3733920"/>
            <a:ext cx="3115800" cy="228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Más que métodos, s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notaciones y guías par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el diseño de softwar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La creatividad y l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disciplina siguen siend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la esencia del diseñ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61F-9EA2-4301-8CE7-CBDCEF1646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seño por Responsabilidad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ar a alguien (algo) una responsabilidad implic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espera un cierto comportamiento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le dará independencia para hacer su tare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principios de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delegación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no interferenci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son esencial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capsulamiento y modularidad como un ar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Base para la reutiliz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5592600" y="2081160"/>
            <a:ext cx="892440" cy="1203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081160"/>
            <a:ext cx="890640" cy="1203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138560"/>
            <a:ext cx="890640" cy="1203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83520" y="4138560"/>
            <a:ext cx="892080" cy="1203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5040" y="2549520"/>
            <a:ext cx="1233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7080" y="4138560"/>
            <a:ext cx="136440" cy="12034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29320" y="460692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47320" y="3363840"/>
            <a:ext cx="27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rogramación imperativ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84800" y="53942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rogramación orientada a obje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7D1-19BD-474D-9605-6216A6F2D0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Sistemas Chicos y Grand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rogramación en chic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ódigo desarrollado por uno o unos pocos programadore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a persona entiende todas las facetas d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434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rogramación en grand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uchas personas participan en la programación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especificadores, diseñadores y programadores pueden ser distintas persona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adie abarca todo el conocimiento del sistem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manejo de la comunicación es un asunto importante y complejo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C17-F76A-4601-8B58-7036058AC7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odelar el Comportamien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n general es más fácil comprender la funcionalidad del sistema antes que otros aspectos (datos, sincronización, etc.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iseño Dirigido por la Responsa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7607-C108-4EB2-A95B-8DD86B994A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jemplo: Ayudante de Cocin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roducto a desarrollar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yudante de </a:t>
            </a:r>
            <a:r>
              <a:rPr b="1" lang="es-ES_tradnl" sz="2200" spc="-1" strike="noStrike">
                <a:solidFill>
                  <a:srgbClr val="000066"/>
                </a:solidFill>
                <a:latin typeface="Tahoma"/>
              </a:rPr>
              <a:t>C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ocina </a:t>
            </a:r>
            <a:r>
              <a:rPr b="1" lang="es-ES_tradnl" sz="22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teractivo e </a:t>
            </a:r>
            <a:r>
              <a:rPr b="1" lang="es-ES_tradnl" sz="22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teligente (ACII)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especificaciones son poco más que el nombre del produ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supone que éste es el primero de una línea de produc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309-2458-4F2F-BE7E-FAEC5794C8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adminsochoa</cp:lastModifiedBy>
  <cp:lastPrinted>2001-09-24T14:57:33Z</cp:lastPrinted>
  <dcterms:modified xsi:type="dcterms:W3CDTF">2004-10-07T20:51:36Z</dcterms:modified>
  <cp:revision>106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