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2871-D34B-4C26-8492-FF09D7A5D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8D4E-8A4A-4112-93F9-42976D03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50FE-0789-4B5B-B770-A2620AF8F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4FAA-D284-4B2B-B29C-E4C225A53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2170-F8CA-4FE1-8D5D-9351DC93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70A9-A3C4-4A48-914B-56EDEFFE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5D29-B63F-401A-AFA1-3ED3EC03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5F86-E82B-4ABF-A49D-D6EED2A9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BFB2-1B0A-4206-AA88-A8F22AC8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DF7A-BF83-4B1C-8295-20160DDE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0A52-C3CA-41D7-B146-5BE9EFDD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F7A3-96D7-4DA5-A3B0-5DD21EBE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49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1049"/>
              </a:spcBef>
              <a:buClr>
                <a:srgbClr val="33cc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336F-9A3A-4A8A-84A8-C491535A8A2A}" type="slidenum"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specificaciones Descriptiv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Modelo de Da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752480" y="3657600"/>
          <a:ext cx="4876920" cy="303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3657600"/>
                    <a:ext cx="4876920" cy="30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8380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167652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523880"/>
            <a:ext cx="8229600" cy="24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ahoma"/>
              </a:rPr>
              <a:t>- </a:t>
            </a:r>
            <a:r>
              <a:rPr b="0" lang="es-ES" sz="2200" spc="-1" strike="noStrike">
                <a:solidFill>
                  <a:srgbClr val="000066"/>
                </a:solidFill>
                <a:latin typeface="Tahoma"/>
              </a:rPr>
              <a:t>El modelo de datos consiste en identificar gráficamente las entidades (o tablas) que participan en mi sistema, ya sean nuevas o existentes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Tahoma"/>
              </a:rPr>
              <a:t>- Identificar la clave primaria y las claves foráneas de cada una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Tahoma"/>
              </a:rPr>
              <a:t>- Podrían incluirse también otros campos..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2DD1-BB1A-4618-9D9E-22EDA74E1A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Modelo de Da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167652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819520" y="1523880"/>
            <a:ext cx="4548240" cy="533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BDB4-293C-4240-9CC6-7829ED116E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Diccionario de Da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600200" y="2108160"/>
          <a:ext cx="6335640" cy="468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2108160"/>
                    <a:ext cx="6335640" cy="46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762120" y="1523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ahoma"/>
              </a:rPr>
              <a:t>Por cada tabla se especifican los campos y su forma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382F-AEFB-4239-AA0D-0FF9BD833A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n Resume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os diagramas ER son muy ampliamente usados en la práctic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on altamente expresivos y fáciles de entender por personas no especialist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xisten varias herramientas de apoyo al diseño de diagramas ER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e usan como base para el diseño de bases de dat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13E6-B6EF-471C-B043-7D56F0FA22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Algunas Características de los Diagramas ER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Notación concisa para especificar los datos manejados por una aplicación….. pero la notación no es estándar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Ciertos análisis pueden aplicarse al modelo…. pero la notación es limitada para especificar propiedades complej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De puede adivinar mucha de la funcionalidad que tendrá un sistema, analizando el diagrama ER… pero eso no evita que se tengan que definir y especificar los requisit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30D2-CD65-4EC5-B2E4-B150E5461D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specificaciones Algebraic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12536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as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especificaciones algebraicas 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on una alternativa para describir otra cara del sistem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263880" indent="-2638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os sistemas grandes se componen de subsistema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572040" indent="-21996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l proceso de especificación consiste en definir estos subsistemas y sus interface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572040" indent="-21996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os subsistemas se desarrollan independientement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263880" indent="-2638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da subsistema se ve como un tipo de dato abstracto (ADT) u objeto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572040" indent="-21996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ncapsula datos y funcionalidad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572040" indent="-21996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olamente la interfaz es visible para los demás módul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105160" y="1130040"/>
            <a:ext cx="3809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as especificaciones algebraicas son completamente formal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Aún incompletas, las especificaciones formales ayudan a detectar inconsistenci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876920" y="4952880"/>
            <a:ext cx="1447560" cy="1143000"/>
            <a:chOff x="4876920" y="4952880"/>
            <a:chExt cx="1447560" cy="1143000"/>
          </a:xfrm>
        </p:grpSpPr>
        <p:sp>
          <p:nvSpPr>
            <p:cNvPr id="193" name=""/>
            <p:cNvSpPr/>
            <p:nvPr/>
          </p:nvSpPr>
          <p:spPr>
            <a:xfrm>
              <a:off x="4876920" y="4952880"/>
              <a:ext cx="1447560" cy="1143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67280" y="4952880"/>
              <a:ext cx="457200" cy="11430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9920" y="5029200"/>
              <a:ext cx="152280" cy="3049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943600" y="5410080"/>
              <a:ext cx="304920" cy="152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43600" y="5791320"/>
              <a:ext cx="22860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7086600" y="4952880"/>
            <a:ext cx="144792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086600" y="4952880"/>
            <a:ext cx="45720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7238880" y="50292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7238880" y="5334120"/>
            <a:ext cx="152640" cy="30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7162920" y="5791320"/>
            <a:ext cx="30456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03" name=""/>
          <p:cNvCxnSpPr>
            <a:stCxn id="195" idx="3"/>
            <a:endCxn id="201" idx="1"/>
          </p:cNvCxnSpPr>
          <p:nvPr/>
        </p:nvCxnSpPr>
        <p:spPr>
          <a:xfrm>
            <a:off x="6171840" y="5181120"/>
            <a:ext cx="1067400" cy="30420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201" idx="1"/>
            <a:endCxn id="197" idx="3"/>
          </p:cNvCxnSpPr>
          <p:nvPr/>
        </p:nvCxnSpPr>
        <p:spPr>
          <a:xfrm flipH="1">
            <a:off x="6171480" y="5484960"/>
            <a:ext cx="1067400" cy="42120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202" idx="1"/>
            <a:endCxn id="196" idx="3"/>
          </p:cNvCxnSpPr>
          <p:nvPr/>
        </p:nvCxnSpPr>
        <p:spPr>
          <a:xfrm flipH="1" flipV="1">
            <a:off x="6248160" y="5486040"/>
            <a:ext cx="915120" cy="41832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6172200" y="5105520"/>
            <a:ext cx="106668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33160" y="5181480"/>
            <a:ext cx="7887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Sub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sistem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24080" y="5181480"/>
            <a:ext cx="7887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Sub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sistem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9840" y="4191120"/>
            <a:ext cx="12794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Elementos 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la interfaz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16200000">
            <a:off x="6629400" y="3885840"/>
            <a:ext cx="152280" cy="1676520"/>
          </a:xfrm>
          <a:custGeom>
            <a:avLst/>
            <a:gdLst>
              <a:gd name="textAreaLeft" fmla="*/ 0 w 152280"/>
              <a:gd name="textAreaRight" fmla="*/ 5508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315E-AC37-4C18-B5B3-5B6B8DE855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lementos de un TAD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6629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ncabezamient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nombre de la especificación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parámetros genéric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Introducción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nombre del tipo (sort)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definiciones importada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Descripción informal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Firm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nombre y parámetros de las operacione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Axioma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semántica de las operacione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7CC8-C22D-499C-9602-26C9D356F7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jemplo Genéric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95280" y="1218960"/>
            <a:ext cx="6400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     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sort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Array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imports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INTEGER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Los arrays son colecciones de elementos de un tipo genérico Elem. Tiene un primer y un último elemento. Elementos particulares pueden accederse a través de un índice.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rear (Integer, Integer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Array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Asignar (Array, Integer, Elem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Array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Primero (Array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Integer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Ultimo (Array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Integer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Evaluar (Array, Integer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Elem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Primero (Crear (x, y)) = x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Primero (Asignar (a, n, v)) = Primero (a)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Ultimo (Crear (x, y)) = y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Ultimo (Asignar (a, n, v)) = Ultimo (a)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Evaluar (Crear (x, y), n) = Indefinido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Evaluar (Asignar (a, n, v), m) =</a:t>
            </a: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if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m &lt; Primero (a) </a:t>
            </a: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or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m &gt; Ultimo (a) </a:t>
            </a: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then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Indefinido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else if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m = n </a:t>
            </a: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then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v </a:t>
            </a: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else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Evaluar (a, m)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1371600"/>
            <a:ext cx="6553080" cy="4800600"/>
          </a:xfrm>
          <a:prstGeom prst="flowChartAlternateProcess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26280" y="1233360"/>
            <a:ext cx="1378440" cy="322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ARRAY (Elem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2057400"/>
            <a:ext cx="6553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19320" y="2819520"/>
            <a:ext cx="6553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4114800"/>
            <a:ext cx="6553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3F88-E11F-453E-81FE-E60978F35D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Desarrollo de Especificaciones Algebraic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structurar la especificació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descripción informal de las interfac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Asignar nombres a la especificació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nombrar tipos, sorts y decidir si se requieren parámetr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16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ección de operacion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90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identificar operaciones de acuerdo a la interfaz (crear elementos del tipo, modificarlos, inspeccionarlos)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specificación informal de operacion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Definición de la sintaxis (firma)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Definición de axiom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24B7-3B49-4EFA-B27B-617C5921D5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Una Lista Genéric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129528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    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sort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Lista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imports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INTEGER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Define una lista donde los elementos se agregan al final y se sacan por el principio. Las operaciones son Crear, Cons, Longitud, Cabeza y Cola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rear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 Lista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ons (Lista, Elem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Lista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ola (Lista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Lista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abeza (Lista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Elem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Longitud (Lista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Integer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abeza (Crear) = Indefinido -- Error al evaluar una lista vacía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abeza (Cons (L, v)) =</a:t>
            </a: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 if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 L = Crear </a:t>
            </a: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then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v </a:t>
            </a: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else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Cabeza (L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Longitud (Crear) = 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Longitud (Cons (L, v) = Longitud (L) + 1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ola (Crear) = Crear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ola (Cons (L, v)) = </a:t>
            </a: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if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L = Crear </a:t>
            </a: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then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Create </a:t>
            </a: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else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Cons (Cola (L), v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1447920"/>
            <a:ext cx="6553080" cy="4572000"/>
          </a:xfrm>
          <a:prstGeom prst="flowChartAlternateProcess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34560" y="1309680"/>
            <a:ext cx="1287000" cy="322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LISTA (Elem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19320" y="2133720"/>
            <a:ext cx="6553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19320" y="2895480"/>
            <a:ext cx="6553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4191120"/>
            <a:ext cx="6553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1072-E2F2-4ECD-8EC0-CF3A5A58F4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Diagramas de Entidad-Rel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os diagramas de ER describen conceptualmente la estructura de los datos del sistem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No es claro si la especificación de datos o de funcionalidad debe hacerse primer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os datos suelen ser más estables para definir el dominio de aplicación, pero la funcionalidad puede ayudar mejor a comprender este domini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xisten tres conceptos básico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entidade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relacione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atribut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8EA5-44C2-4A1C-AA46-E2E61E3CDA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Axiom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xisten dos tipos de operacion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operaciones de construcción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2" marL="1074240" indent="-21456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finen o modifican elementos del tipo especificad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operaciones de inspección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2" marL="1074240" indent="-21456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valúan atributos de los elementos del tipo especificad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Regla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establecer las operaciones de construcción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establecer las operaciones de inspección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escribir un axioma para cada inspector sobre cada constructor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E5FF-C649-4752-98D4-F74D42078E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Uso de Especificaciones Algebraic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scribir especificaciones algebraicas es una actividad cara, lenta y trabajos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 estrategia consiste en reutilizar especificaciones ya escrit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strategia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instanciar especificaciones genérica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desarrollar especificaciones incrementalmente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refinar especificacione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F2E1-EE84-49A9-AD4A-F14A2B795F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Instanciar Especificaciones 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os ADT definidos como genéricos requieren que se le asigne un tipo a cada parámetro de la list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295280" y="3657600"/>
            <a:ext cx="6629040" cy="990720"/>
            <a:chOff x="1295280" y="3657600"/>
            <a:chExt cx="6629040" cy="990720"/>
          </a:xfrm>
        </p:grpSpPr>
        <p:sp>
          <p:nvSpPr>
            <p:cNvPr id="237" name=""/>
            <p:cNvSpPr/>
            <p:nvPr/>
          </p:nvSpPr>
          <p:spPr>
            <a:xfrm>
              <a:off x="1371960" y="3657600"/>
              <a:ext cx="64753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66"/>
                  </a:solidFill>
                  <a:latin typeface="Tahoma"/>
                </a:rPr>
                <a:t>      </a:t>
              </a:r>
              <a:endParaRPr b="0" lang="en-US" sz="15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49"/>
                </a:spcBef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66"/>
                  </a:solidFill>
                  <a:latin typeface="Tahoma"/>
                </a:rPr>
                <a:t>sort</a:t>
              </a:r>
              <a:r>
                <a:rPr b="0" lang="es-ES_tradnl" sz="1500" spc="-1" strike="noStrike">
                  <a:solidFill>
                    <a:srgbClr val="000066"/>
                  </a:solidFill>
                  <a:latin typeface="Tahoma"/>
                </a:rPr>
                <a:t> Char_array instantiates Array (Elem := Char)</a:t>
              </a:r>
              <a:endParaRPr b="0" lang="en-US" sz="15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49"/>
                </a:spcBef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66"/>
                  </a:solidFill>
                  <a:latin typeface="Tahoma"/>
                </a:rPr>
                <a:t>imports</a:t>
              </a:r>
              <a:r>
                <a:rPr b="0" lang="es-ES_tradnl" sz="1500" spc="-1" strike="noStrike">
                  <a:solidFill>
                    <a:srgbClr val="000066"/>
                  </a:solidFill>
                  <a:latin typeface="Tahoma"/>
                </a:rPr>
                <a:t> INTEGER</a:t>
              </a:r>
              <a:endParaRPr b="0" lang="en-US" sz="15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95280" y="3810240"/>
              <a:ext cx="6629040" cy="838080"/>
            </a:xfrm>
            <a:prstGeom prst="flowChartAlternateProcess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09080" y="3672000"/>
              <a:ext cx="2100960" cy="322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66"/>
                  </a:solidFill>
                  <a:latin typeface="Tahoma"/>
                </a:rPr>
                <a:t>CHAR_ARRAY : ARRAY</a:t>
              </a:r>
              <a:endParaRPr b="0" lang="en-US" sz="15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6B85-D7BE-4BE3-9E5A-78EF420E28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Desarrollo Incremental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specificaciones de ADTs simples se importan y usan para definir ADTs más complej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Todas las operaciones definidas están disponibles para el nuevo ADT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ADT simple: sistema de coordenada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ADT complejo: cursor para la pantall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1717-9D0A-4868-B1CB-925125E6E1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295280" y="1981080"/>
            <a:ext cx="64008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    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sort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Coord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imports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INTEGER, BOOLEAN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Define un tipo que representa un par de coordenadas cartesianas. Las operaciones definidas son X e Y, que evalúan cada una de las componentes, e Igual que compara dos coordenadas.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rear (Integer, Integer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Coord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X (Coord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Integer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Y (Coord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Integer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Igual (Coord, Coord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Boolean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X (Crear (x, y)) = x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Y (Crear (x, y)) = y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Igual (Crear (x1, y1), Crear (x2, y2)) = (( x1 = x2) </a:t>
            </a: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and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(y1 = y2)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2133720"/>
            <a:ext cx="6553080" cy="3504960"/>
          </a:xfrm>
          <a:prstGeom prst="flowChartAlternateProcess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07200" y="1995480"/>
            <a:ext cx="857520" cy="322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OORD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19320" y="2819520"/>
            <a:ext cx="6553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19320" y="3581280"/>
            <a:ext cx="6553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19320" y="4648320"/>
            <a:ext cx="6553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oordenad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D09F-7A05-4551-913E-155802409E3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ursor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1295280" y="1828800"/>
            <a:ext cx="67820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    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sort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Cursor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imports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INTEGER, COORD, BITMAP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Un cursor es la descripción de un punto en la pantalla. Crear define un ícono en la posición indicada de la pantalla. Las operaciones son Posición, Trasladar, y CambiarÍcono. La operación Desplegar no se define formalmente.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rear (Coord, Bitmap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Cursor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Trasladar (Cursor, Integer, Integer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Cursor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Posición (Cursor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Coord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ambiarÍcono (Cursor, Bitmap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Cursor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Desplegar (Cursor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Cursor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Trasladar (Crear (C, Ícono), xd, yd) =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rear (COORD.Crear (X(C)+xd, Y(C)+yd), Ícono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Posición (Crear (C, Ícono)) = C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Posición (Trasladar (C, xd, yd)) = COORD.Crear (X(C)+xd, Y(C)+yd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ambiarÍcono (Crear (C, Ícono), Ícono2) = Crear (C, Ícono2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19320" y="1981080"/>
            <a:ext cx="6781680" cy="4114800"/>
          </a:xfrm>
          <a:prstGeom prst="flowChartAlternateProcess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12960" y="1843200"/>
            <a:ext cx="932040" cy="322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URSOR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2666880"/>
            <a:ext cx="67816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3429000"/>
            <a:ext cx="67816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4724280"/>
            <a:ext cx="67816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5CF9-96E7-46CB-94EA-1F966765634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Refinar Especificacion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refinamiento de especificaciones es similar a la herencia en orientación a objeto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las operaciones y los axiomas del ADT base se heredan y son parte de la nueva especificación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nuevas operaciones y axiomas se definen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algunas operaciones y axiomas pueden redefinirse (sobreescribirse)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Al importar una especificación, las operaciones se hacen accesibles pero no forman parte del nuevo ADT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5756-8482-4158-AEAB-5257E3F344C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Nueva List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1295280" y="1600200"/>
            <a:ext cx="64008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    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sort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Nueva_Lista </a:t>
            </a: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enrich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Lista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imports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INTEGER, BOOLEAN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Define una forma extendida de lista que hereda las operaciones y las propiedades de Lista y agrega nuevas operaciones: Agregar y Miembro.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Agregar (Nueva_Lista, Elem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Nueva_Lista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Miembro (Nueva_Lista, Elem)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Boolean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Agregar (Crear, v) = Cons (Crear, v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Miembro (Crear, v) = FALSE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Miembro (Agregar (L, v), v1) = ((v == v1) </a:t>
            </a: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or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Miembro (L, v1)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Miembro (Cons (L, v), v1) = ((v == v1) </a:t>
            </a:r>
            <a:r>
              <a:rPr b="1" lang="es-ES_tradnl" sz="1500" spc="-1" strike="noStrike">
                <a:solidFill>
                  <a:srgbClr val="000066"/>
                </a:solidFill>
                <a:latin typeface="Tahoma"/>
              </a:rPr>
              <a:t>or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 Miembro (L, v1)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abeza (Agregar (L, v)) = v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Cola (Agregar (L, v)) = L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Longitud (Agregar (L, v)) = Longitud (L) + 1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19320" y="1752480"/>
            <a:ext cx="6553080" cy="4114800"/>
          </a:xfrm>
          <a:prstGeom prst="flowChartAlternateProcess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73080" y="1616040"/>
            <a:ext cx="3254760" cy="322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NUEVA_LISTA (Elem; == </a:t>
            </a:r>
            <a:r>
              <a:rPr b="0" lang="es-ES_tradnl" sz="15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1500" spc="-1" strike="noStrike">
                <a:solidFill>
                  <a:srgbClr val="000066"/>
                </a:solidFill>
                <a:latin typeface="Times New Roman"/>
              </a:rPr>
              <a:t>  Boolean</a:t>
            </a:r>
            <a:r>
              <a:rPr b="0" lang="es-ES_tradnl" sz="15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438280"/>
            <a:ext cx="6553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3200400"/>
            <a:ext cx="6553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3886200"/>
            <a:ext cx="6553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D775-40E8-4AEA-99B2-71D6E7193D4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Z y Especificaciones Form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stos métodos se usan cuando los otros métodos no son apropiado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0840" indent="-2656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problemas complejos donde la intuición no ayuda mucho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0840" indent="-2656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problemas muy novedos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s especificaciones formales son fórmulas que pueden ser evaluadas automáticamente;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0840" indent="-2656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los programas son especificaciones formales de bajo nivel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0840" indent="-2656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las especificaciones formales tienen mayor abstracción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Permiten especificar sin ambigüedades lo que el programa hará y encontrar errores tempranament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CB99-FCB5-4A2B-AEDB-D1F0F57865C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specificaciones Lógicas: Z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Z es un lenguaje de especificación formal basado en teoría de conjuntos y lógica de primer orde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e usan los símbolos más habituales: 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۸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۷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, , </a:t>
            </a:r>
            <a:r>
              <a:rPr b="0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0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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0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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0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Con este lenguaje se especifican objetos matemátic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e usan tipos de datos básicos como los naturales (</a:t>
            </a:r>
            <a:r>
              <a:rPr b="1" lang="es-ES_tradnl" sz="2400" spc="-1" strike="noStrike">
                <a:solidFill>
                  <a:srgbClr val="000066"/>
                </a:solidFill>
                <a:latin typeface="Tahoma"/>
              </a:rPr>
              <a:t>N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), los datos lógicos (</a:t>
            </a:r>
            <a:r>
              <a:rPr b="1" lang="es-ES_tradnl" sz="2400" spc="-1" strike="noStrike">
                <a:solidFill>
                  <a:srgbClr val="000066"/>
                </a:solidFill>
                <a:latin typeface="Tahoma"/>
              </a:rPr>
              <a:t>B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) o los reales (</a:t>
            </a:r>
            <a:r>
              <a:rPr b="1" lang="es-ES_tradnl" sz="2400" spc="-1" strike="noStrike">
                <a:solidFill>
                  <a:srgbClr val="000066"/>
                </a:solidFill>
                <a:latin typeface="Tahoma"/>
              </a:rPr>
              <a:t>R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También pueden suponerse como existentes otros tipos de datos complejos. Éstos se expresan entre paréntesis rect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Pueden definirse nuevos tipos en base a los existent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8E01-26E4-413B-AA62-3483BDEA37F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ntidad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Una entidad es una colección de objetos que comparten ciertas propiedades (similar a un tipo)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s propiedades de la entidad son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sus atributo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las relaciones en las que particip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Tipos usuales de entidad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cosas: reporte, una pantalla de despliegue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hechos o eventos: llamada telefónica, mail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roles: vendedor, estudiante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nidades administrativas: departamentos o secciones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lugares: talleres, galpones, escuelas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estructuras: archivos, pila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2590920"/>
            <a:ext cx="144792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Au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B5B0-FB9F-46A0-A407-A1921A3847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Tipos Complej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224000" y="2054160"/>
          <a:ext cx="7756560" cy="3987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24000" y="2054160"/>
                    <a:ext cx="7756560" cy="39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2438280" y="4419720"/>
            <a:ext cx="0" cy="152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307B-1B89-40A7-AB14-B040312674A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squemas Z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Un esquema define un tipo de dato complejo mediante la asignación de un tipo y posiblemente un valor a un conjunto de variables o identificador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os esquemas también definen invariantes que deben satisfacer los identificador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uego pueden definirse variables del tipo del esquem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2699280" y="3809880"/>
            <a:ext cx="32166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3333cc"/>
                </a:solidFill>
                <a:latin typeface="Times New Roman"/>
              </a:rPr>
              <a:t>[ESTUDIANTE][LOGIN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3333cc"/>
                </a:solidFill>
                <a:latin typeface="Times New Roman"/>
              </a:rPr>
              <a:t>Corre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3333cc"/>
                </a:solidFill>
                <a:latin typeface="Times New Roman"/>
              </a:rPr>
              <a:t>estudiantes : </a:t>
            </a: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3333cc"/>
                </a:solidFill>
                <a:latin typeface="Times New Roman"/>
              </a:rPr>
              <a:t>ESTUDIAN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3333cc"/>
                </a:solidFill>
                <a:latin typeface="Times New Roman"/>
              </a:rPr>
              <a:t>email : ESTUDIANTE </a:t>
            </a:r>
            <a:r>
              <a:rPr b="0" lang="es-ES" sz="24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</a:t>
            </a:r>
            <a:r>
              <a:rPr b="0" i="1" lang="es-ES_tradnl" sz="1800" spc="-1" strike="noStrike">
                <a:solidFill>
                  <a:srgbClr val="3333cc"/>
                </a:solidFill>
                <a:latin typeface="Times New Roman"/>
              </a:rPr>
              <a:t>LOG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(dom </a:t>
            </a:r>
            <a:r>
              <a:rPr b="0" i="1" lang="es-ES_tradnl" sz="1800" spc="-1" strike="noStrike">
                <a:solidFill>
                  <a:srgbClr val="3333cc"/>
                </a:solidFill>
                <a:latin typeface="Times New Roman"/>
              </a:rPr>
              <a:t>email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i="1" lang="es-ES_tradnl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3333cc"/>
                </a:solidFill>
                <a:latin typeface="Times New Roman"/>
              </a:rPr>
              <a:t>estudiante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590920" y="4575240"/>
            <a:ext cx="1522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05320" y="4575240"/>
            <a:ext cx="24382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90920" y="4575240"/>
            <a:ext cx="0" cy="1371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90920" y="5946840"/>
            <a:ext cx="33526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90920" y="5489640"/>
            <a:ext cx="1904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20040" y="41292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ipos dad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95880" y="4572000"/>
            <a:ext cx="76320" cy="838080"/>
          </a:xfrm>
          <a:custGeom>
            <a:avLst/>
            <a:gdLst>
              <a:gd name="textAreaLeft" fmla="*/ 0 w 76320"/>
              <a:gd name="textAreaRight" fmla="*/ 2736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53120" y="4762440"/>
            <a:ext cx="15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identificador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5880" y="548640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548640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invarian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438280" y="4114800"/>
            <a:ext cx="76320" cy="38088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20120" y="4114800"/>
            <a:ext cx="75960" cy="1981080"/>
          </a:xfrm>
          <a:custGeom>
            <a:avLst/>
            <a:gdLst>
              <a:gd name="textAreaLeft" fmla="*/ 0 w 75960"/>
              <a:gd name="textAreaRight" fmla="*/ 27360 w 759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849440" y="487692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esquem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3958-9F96-41FE-93E0-F1DAB559D4D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Inclusión de Esquem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Z permite definir nuevos esquemas mediante la inclusión de otros esquem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sto ayuda a la especificación modular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a definición del nuevo esquema corresponde a la unión de todos los identificadores y a la conjunción de todos los invariant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00240" y="3733560"/>
            <a:ext cx="3809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n este caso tenemos todos los estudiantes y los correos de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todos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los estudiant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sta inclusión agrega una restricción más poderos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4952880" y="1600200"/>
            <a:ext cx="3352680" cy="1828800"/>
            <a:chOff x="4952880" y="1600200"/>
            <a:chExt cx="3352680" cy="1828800"/>
          </a:xfrm>
        </p:grpSpPr>
        <p:sp>
          <p:nvSpPr>
            <p:cNvPr id="293" name=""/>
            <p:cNvSpPr/>
            <p:nvPr/>
          </p:nvSpPr>
          <p:spPr>
            <a:xfrm>
              <a:off x="5027040" y="1600200"/>
              <a:ext cx="2640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3333cc"/>
                  </a:solidFill>
                  <a:latin typeface="Times New Roman"/>
                </a:rPr>
                <a:t>CorreosRegistrado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3333cc"/>
                  </a:solidFill>
                  <a:latin typeface="Times New Roman"/>
                </a:rPr>
                <a:t>Correo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Times New Roman"/>
                </a:rPr>
                <a:t>(dom </a:t>
              </a:r>
              <a:r>
                <a:rPr b="0" i="1" lang="es-ES_tradnl" sz="1800" spc="-1" strike="noStrike">
                  <a:solidFill>
                    <a:srgbClr val="3333cc"/>
                  </a:solidFill>
                  <a:latin typeface="Times New Roman"/>
                </a:rPr>
                <a:t>email</a:t>
              </a:r>
              <a:r>
                <a:rPr b="0" lang="es-ES_tradnl" sz="18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r>
                <a:rPr b="0" i="1" lang="es-ES_tradnl" sz="1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s-ES_tradnl" sz="1800" spc="-1" strike="noStrike">
                  <a:solidFill>
                    <a:srgbClr val="3333cc"/>
                  </a:solidFill>
                  <a:latin typeface="Times New Roman"/>
                </a:rPr>
                <a:t>= </a:t>
              </a:r>
              <a:r>
                <a:rPr b="0" i="1" lang="es-ES_tradnl" sz="1800" spc="-1" strike="noStrike">
                  <a:solidFill>
                    <a:srgbClr val="3333cc"/>
                  </a:solidFill>
                  <a:latin typeface="Times New Roman"/>
                </a:rPr>
                <a:t>estudiantes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952880" y="2362320"/>
              <a:ext cx="1522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933960" y="2362320"/>
              <a:ext cx="13716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952880" y="2362320"/>
              <a:ext cx="0" cy="10666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52880" y="3429000"/>
              <a:ext cx="33526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52880" y="2894040"/>
              <a:ext cx="19047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5B6E-9F90-454B-BA6F-83F6113086B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specificación de Comportamient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62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as operaciones sobre el estado de un esquema son transiciones entre estados válid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e debe especificar el valor de los identificadores después de aplicar la operación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as variables después de la operación se anotan con una prima (‘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e anota con una Delta (Δ) el nombre del esquema al que se le aplica la operación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47960" y="3429000"/>
            <a:ext cx="41907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n general la relación entre los valores anteriores y los nuevos se establece en el invariante del esquem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nuevo?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 es un nuevo estudiante a agregar a la lista; nótese que no se registra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login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para este nuevo estudiant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2" name=""/>
          <p:cNvSpPr/>
          <p:nvPr/>
        </p:nvSpPr>
        <p:spPr>
          <a:xfrm>
            <a:off x="5023800" y="838080"/>
            <a:ext cx="3497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3333cc"/>
                </a:solidFill>
                <a:latin typeface="Times New Roman"/>
              </a:rPr>
              <a:t>NuevoAlumn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Δ</a:t>
            </a:r>
            <a:r>
              <a:rPr b="0" i="1" lang="es-ES_tradnl" sz="1800" spc="-1" strike="noStrike">
                <a:solidFill>
                  <a:srgbClr val="3333cc"/>
                </a:solidFill>
                <a:latin typeface="Times New Roman"/>
              </a:rPr>
              <a:t> Corre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3333cc"/>
                </a:solidFill>
                <a:latin typeface="Times New Roman"/>
              </a:rPr>
              <a:t>nuevo? : ESTUDIAN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estudiantes’ = estudiantes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</a:t>
            </a:r>
            <a:r>
              <a:rPr b="0" i="1" lang="es-ES_tradnl" sz="1800" spc="-1" strike="noStrike">
                <a:solidFill>
                  <a:srgbClr val="3333cc"/>
                </a:solidFill>
                <a:latin typeface="Times New Roman"/>
              </a:rPr>
              <a:t> nuevo?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3333cc"/>
                </a:solidFill>
                <a:latin typeface="Times New Roman"/>
              </a:rPr>
              <a:t>email’ = emai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1600200"/>
            <a:ext cx="1526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77120" y="1600200"/>
            <a:ext cx="18288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952880" y="1600200"/>
            <a:ext cx="0" cy="15238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3124080"/>
            <a:ext cx="33530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2438280"/>
            <a:ext cx="1905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06BD-3194-4481-AD8B-1DAFE9D7FBB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onceptos de ER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91320" y="5181480"/>
            <a:ext cx="2663640" cy="695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477120" y="2133720"/>
            <a:ext cx="1441440" cy="2054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33520" y="4800600"/>
            <a:ext cx="2663640" cy="695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1295280" y="1905120"/>
            <a:ext cx="1441440" cy="2054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79440" y="12193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Entidad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840" y="125424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Atributo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29040" y="13302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Relacion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23440" y="2473200"/>
            <a:ext cx="1128600" cy="131364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nombr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direcció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eda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RU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7480" y="4495680"/>
            <a:ext cx="1140840" cy="16185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marc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model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añ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matrícul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colo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6960" y="439272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pose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86600" y="4226040"/>
            <a:ext cx="0" cy="8380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315900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5140440"/>
            <a:ext cx="7621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C17D-9DFB-4301-BE4B-340BB35A51E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Atribu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Definen las propiedades de las entidades (y a veces también de las relaciones)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e usan para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Identificar a una instancia de la entidad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describir la instancia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hacer referencia a una instancia en otra entidad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Un atributo (o conjunto de atributos) llave o clave es el que identifica un único elemento de la entida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343400" y="4876920"/>
          <a:ext cx="3624120" cy="125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43400" y="4876920"/>
                    <a:ext cx="362412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762120" y="5181480"/>
            <a:ext cx="2282760" cy="595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038480" y="5334120"/>
            <a:ext cx="3657600" cy="304560"/>
          </a:xfrm>
          <a:prstGeom prst="wedgeRoundRectCallout">
            <a:avLst>
              <a:gd name="adj1" fmla="val -73523"/>
              <a:gd name="adj2" fmla="val 43231"/>
              <a:gd name="adj3" fmla="val 16667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2209680"/>
            <a:ext cx="1447920" cy="838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Automóvi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5920" y="1295280"/>
            <a:ext cx="53316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marca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05920" y="1828800"/>
            <a:ext cx="53316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modelo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05920" y="2362320"/>
            <a:ext cx="53316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año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05920" y="2895480"/>
            <a:ext cx="53316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matrícula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05920" y="3429000"/>
            <a:ext cx="53316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colo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9" idx="3"/>
            <a:endCxn id="68" idx="3"/>
          </p:cNvCxnSpPr>
          <p:nvPr/>
        </p:nvCxnSpPr>
        <p:spPr>
          <a:xfrm flipH="1">
            <a:off x="7848360" y="1685880"/>
            <a:ext cx="535680" cy="9439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5" name=""/>
          <p:cNvCxnSpPr>
            <a:stCxn id="70" idx="2"/>
            <a:endCxn id="68" idx="3"/>
          </p:cNvCxnSpPr>
          <p:nvPr/>
        </p:nvCxnSpPr>
        <p:spPr>
          <a:xfrm flipH="1">
            <a:off x="7848360" y="2057400"/>
            <a:ext cx="457920" cy="5724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6" name=""/>
          <p:cNvCxnSpPr>
            <a:stCxn id="71" idx="2"/>
            <a:endCxn id="68" idx="3"/>
          </p:cNvCxnSpPr>
          <p:nvPr/>
        </p:nvCxnSpPr>
        <p:spPr>
          <a:xfrm flipH="1">
            <a:off x="7848360" y="2590920"/>
            <a:ext cx="457920" cy="388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7" name=""/>
          <p:cNvCxnSpPr>
            <a:stCxn id="72" idx="2"/>
            <a:endCxn id="68" idx="3"/>
          </p:cNvCxnSpPr>
          <p:nvPr/>
        </p:nvCxnSpPr>
        <p:spPr>
          <a:xfrm flipH="1" flipV="1">
            <a:off x="7848360" y="2628360"/>
            <a:ext cx="457920" cy="4957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8" name=""/>
          <p:cNvCxnSpPr>
            <a:stCxn id="73" idx="1"/>
            <a:endCxn id="68" idx="3"/>
          </p:cNvCxnSpPr>
          <p:nvPr/>
        </p:nvCxnSpPr>
        <p:spPr>
          <a:xfrm flipH="1" flipV="1">
            <a:off x="7848360" y="2628360"/>
            <a:ext cx="535680" cy="8672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E879-538A-4E34-813F-C298AC3E8E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Relacion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5983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os elementos de datos se conectan de distintas form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Una relación R entre dos entidades A y B es un conjunto de parejas &lt;a,b&gt; donde a </a:t>
            </a:r>
            <a:r>
              <a:rPr b="0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A y b </a:t>
            </a:r>
            <a:r>
              <a:rPr b="0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B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n general las relaciones son entre dos entidades, pero pueden participar má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s relaciones también pueden tener atribut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s relaciones tienen además cardinalida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1" name=""/>
          <p:cNvSpPr/>
          <p:nvPr/>
        </p:nvSpPr>
        <p:spPr>
          <a:xfrm>
            <a:off x="6670800" y="3048120"/>
            <a:ext cx="1371600" cy="761760"/>
          </a:xfrm>
          <a:prstGeom prst="diamond">
            <a:avLst/>
          </a:prstGeom>
          <a:solidFill>
            <a:srgbClr val="ff99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vend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94480" y="914400"/>
            <a:ext cx="144792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Automóvi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499600" y="228600"/>
            <a:ext cx="53316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marca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499600" y="762120"/>
            <a:ext cx="53316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modelo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499600" y="1295280"/>
            <a:ext cx="53316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año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499600" y="1828800"/>
            <a:ext cx="53316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matrícula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499600" y="2362320"/>
            <a:ext cx="53316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colo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3" idx="3"/>
            <a:endCxn id="82" idx="3"/>
          </p:cNvCxnSpPr>
          <p:nvPr/>
        </p:nvCxnSpPr>
        <p:spPr>
          <a:xfrm flipH="1">
            <a:off x="8042040" y="619200"/>
            <a:ext cx="535680" cy="7149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89" name=""/>
          <p:cNvCxnSpPr>
            <a:stCxn id="84" idx="2"/>
            <a:endCxn id="82" idx="3"/>
          </p:cNvCxnSpPr>
          <p:nvPr/>
        </p:nvCxnSpPr>
        <p:spPr>
          <a:xfrm flipH="1">
            <a:off x="8042040" y="990720"/>
            <a:ext cx="457920" cy="3434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90" name=""/>
          <p:cNvCxnSpPr>
            <a:stCxn id="85" idx="2"/>
            <a:endCxn id="82" idx="3"/>
          </p:cNvCxnSpPr>
          <p:nvPr/>
        </p:nvCxnSpPr>
        <p:spPr>
          <a:xfrm flipH="1" flipV="1">
            <a:off x="8042040" y="1332720"/>
            <a:ext cx="457920" cy="1911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91" name=""/>
          <p:cNvCxnSpPr>
            <a:stCxn id="86" idx="2"/>
            <a:endCxn id="82" idx="3"/>
          </p:cNvCxnSpPr>
          <p:nvPr/>
        </p:nvCxnSpPr>
        <p:spPr>
          <a:xfrm flipH="1" flipV="1">
            <a:off x="8042040" y="1332720"/>
            <a:ext cx="457920" cy="7246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92" name=""/>
          <p:cNvCxnSpPr>
            <a:stCxn id="87" idx="1"/>
            <a:endCxn id="82" idx="3"/>
          </p:cNvCxnSpPr>
          <p:nvPr/>
        </p:nvCxnSpPr>
        <p:spPr>
          <a:xfrm flipH="1" flipV="1">
            <a:off x="8042040" y="1332720"/>
            <a:ext cx="535680" cy="10962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93" name=""/>
          <p:cNvSpPr/>
          <p:nvPr/>
        </p:nvSpPr>
        <p:spPr>
          <a:xfrm>
            <a:off x="6594480" y="4876920"/>
            <a:ext cx="144792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Concesionari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82" idx="2"/>
            <a:endCxn id="81" idx="0"/>
          </p:cNvCxnSpPr>
          <p:nvPr/>
        </p:nvCxnSpPr>
        <p:spPr>
          <a:xfrm>
            <a:off x="7318440" y="1752120"/>
            <a:ext cx="38880" cy="12963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95" name=""/>
          <p:cNvCxnSpPr>
            <a:stCxn id="81" idx="2"/>
            <a:endCxn id="93" idx="0"/>
          </p:cNvCxnSpPr>
          <p:nvPr/>
        </p:nvCxnSpPr>
        <p:spPr>
          <a:xfrm flipH="1">
            <a:off x="7318080" y="3809880"/>
            <a:ext cx="38880" cy="10677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96" name=""/>
          <p:cNvSpPr/>
          <p:nvPr/>
        </p:nvSpPr>
        <p:spPr>
          <a:xfrm>
            <a:off x="8575560" y="441972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empresa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575560" y="495288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direcció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575560" y="548640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responsabl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6" idx="2"/>
            <a:endCxn id="93" idx="3"/>
          </p:cNvCxnSpPr>
          <p:nvPr/>
        </p:nvCxnSpPr>
        <p:spPr>
          <a:xfrm flipH="1">
            <a:off x="8041680" y="4647960"/>
            <a:ext cx="533880" cy="6483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00" name=""/>
          <p:cNvCxnSpPr>
            <a:stCxn id="97" idx="2"/>
            <a:endCxn id="93" idx="3"/>
          </p:cNvCxnSpPr>
          <p:nvPr/>
        </p:nvCxnSpPr>
        <p:spPr>
          <a:xfrm flipH="1">
            <a:off x="8041680" y="5181480"/>
            <a:ext cx="533880" cy="1152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01" name=""/>
          <p:cNvCxnSpPr>
            <a:stCxn id="98" idx="2"/>
            <a:endCxn id="93" idx="3"/>
          </p:cNvCxnSpPr>
          <p:nvPr/>
        </p:nvCxnSpPr>
        <p:spPr>
          <a:xfrm flipH="1" flipV="1">
            <a:off x="8041680" y="5295600"/>
            <a:ext cx="533880" cy="4197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8499600" y="3200400"/>
            <a:ext cx="53316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precio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03" name=""/>
          <p:cNvCxnSpPr>
            <a:stCxn id="81" idx="3"/>
            <a:endCxn id="102" idx="2"/>
          </p:cNvCxnSpPr>
          <p:nvPr/>
        </p:nvCxnSpPr>
        <p:spPr>
          <a:xfrm>
            <a:off x="8042400" y="3428640"/>
            <a:ext cx="45792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DB3B-40CA-41BA-87EA-CB357FFEF5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Diagrama de ER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os diagramas ER fueron propuestos por Chen en 1977 para el diseño de bases de dat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os atributos suelen omitirse para no complicar excesivamente el diagram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828800" y="2666880"/>
            <a:ext cx="6476760" cy="3428640"/>
            <a:chOff x="1828800" y="2666880"/>
            <a:chExt cx="6476760" cy="3428640"/>
          </a:xfrm>
        </p:grpSpPr>
        <p:sp>
          <p:nvSpPr>
            <p:cNvPr id="107" name=""/>
            <p:cNvSpPr/>
            <p:nvPr/>
          </p:nvSpPr>
          <p:spPr>
            <a:xfrm>
              <a:off x="1897920" y="4127040"/>
              <a:ext cx="1309320" cy="698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66"/>
                  </a:solidFill>
                  <a:latin typeface="Times New Roman"/>
                </a:rPr>
                <a:t>Automóvil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58000" y="4127040"/>
              <a:ext cx="1309320" cy="698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66"/>
                  </a:solidFill>
                  <a:latin typeface="Times New Roman"/>
                </a:rPr>
                <a:t>Fabricante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309560" y="4064040"/>
              <a:ext cx="1514880" cy="888480"/>
            </a:xfrm>
            <a:prstGeom prst="diamond">
              <a:avLst/>
            </a:prstGeom>
            <a:solidFill>
              <a:srgbClr val="ff9900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66"/>
                  </a:solidFill>
                  <a:latin typeface="Times New Roman"/>
                </a:rPr>
                <a:t>Fabrica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110" name=""/>
            <p:cNvCxnSpPr>
              <a:stCxn id="107" idx="3"/>
              <a:endCxn id="109" idx="1"/>
            </p:cNvCxnSpPr>
            <p:nvPr/>
          </p:nvCxnSpPr>
          <p:spPr>
            <a:xfrm>
              <a:off x="3206880" y="4476600"/>
              <a:ext cx="1102680" cy="316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11" name=""/>
            <p:cNvCxnSpPr>
              <a:stCxn id="109" idx="3"/>
              <a:endCxn id="108" idx="1"/>
            </p:cNvCxnSpPr>
            <p:nvPr/>
          </p:nvCxnSpPr>
          <p:spPr>
            <a:xfrm flipV="1">
              <a:off x="5824800" y="4476600"/>
              <a:ext cx="1033560" cy="316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4378680" y="2793600"/>
              <a:ext cx="1307520" cy="6987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66"/>
                  </a:solidFill>
                  <a:latin typeface="Times New Roman"/>
                </a:rPr>
                <a:t>Concesionario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28800" y="2666880"/>
              <a:ext cx="1516680" cy="888480"/>
            </a:xfrm>
            <a:prstGeom prst="diamond">
              <a:avLst/>
            </a:prstGeom>
            <a:solidFill>
              <a:srgbClr val="ff9900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66"/>
                  </a:solidFill>
                  <a:latin typeface="Times New Roman"/>
                </a:rPr>
                <a:t>Vende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114" name=""/>
            <p:cNvCxnSpPr>
              <a:stCxn id="113" idx="2"/>
              <a:endCxn id="107" idx="0"/>
            </p:cNvCxnSpPr>
            <p:nvPr/>
          </p:nvCxnSpPr>
          <p:spPr>
            <a:xfrm flipH="1">
              <a:off x="2552040" y="3555000"/>
              <a:ext cx="34200" cy="57204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15" name=""/>
            <p:cNvCxnSpPr>
              <a:stCxn id="113" idx="3"/>
              <a:endCxn id="112" idx="1"/>
            </p:cNvCxnSpPr>
            <p:nvPr/>
          </p:nvCxnSpPr>
          <p:spPr>
            <a:xfrm>
              <a:off x="3345480" y="3110400"/>
              <a:ext cx="1033560" cy="316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  <p:sp>
          <p:nvSpPr>
            <p:cNvPr id="116" name=""/>
            <p:cNvSpPr/>
            <p:nvPr/>
          </p:nvSpPr>
          <p:spPr>
            <a:xfrm>
              <a:off x="6720120" y="2666880"/>
              <a:ext cx="1516680" cy="888480"/>
            </a:xfrm>
            <a:prstGeom prst="diamond">
              <a:avLst/>
            </a:prstGeom>
            <a:solidFill>
              <a:srgbClr val="ff9900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66"/>
                  </a:solidFill>
                  <a:latin typeface="Times New Roman"/>
                </a:rPr>
                <a:t>Autoriza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117" name=""/>
            <p:cNvCxnSpPr>
              <a:stCxn id="112" idx="3"/>
              <a:endCxn id="116" idx="1"/>
            </p:cNvCxnSpPr>
            <p:nvPr/>
          </p:nvCxnSpPr>
          <p:spPr>
            <a:xfrm flipV="1">
              <a:off x="5686560" y="3110400"/>
              <a:ext cx="1033560" cy="316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18" name=""/>
            <p:cNvCxnSpPr>
              <a:stCxn id="116" idx="2"/>
              <a:endCxn id="108" idx="0"/>
            </p:cNvCxnSpPr>
            <p:nvPr/>
          </p:nvCxnSpPr>
          <p:spPr>
            <a:xfrm>
              <a:off x="7479000" y="3555000"/>
              <a:ext cx="34200" cy="57204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119" name=""/>
            <p:cNvSpPr/>
            <p:nvPr/>
          </p:nvSpPr>
          <p:spPr>
            <a:xfrm>
              <a:off x="4447800" y="5270040"/>
              <a:ext cx="1307880" cy="698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66"/>
                  </a:solidFill>
                  <a:latin typeface="Times New Roman"/>
                </a:rPr>
                <a:t>Transportista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28800" y="5207040"/>
              <a:ext cx="1516680" cy="888480"/>
            </a:xfrm>
            <a:prstGeom prst="diamond">
              <a:avLst/>
            </a:prstGeom>
            <a:solidFill>
              <a:srgbClr val="ff9900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66"/>
                  </a:solidFill>
                  <a:latin typeface="Times New Roman"/>
                </a:rPr>
                <a:t>Transporta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07" idx="2"/>
              <a:endCxn id="120" idx="0"/>
            </p:cNvCxnSpPr>
            <p:nvPr/>
          </p:nvCxnSpPr>
          <p:spPr>
            <a:xfrm>
              <a:off x="2552400" y="4825080"/>
              <a:ext cx="34200" cy="38196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22" name=""/>
            <p:cNvCxnSpPr>
              <a:stCxn id="120" idx="3"/>
              <a:endCxn id="119" idx="1"/>
            </p:cNvCxnSpPr>
            <p:nvPr/>
          </p:nvCxnSpPr>
          <p:spPr>
            <a:xfrm flipV="1">
              <a:off x="3345120" y="5619600"/>
              <a:ext cx="1102680" cy="316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  <p:sp>
          <p:nvSpPr>
            <p:cNvPr id="123" name=""/>
            <p:cNvSpPr/>
            <p:nvPr/>
          </p:nvSpPr>
          <p:spPr>
            <a:xfrm>
              <a:off x="6789240" y="5207040"/>
              <a:ext cx="1516320" cy="888480"/>
            </a:xfrm>
            <a:prstGeom prst="diamond">
              <a:avLst/>
            </a:prstGeom>
            <a:solidFill>
              <a:srgbClr val="ff9900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66"/>
                  </a:solidFill>
                  <a:latin typeface="Times New Roman"/>
                </a:rPr>
                <a:t>Contrata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3"/>
              <a:endCxn id="123" idx="1"/>
            </p:cNvCxnSpPr>
            <p:nvPr/>
          </p:nvCxnSpPr>
          <p:spPr>
            <a:xfrm>
              <a:off x="5756040" y="5619600"/>
              <a:ext cx="1033560" cy="316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25" name=""/>
            <p:cNvCxnSpPr>
              <a:stCxn id="108" idx="2"/>
              <a:endCxn id="123" idx="0"/>
            </p:cNvCxnSpPr>
            <p:nvPr/>
          </p:nvCxnSpPr>
          <p:spPr>
            <a:xfrm>
              <a:off x="7512840" y="4825080"/>
              <a:ext cx="36000" cy="38196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126" name=""/>
            <p:cNvSpPr/>
            <p:nvPr/>
          </p:nvSpPr>
          <p:spPr>
            <a:xfrm>
              <a:off x="6639120" y="4175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93920" y="41641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66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73480" y="5341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035240" y="286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23960" y="3832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66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88040" y="4891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66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57840" y="5335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66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97480" y="479304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66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26600" y="2732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66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480800" y="383256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66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022A-7C4F-4684-8859-4D907E8411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ardinalidad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 cardinalidad de una relación es el número de instancias de una entidad que se relacionan con cada instancia de la otra entidad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819000" indent="-28548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no a uno (1:1): cada objeto de A se relaciona con a lo sumo uno y sólo un objeto de B (ej: profesor - oficina); 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819000" indent="-28548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no a muchos (1:N): cada objeto de A se relaciona con cero o más objetos de B, pero cada objeto de B se relaciona con sólo un objeto de A (ej: madre - hijos)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819000" indent="-28548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muchos a muchos (M:N): cada objeto de A puede  relacionarse con varios objetos de B, y cada objeto de B puede relacionarse con varios objetos de A (autor - revista)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7830-683B-4741-ACB5-286F52F215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Herenci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os diagramas ER permiten especificar jerarquías de entidades mediante relaciones especiales: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es un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Un objeto subordinado hereda todos los atributos de su ancestro y puede agregar algún otro atribut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Puede haber herencia múltiple, pero esto puede traer problemas de inconsistenci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5656320" y="1905120"/>
            <a:ext cx="1353960" cy="776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Person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19720" y="3429000"/>
            <a:ext cx="1353960" cy="776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Estudiant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75640" y="3429000"/>
            <a:ext cx="1353960" cy="776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Profeso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05320" y="5167440"/>
            <a:ext cx="1353960" cy="776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Licenciatur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5167440"/>
            <a:ext cx="1353960" cy="776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Magiste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21280" y="2870280"/>
            <a:ext cx="860400" cy="558720"/>
          </a:xfrm>
          <a:prstGeom prst="diamond">
            <a:avLst/>
          </a:prstGeom>
          <a:solidFill>
            <a:srgbClr val="ff99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es u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0" idx="2"/>
            <a:endCxn id="145" idx="0"/>
          </p:cNvCxnSpPr>
          <p:nvPr/>
        </p:nvCxnSpPr>
        <p:spPr>
          <a:xfrm>
            <a:off x="6334200" y="2680920"/>
            <a:ext cx="18000" cy="189720"/>
          </a:xfrm>
          <a:prstGeom prst="straightConnector1">
            <a:avLst/>
          </a:prstGeom>
          <a:ln w="9360">
            <a:solidFill>
              <a:srgbClr val="000066"/>
            </a:solidFill>
            <a:miter/>
            <a:headEnd len="med" type="triangle" w="med"/>
          </a:ln>
        </p:spPr>
      </p:cxnSp>
      <p:cxnSp>
        <p:nvCxnSpPr>
          <p:cNvPr id="147" name=""/>
          <p:cNvCxnSpPr>
            <a:stCxn id="145" idx="1"/>
            <a:endCxn id="141" idx="0"/>
          </p:cNvCxnSpPr>
          <p:nvPr/>
        </p:nvCxnSpPr>
        <p:spPr>
          <a:xfrm flipV="1" rot="10800000">
            <a:off x="5096880" y="3149280"/>
            <a:ext cx="824400" cy="280080"/>
          </a:xfrm>
          <a:prstGeom prst="bentConnector2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48" name=""/>
          <p:cNvCxnSpPr>
            <a:stCxn id="145" idx="3"/>
            <a:endCxn id="142" idx="0"/>
          </p:cNvCxnSpPr>
          <p:nvPr/>
        </p:nvCxnSpPr>
        <p:spPr>
          <a:xfrm>
            <a:off x="6781320" y="3149640"/>
            <a:ext cx="772200" cy="280080"/>
          </a:xfrm>
          <a:prstGeom prst="bentConnector2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49" name=""/>
          <p:cNvSpPr/>
          <p:nvPr/>
        </p:nvSpPr>
        <p:spPr>
          <a:xfrm>
            <a:off x="4648320" y="4394160"/>
            <a:ext cx="860400" cy="558720"/>
          </a:xfrm>
          <a:prstGeom prst="diamond">
            <a:avLst/>
          </a:prstGeom>
          <a:solidFill>
            <a:srgbClr val="ff99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es u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1" idx="2"/>
            <a:endCxn id="149" idx="0"/>
          </p:cNvCxnSpPr>
          <p:nvPr/>
        </p:nvCxnSpPr>
        <p:spPr>
          <a:xfrm flipH="1">
            <a:off x="5077800" y="4204800"/>
            <a:ext cx="19800" cy="189720"/>
          </a:xfrm>
          <a:prstGeom prst="straightConnector1">
            <a:avLst/>
          </a:prstGeom>
          <a:ln w="9360">
            <a:solidFill>
              <a:srgbClr val="000066"/>
            </a:solidFill>
            <a:miter/>
            <a:headEnd len="med" type="triangle" w="med"/>
          </a:ln>
        </p:spPr>
      </p:cxnSp>
      <p:cxnSp>
        <p:nvCxnSpPr>
          <p:cNvPr id="151" name=""/>
          <p:cNvCxnSpPr>
            <a:stCxn id="149" idx="1"/>
            <a:endCxn id="143" idx="0"/>
          </p:cNvCxnSpPr>
          <p:nvPr/>
        </p:nvCxnSpPr>
        <p:spPr>
          <a:xfrm flipV="1" rot="10800000">
            <a:off x="4182480" y="4673160"/>
            <a:ext cx="465840" cy="494640"/>
          </a:xfrm>
          <a:prstGeom prst="bentConnector2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52" name=""/>
          <p:cNvCxnSpPr>
            <a:stCxn id="149" idx="3"/>
            <a:endCxn id="144" idx="0"/>
          </p:cNvCxnSpPr>
          <p:nvPr/>
        </p:nvCxnSpPr>
        <p:spPr>
          <a:xfrm>
            <a:off x="5508720" y="4673520"/>
            <a:ext cx="504000" cy="494640"/>
          </a:xfrm>
          <a:prstGeom prst="bentConnector2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7238880" y="152388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nombr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38880" y="205740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ru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3" idx="2"/>
            <a:endCxn id="140" idx="3"/>
          </p:cNvCxnSpPr>
          <p:nvPr/>
        </p:nvCxnSpPr>
        <p:spPr>
          <a:xfrm flipH="1">
            <a:off x="7009560" y="1752480"/>
            <a:ext cx="229320" cy="5421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56" name=""/>
          <p:cNvCxnSpPr>
            <a:stCxn id="154" idx="2"/>
            <a:endCxn id="140" idx="3"/>
          </p:cNvCxnSpPr>
          <p:nvPr/>
        </p:nvCxnSpPr>
        <p:spPr>
          <a:xfrm flipH="1">
            <a:off x="7009560" y="2286000"/>
            <a:ext cx="229320" cy="86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57" name=""/>
          <p:cNvSpPr/>
          <p:nvPr/>
        </p:nvSpPr>
        <p:spPr>
          <a:xfrm>
            <a:off x="2666880" y="518148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promedio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57" idx="6"/>
            <a:endCxn id="143" idx="1"/>
          </p:cNvCxnSpPr>
          <p:nvPr/>
        </p:nvCxnSpPr>
        <p:spPr>
          <a:xfrm>
            <a:off x="3200040" y="5410080"/>
            <a:ext cx="305640" cy="1468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59" name=""/>
          <p:cNvSpPr/>
          <p:nvPr/>
        </p:nvSpPr>
        <p:spPr>
          <a:xfrm>
            <a:off x="7086600" y="533412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Profeso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guía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stCxn id="159" idx="2"/>
            <a:endCxn id="144" idx="3"/>
          </p:cNvCxnSpPr>
          <p:nvPr/>
        </p:nvCxnSpPr>
        <p:spPr>
          <a:xfrm flipH="1" flipV="1">
            <a:off x="6687360" y="5555880"/>
            <a:ext cx="399240" cy="72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61" name=""/>
          <p:cNvSpPr/>
          <p:nvPr/>
        </p:nvSpPr>
        <p:spPr>
          <a:xfrm>
            <a:off x="3505320" y="3581280"/>
            <a:ext cx="53316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ingreso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61" idx="6"/>
            <a:endCxn id="141" idx="1"/>
          </p:cNvCxnSpPr>
          <p:nvPr/>
        </p:nvCxnSpPr>
        <p:spPr>
          <a:xfrm>
            <a:off x="4038120" y="3809880"/>
            <a:ext cx="381960" cy="86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63" name=""/>
          <p:cNvSpPr/>
          <p:nvPr/>
        </p:nvSpPr>
        <p:spPr>
          <a:xfrm>
            <a:off x="7238880" y="259092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facultad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40" idx="3"/>
            <a:endCxn id="163" idx="2"/>
          </p:cNvCxnSpPr>
          <p:nvPr/>
        </p:nvCxnSpPr>
        <p:spPr>
          <a:xfrm>
            <a:off x="7009920" y="2293920"/>
            <a:ext cx="229320" cy="5263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65" name=""/>
          <p:cNvSpPr/>
          <p:nvPr/>
        </p:nvSpPr>
        <p:spPr>
          <a:xfrm>
            <a:off x="2666880" y="571500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especialidad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65" idx="6"/>
            <a:endCxn id="143" idx="1"/>
          </p:cNvCxnSpPr>
          <p:nvPr/>
        </p:nvCxnSpPr>
        <p:spPr>
          <a:xfrm flipV="1">
            <a:off x="3200040" y="5555880"/>
            <a:ext cx="305640" cy="388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67" name=""/>
          <p:cNvSpPr/>
          <p:nvPr/>
        </p:nvSpPr>
        <p:spPr>
          <a:xfrm>
            <a:off x="8458200" y="327672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grado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458200" y="388620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cargo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67" idx="2"/>
            <a:endCxn id="142" idx="3"/>
          </p:cNvCxnSpPr>
          <p:nvPr/>
        </p:nvCxnSpPr>
        <p:spPr>
          <a:xfrm flipH="1">
            <a:off x="8228880" y="3505320"/>
            <a:ext cx="229320" cy="3132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70" name=""/>
          <p:cNvCxnSpPr>
            <a:stCxn id="168" idx="2"/>
            <a:endCxn id="142" idx="3"/>
          </p:cNvCxnSpPr>
          <p:nvPr/>
        </p:nvCxnSpPr>
        <p:spPr>
          <a:xfrm flipH="1" flipV="1">
            <a:off x="8228880" y="3817080"/>
            <a:ext cx="229320" cy="2977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1971-DFA4-48FC-9FDB-0EE7B0F5B6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17:06:55Z</dcterms:created>
  <dc:creator>cecilia</dc:creator>
  <dc:description/>
  <dc:language>en-US</dc:language>
  <cp:lastModifiedBy>Sergio F. Ochoa</cp:lastModifiedBy>
  <cp:lastPrinted>2000-08-23T18:16:13Z</cp:lastPrinted>
  <dcterms:modified xsi:type="dcterms:W3CDTF">2005-10-04T18:22:18Z</dcterms:modified>
  <cp:revision>89</cp:revision>
  <dc:subject/>
  <dc:title>CC31B: Desarrollo de Software de Aplicacio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cecilia@dcc.uchile.cl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SoftAplic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