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C02-A19D-40A7-B499-58B5DBF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63A-1DFB-47D5-96B6-BCDAA0F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AC0-BCD2-4478-8F32-81D2770B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609-C569-4933-8E05-60B9FBD7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7CF-0E56-4B4D-9384-619A3BC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D1E-0451-4120-82CA-BA686D1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4C7-5935-406B-9614-244814B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9C2-DAC6-4A46-BA80-3B6C0B75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776-AFAB-492E-8481-B07FCFC0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0DE-1A9B-4326-81C7-CECD45C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098-8D22-45CF-95C4-AB54EE6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7F2-A8E4-4A50-ABE2-07F2937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C77-63A6-4DFC-9E39-A542B2294139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Descrip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52480" y="3657600"/>
          <a:ext cx="4876920" cy="30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657600"/>
                    <a:ext cx="48769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3880"/>
            <a:ext cx="822960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El modelo de datos consiste en identificar gráficamente las entidades (o tablas) que participan en mi sistema, ya sean nuevas o existent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Identificar la clave primaria y las claves foráneas de cada un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802-7C46-4815-B12B-A44A30E173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45482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CD5-F079-4438-AFC8-7939F12FF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ccionari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00200" y="2108160"/>
          <a:ext cx="6335640" cy="46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Por cada tabla se especifican los campos y su forma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D44-0416-49BD-B40B-95B8C667D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ER son muy ampliamente usados en la prác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n altamente expresivos y fáciles de entender por personas no especialis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herramientas de apoyo al diseño de diagramas 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como base para el diseño de bases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41D-FDA0-435D-A744-6227C174F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as Características de los Diagramas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tación concisa para especificar los datos manejados por una aplicación….. pero la notación no es estánd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iertos análisis pueden aplicarse al modelo…. pero la notación es limitada para especificar propiedades complej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 puede adivinar mucha de la funcionalidad que tendrá un sistema, analizando el diagrama ER… pero eso no evita que se tengan que definir y especificar los requisi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9D6-AB81-4C77-9630-3966091A4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pecificaciones algebraicas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n una alternativa para describir otra cara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istemas grandes se componen de subsist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proceso de especificación consiste en definir estos subsistemas y sus interfac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ubsistemas se desarrollan independiente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subsistema se ve como un tipo de dato abstracto (ADT) u obje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 datos y funcionalidad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lamente la interfaz es visible para los demás módul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130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especificaciones algebraicas son completamente form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ún incompletas, las especificaciones formales ayudan a detectar inconsistenci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76920" y="4952880"/>
            <a:ext cx="1447560" cy="1143000"/>
            <a:chOff x="4876920" y="4952880"/>
            <a:chExt cx="1447560" cy="1143000"/>
          </a:xfrm>
        </p:grpSpPr>
        <p:sp>
          <p:nvSpPr>
            <p:cNvPr id="193" name=""/>
            <p:cNvSpPr/>
            <p:nvPr/>
          </p:nvSpPr>
          <p:spPr>
            <a:xfrm>
              <a:off x="4876920" y="4952880"/>
              <a:ext cx="14475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4952880"/>
              <a:ext cx="4572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5029200"/>
              <a:ext cx="15228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5410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5791320"/>
              <a:ext cx="22860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7086600" y="4952880"/>
            <a:ext cx="14479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86600" y="4952880"/>
            <a:ext cx="4572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38880" y="50292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238880" y="5334120"/>
            <a:ext cx="15264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62920" y="5791320"/>
            <a:ext cx="304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3"/>
            <a:endCxn id="201" idx="1"/>
          </p:cNvCxnSpPr>
          <p:nvPr/>
        </p:nvCxnSpPr>
        <p:spPr>
          <a:xfrm>
            <a:off x="6171840" y="5181120"/>
            <a:ext cx="1067400" cy="304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1"/>
            <a:endCxn id="197" idx="3"/>
          </p:cNvCxnSpPr>
          <p:nvPr/>
        </p:nvCxnSpPr>
        <p:spPr>
          <a:xfrm flipH="1">
            <a:off x="6171480" y="5484960"/>
            <a:ext cx="1067400" cy="421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2" idx="1"/>
            <a:endCxn id="196" idx="3"/>
          </p:cNvCxnSpPr>
          <p:nvPr/>
        </p:nvCxnSpPr>
        <p:spPr>
          <a:xfrm flipH="1" flipV="1">
            <a:off x="6248160" y="5486040"/>
            <a:ext cx="915120" cy="4183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172200" y="510552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3316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408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9840" y="41911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lemen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a interfa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6629400" y="388584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935-471F-4F7F-83CD-EF8F69009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un T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cabezamien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 l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rámetros genér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troducció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l tipo (sort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finiciones importa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ir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y parámetros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xiom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mántica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001-924B-4B53-A8CB-84D399527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 Genéric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s arrays son colecciones de elementos de un tipo genérico Elem. Tiene un primer y un último elemento. Elementos particulares pueden accederse a través de un índice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signar (Array, Integer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rray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Crear (x, y)) = x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signar (a, n, v)) = Primer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Crear (x, y)) = 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signar (a, n, v)) = Ultim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Crear (x, y), n) =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signar (a, n, v), m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lt; Primer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gt; Ultim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= n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valuar (a, m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371600"/>
            <a:ext cx="6553080" cy="48006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280" y="1233360"/>
            <a:ext cx="13784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RRAY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057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1148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071-3BB0-4AE0-9337-81157E5CC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r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 de las interfac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signar nombres a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mbrar tipos, sorts y decidir si se requieren parámetr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ección de operacion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dentificar operaciones de acuerdo a la interfaz (crear elementos del tipo, modificarlos, inspeccionarl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ón informal de opera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la sintaxis (firm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axio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170-340A-4303-B281-AB6E9CB7E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a Lista Genér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129528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lista donde los elementos se agregan al final y se sacan por el principio. Las operaciones son Crear, Cons, Longitud, Cabeza y Col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ns (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rear) = Indefinido -- Error al evaluar una lista vací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ons (L, v)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abeza (L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rear) = 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ons (L, v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rear) = Crea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ons (L, v)) =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reate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ns (Cola (L)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447920"/>
            <a:ext cx="6553080" cy="45720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34560" y="1309680"/>
            <a:ext cx="128700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ISTA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8954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1911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F5F-9DD4-477D-A93C-20BE29A584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Entidad-Rel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de ER describen conceptualmente la estructura de los dato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claro si la especificación de datos o de funcionalidad debe hacerse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suelen ser más estables para definir el dominio de aplicación, pero la funcionalidad puede ayudar mejor a comprender este domini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tres conceptos básic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ntidad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laci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tribu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6A2-3ACF-44BD-A65A-D1ED5D2F4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xio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dos tipos de opera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constru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en o modifican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inspe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alúan atributos de los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gl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constru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inspe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cribir un axioma para cada inspector sobre cada construct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968-5093-4566-89ED-520F2E48D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specificaciones algebraicas es una actividad cara, lenta y trabajo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strategia consiste en reutilizar especificaciones ya escri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ategi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stanciar especificaciones genéric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arrollar especificaciones incrementalm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finar especific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D0D-5AD2-4A8F-A513-25DED4EB43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r Especificaciones 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ADT definidos como genéricos requieren que se le asigne un tipo a cada parámetro de la lis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95280" y="3657600"/>
            <a:ext cx="6629040" cy="990720"/>
            <a:chOff x="1295280" y="3657600"/>
            <a:chExt cx="6629040" cy="990720"/>
          </a:xfrm>
        </p:grpSpPr>
        <p:sp>
          <p:nvSpPr>
            <p:cNvPr id="237" name=""/>
            <p:cNvSpPr/>
            <p:nvPr/>
          </p:nvSpPr>
          <p:spPr>
            <a:xfrm>
              <a:off x="1371960" y="3657600"/>
              <a:ext cx="6475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     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sort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Char_array instantiates Array (Elem := Char)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imports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INTEGER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5280" y="3810240"/>
              <a:ext cx="6629040" cy="838080"/>
            </a:xfrm>
            <a:prstGeom prst="flowChartAlternateProcess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9080" y="3672000"/>
              <a:ext cx="2100960" cy="32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CHAR_ARRAY : ARRAY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21A-4DC2-46E7-A5C0-7B143910B1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Increment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ones de ADTs simples se importan y usan para definir ADTs más complej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odas las operaciones definidas están disponibles para 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simple: sistema de coordena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complejo: cursor para la pantall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767-A094-4BE3-B8D5-27D8F30D71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9810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 tipo que representa un par de coordenadas cartesianas. Las operaciones definidas son X e Y, que evalúan cada una de las componentes, e Igual que compara dos coordenadas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oord, 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rear (x, y)) = x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rear (x, y)) = y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rear (x1, y1), Crear (x2, y2)) = (( x1 = x2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(y1 = y2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133720"/>
            <a:ext cx="6553080" cy="350496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07200" y="1995480"/>
            <a:ext cx="85752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3581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46483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orden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30A-2A7D-44A1-91AC-F6858CB628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828800"/>
            <a:ext cx="6782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COORD, BITMAP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n cursor es la descripción de un punto en la pantalla. Crear define un ícono en la posición indicada de la pantalla. Las operaciones son Posición, Trasladar, y CambiarÍcono. La operación Desplegar no se define formalmente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ursor, 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ursor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splegar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rear (C, Ícono), xd, yd) =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.Crear (X(C)+xd, Y(C)+yd), Ícono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rear (C, Ícono)) = C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Trasladar (C, xd, yd)) = COORD.Crear (X(C)+xd, Y(C)+yd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rear (C, Ícono), Ícono2) = Crear (C, Ícono2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981080"/>
            <a:ext cx="67816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12960" y="1843200"/>
            <a:ext cx="9320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668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7242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0D1-DEAB-4FF8-9CC0-99ECD2DF80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finar Especific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especificaciones es similar a la herencia en orientación a obje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operaciones y los axiomas del ADT base se heredan y son parte de la nuev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uevas operaciones y axiomas se define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gunas operaciones y axiomas pueden redefinirse (sobreescribirse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importar una especificación, las operaciones se hacen accesibles pero no forman parte d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C69-5899-47EA-B2F3-334F641EE0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Nueva Lis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60020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nrich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forma extendida de lista que hereda las operaciones y las propiedades de Lista y agrega nuevas operaciones: Agregar y Miembro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Crear, v) = Cons (Crear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rear, v) = FALSE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Agregar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ons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Agregar (L, v)) = v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Agregar (L, v)) = L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Agregar (L, v)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752480"/>
            <a:ext cx="65530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3080" y="1616040"/>
            <a:ext cx="325476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NUEVA_LISTA (Elem; ==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imes New Roman"/>
              </a:rPr>
              <a:t>  Boolea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438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3200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A86-27A8-4C07-8768-FDC4B39719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Z y 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s métodos se usan cuando los otros métodos no son apropia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complejos donde la intuición no ayuda much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muy novedo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formales son fórmulas que pueden ser evaluadas automáticament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programas son especificaciones formales de bajo nive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especificaciones formales tienen mayor abstrac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miten especificar sin ambigüedades lo que el programa hará y encontrar errores tempran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90B-889C-415C-96C8-6064C955F5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Lógicas: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Z es un lenguaje de especificación formal basado en teoría de conjuntos y lógica de primer ord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los símbolos más habituales: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۸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۷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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te lenguaje se especifican objetos matemát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tipos de datos básicos como los natur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, los datos lógico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 o los re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ambién pueden suponerse como existentes otros tipos de datos complejos. Éstos se expresan entre paréntesis r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ueden definirse nuevos tipos en base a los exist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E0B-07A6-4BFD-808D-FE1F2AA46B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entidad es una colección de objetos que comparten ciertas propiedades (similar a un tip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propiedades de la entidad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us atribu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relaciones en las que particip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ipos usuales de ent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sas: reporte, una pantalla de despliegu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echos o eventos: llamada telefónica, mail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oles: vendedor, estudia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idades administrativas: departamentos o se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ugares: talleres, galpones, escuel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ructuras: archivos, pil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590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924-DF78-4593-B262-42DEB7BC6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ipos Complej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24000" y="2054160"/>
          <a:ext cx="7756560" cy="39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0" y="2054160"/>
                    <a:ext cx="775656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5C5-430A-4374-BB6A-F98266C18F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quemas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esquema define un tipo de dato complejo mediante la asignación de un tipo y posiblemente un valor a un conjunto de variables o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quemas también definen invariantes que deben satisfacer los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pueden definirse variables del tipo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699280" y="3809880"/>
            <a:ext cx="3216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[ESTUDIANTE][LOGI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: </a:t>
            </a: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 : ESTUDIANTE </a:t>
            </a:r>
            <a:r>
              <a:rPr b="0" lang="es-E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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(dom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457524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575240"/>
            <a:ext cx="2438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4575240"/>
            <a:ext cx="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5946840"/>
            <a:ext cx="335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5489640"/>
            <a:ext cx="1904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20040" y="4129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ipos d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45720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3120" y="476244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dor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54864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54864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nvar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4114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4114800"/>
            <a:ext cx="75960" cy="198108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49440" y="4876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squ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5A7-2908-4CD9-9D24-34F1184093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clusión de Esque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Z permite definir nuevos esquemas mediante la inclusión de otros esqu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ayuda a la especificación modu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definición del nuevo esquema corresponde a la unión de todos los identificadores y a la conjunción de todos los invar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00240" y="37335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ste caso tenemos todos los estudiantes y los corre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tod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los estud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inclusión agrega una restricción más poderos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952880" y="1600200"/>
            <a:ext cx="3352680" cy="1828800"/>
            <a:chOff x="4952880" y="1600200"/>
            <a:chExt cx="3352680" cy="1828800"/>
          </a:xfrm>
        </p:grpSpPr>
        <p:sp>
          <p:nvSpPr>
            <p:cNvPr id="293" name=""/>
            <p:cNvSpPr/>
            <p:nvPr/>
          </p:nvSpPr>
          <p:spPr>
            <a:xfrm>
              <a:off x="5027040" y="1600200"/>
              <a:ext cx="264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Registrad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(dom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mail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studiantes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2362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33960" y="2362320"/>
              <a:ext cx="1371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52880" y="236232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3429000"/>
              <a:ext cx="3352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2894040"/>
              <a:ext cx="1904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58D-D20D-40D8-B615-C7DCFFF724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ón de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operaciones sobre el estado de un esquema son transiciones entre estados vál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debe especificar el valor de los identificadores después de aplicar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variables después de la operación se anotan con una prima (‘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nota con una Delta (Δ) el nombre del esquema al que se le aplica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7960" y="34290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general la relación entre los valores anteriores y los nuevos se establece en el invariante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uevo?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s un nuevo estudiante a agregar a la lista; nótese que no se registr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logi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este nuevo estudia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5023800" y="838080"/>
            <a:ext cx="34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Alu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? : 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estudiantes’ = estudiantes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nuevo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’ = emai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6002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1600200"/>
            <a:ext cx="1828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600200"/>
            <a:ext cx="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124080"/>
            <a:ext cx="3353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438280"/>
            <a:ext cx="1905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FD4-C153-4FB6-8A41-7F055E3C90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eptos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1320" y="5181480"/>
            <a:ext cx="2663640" cy="69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144144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800600"/>
            <a:ext cx="266364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295280" y="1905120"/>
            <a:ext cx="1441440" cy="205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7944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tida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840" y="12542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040" y="1330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3440" y="2473200"/>
            <a:ext cx="1128600" cy="1313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7480" y="4495680"/>
            <a:ext cx="1140840" cy="1618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960" y="4392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se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422604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15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514044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DF4-3E1D-4A03-93D1-B1D460BD0D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tribu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en las propiedades de las entidades (y a veces también de las relacion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par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dentificar a una instancia de la ent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cribir la instanci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acer referencia a una instancia en otra entida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atributo (o conjunto de atributos) llave o clave es el que identifica un único elemento de la ent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4876920"/>
          <a:ext cx="3624120" cy="125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876920"/>
                    <a:ext cx="36241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2282760" cy="59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5334120"/>
            <a:ext cx="3657600" cy="304560"/>
          </a:xfrm>
          <a:prstGeom prst="wedgeRoundRectCallout">
            <a:avLst>
              <a:gd name="adj1" fmla="val -73523"/>
              <a:gd name="adj2" fmla="val 43231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209680"/>
            <a:ext cx="144792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8954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3429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9" idx="3"/>
            <a:endCxn id="68" idx="3"/>
          </p:cNvCxnSpPr>
          <p:nvPr/>
        </p:nvCxnSpPr>
        <p:spPr>
          <a:xfrm flipH="1">
            <a:off x="7848360" y="1685880"/>
            <a:ext cx="535680" cy="943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5" name=""/>
          <p:cNvCxnSpPr>
            <a:stCxn id="70" idx="2"/>
            <a:endCxn id="68" idx="3"/>
          </p:cNvCxnSpPr>
          <p:nvPr/>
        </p:nvCxnSpPr>
        <p:spPr>
          <a:xfrm flipH="1">
            <a:off x="7848360" y="2057400"/>
            <a:ext cx="457920" cy="572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6" name=""/>
          <p:cNvCxnSpPr>
            <a:stCxn id="71" idx="2"/>
            <a:endCxn id="68" idx="3"/>
          </p:cNvCxnSpPr>
          <p:nvPr/>
        </p:nvCxnSpPr>
        <p:spPr>
          <a:xfrm flipH="1">
            <a:off x="7848360" y="2590920"/>
            <a:ext cx="457920" cy="38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" name=""/>
          <p:cNvCxnSpPr>
            <a:stCxn id="72" idx="2"/>
            <a:endCxn id="68" idx="3"/>
          </p:cNvCxnSpPr>
          <p:nvPr/>
        </p:nvCxnSpPr>
        <p:spPr>
          <a:xfrm flipH="1" flipV="1">
            <a:off x="7848360" y="2628360"/>
            <a:ext cx="457920" cy="495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" name=""/>
          <p:cNvCxnSpPr>
            <a:stCxn id="73" idx="1"/>
            <a:endCxn id="68" idx="3"/>
          </p:cNvCxnSpPr>
          <p:nvPr/>
        </p:nvCxnSpPr>
        <p:spPr>
          <a:xfrm flipH="1" flipV="1">
            <a:off x="7848360" y="2628360"/>
            <a:ext cx="535680" cy="867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9BC-104C-4401-ABA2-9D0985C64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l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983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elementos de datos se conectan de distintas for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relación R entre dos entidades A y B es un conjunto de parejas &lt;a,b&gt; donde a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A y b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las relaciones son entre dos entidades, pero pueden participar 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ambién pueden tener atribu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ienen además cardi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6670800" y="3048120"/>
            <a:ext cx="1371600" cy="7617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ven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94480" y="914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99600" y="2286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0" y="7621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9960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9960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3" idx="3"/>
            <a:endCxn id="82" idx="3"/>
          </p:cNvCxnSpPr>
          <p:nvPr/>
        </p:nvCxnSpPr>
        <p:spPr>
          <a:xfrm flipH="1">
            <a:off x="8042040" y="619200"/>
            <a:ext cx="535680" cy="71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9" name=""/>
          <p:cNvCxnSpPr>
            <a:stCxn id="84" idx="2"/>
            <a:endCxn id="82" idx="3"/>
          </p:cNvCxnSpPr>
          <p:nvPr/>
        </p:nvCxnSpPr>
        <p:spPr>
          <a:xfrm flipH="1">
            <a:off x="8042040" y="990720"/>
            <a:ext cx="457920" cy="343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0" name=""/>
          <p:cNvCxnSpPr>
            <a:stCxn id="85" idx="2"/>
            <a:endCxn id="82" idx="3"/>
          </p:cNvCxnSpPr>
          <p:nvPr/>
        </p:nvCxnSpPr>
        <p:spPr>
          <a:xfrm flipH="1" flipV="1">
            <a:off x="8042040" y="1332720"/>
            <a:ext cx="457920" cy="191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1" name=""/>
          <p:cNvCxnSpPr>
            <a:stCxn id="86" idx="2"/>
            <a:endCxn id="82" idx="3"/>
          </p:cNvCxnSpPr>
          <p:nvPr/>
        </p:nvCxnSpPr>
        <p:spPr>
          <a:xfrm flipH="1" flipV="1">
            <a:off x="8042040" y="1332720"/>
            <a:ext cx="45792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2" name=""/>
          <p:cNvCxnSpPr>
            <a:stCxn id="87" idx="1"/>
            <a:endCxn id="82" idx="3"/>
          </p:cNvCxnSpPr>
          <p:nvPr/>
        </p:nvCxnSpPr>
        <p:spPr>
          <a:xfrm flipH="1" flipV="1">
            <a:off x="8042040" y="1332720"/>
            <a:ext cx="535680" cy="1096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594480" y="4876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ncesion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2" idx="2"/>
            <a:endCxn id="81" idx="0"/>
          </p:cNvCxnSpPr>
          <p:nvPr/>
        </p:nvCxnSpPr>
        <p:spPr>
          <a:xfrm>
            <a:off x="7318440" y="1752120"/>
            <a:ext cx="38880" cy="1296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5" name=""/>
          <p:cNvCxnSpPr>
            <a:stCxn id="81" idx="2"/>
            <a:endCxn id="93" idx="0"/>
          </p:cNvCxnSpPr>
          <p:nvPr/>
        </p:nvCxnSpPr>
        <p:spPr>
          <a:xfrm flipH="1">
            <a:off x="7318080" y="3809880"/>
            <a:ext cx="38880" cy="106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8575560" y="4419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mpres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75560" y="4952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5486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esponsab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3" idx="3"/>
          </p:cNvCxnSpPr>
          <p:nvPr/>
        </p:nvCxnSpPr>
        <p:spPr>
          <a:xfrm flipH="1">
            <a:off x="8041680" y="4647960"/>
            <a:ext cx="5338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0" name=""/>
          <p:cNvCxnSpPr>
            <a:stCxn id="97" idx="2"/>
            <a:endCxn id="93" idx="3"/>
          </p:cNvCxnSpPr>
          <p:nvPr/>
        </p:nvCxnSpPr>
        <p:spPr>
          <a:xfrm flipH="1">
            <a:off x="8041680" y="5181480"/>
            <a:ext cx="533880" cy="11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1" name=""/>
          <p:cNvCxnSpPr>
            <a:stCxn id="98" idx="2"/>
            <a:endCxn id="93" idx="3"/>
          </p:cNvCxnSpPr>
          <p:nvPr/>
        </p:nvCxnSpPr>
        <p:spPr>
          <a:xfrm flipH="1" flipV="1">
            <a:off x="8041680" y="5295600"/>
            <a:ext cx="533880" cy="419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8499600" y="32004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1" idx="3"/>
            <a:endCxn id="102" idx="2"/>
          </p:cNvCxnSpPr>
          <p:nvPr/>
        </p:nvCxnSpPr>
        <p:spPr>
          <a:xfrm>
            <a:off x="8042400" y="34286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417-FF4C-4875-8E23-037BCFAC8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fueron propuestos por Chen en 1977 para el diseño de bases de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atributos suelen omitirse para no complicar excesivamente el diagra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28800" y="2666880"/>
            <a:ext cx="6476760" cy="3428640"/>
            <a:chOff x="1828800" y="2666880"/>
            <a:chExt cx="6476760" cy="3428640"/>
          </a:xfrm>
        </p:grpSpPr>
        <p:sp>
          <p:nvSpPr>
            <p:cNvPr id="107" name=""/>
            <p:cNvSpPr/>
            <p:nvPr/>
          </p:nvSpPr>
          <p:spPr>
            <a:xfrm>
              <a:off x="189792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móvil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nt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9560" y="4064040"/>
              <a:ext cx="15148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7" idx="3"/>
              <a:endCxn id="109" idx="1"/>
            </p:cNvCxnSpPr>
            <p:nvPr/>
          </p:nvCxnSpPr>
          <p:spPr>
            <a:xfrm>
              <a:off x="3206880" y="4476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1" name=""/>
            <p:cNvCxnSpPr>
              <a:stCxn id="109" idx="3"/>
              <a:endCxn id="108" idx="1"/>
            </p:cNvCxnSpPr>
            <p:nvPr/>
          </p:nvCxnSpPr>
          <p:spPr>
            <a:xfrm flipV="1">
              <a:off x="5824800" y="4476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378680" y="2793600"/>
              <a:ext cx="1307520" cy="69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cesionari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Vend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3" idx="2"/>
              <a:endCxn id="107" idx="0"/>
            </p:cNvCxnSpPr>
            <p:nvPr/>
          </p:nvCxnSpPr>
          <p:spPr>
            <a:xfrm flipH="1">
              <a:off x="255204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5" name=""/>
            <p:cNvCxnSpPr>
              <a:stCxn id="113" idx="3"/>
              <a:endCxn id="112" idx="1"/>
            </p:cNvCxnSpPr>
            <p:nvPr/>
          </p:nvCxnSpPr>
          <p:spPr>
            <a:xfrm>
              <a:off x="334548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2012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riz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2" idx="3"/>
              <a:endCxn id="116" idx="1"/>
            </p:cNvCxnSpPr>
            <p:nvPr/>
          </p:nvCxnSpPr>
          <p:spPr>
            <a:xfrm flipV="1">
              <a:off x="568656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8" name=""/>
            <p:cNvCxnSpPr>
              <a:stCxn id="116" idx="2"/>
              <a:endCxn id="108" idx="0"/>
            </p:cNvCxnSpPr>
            <p:nvPr/>
          </p:nvCxnSpPr>
          <p:spPr>
            <a:xfrm>
              <a:off x="747900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4447800" y="5270040"/>
              <a:ext cx="130788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is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20704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07" idx="2"/>
              <a:endCxn id="120" idx="0"/>
            </p:cNvCxnSpPr>
            <p:nvPr/>
          </p:nvCxnSpPr>
          <p:spPr>
            <a:xfrm>
              <a:off x="2552400" y="4825080"/>
              <a:ext cx="342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2" name=""/>
            <p:cNvCxnSpPr>
              <a:stCxn id="120" idx="3"/>
              <a:endCxn id="119" idx="1"/>
            </p:cNvCxnSpPr>
            <p:nvPr/>
          </p:nvCxnSpPr>
          <p:spPr>
            <a:xfrm flipV="1">
              <a:off x="3345120" y="5619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6789240" y="5207040"/>
              <a:ext cx="151632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tr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3"/>
              <a:endCxn id="123" idx="1"/>
            </p:cNvCxnSpPr>
            <p:nvPr/>
          </p:nvCxnSpPr>
          <p:spPr>
            <a:xfrm>
              <a:off x="5756040" y="5619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5" name=""/>
            <p:cNvCxnSpPr>
              <a:stCxn id="108" idx="2"/>
              <a:endCxn id="123" idx="0"/>
            </p:cNvCxnSpPr>
            <p:nvPr/>
          </p:nvCxnSpPr>
          <p:spPr>
            <a:xfrm>
              <a:off x="7512840" y="4825080"/>
              <a:ext cx="360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6639120" y="4175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3920" y="4164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3480" y="534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5240" y="286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3960" y="383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88040" y="48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7840" y="5335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97480" y="4793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26600" y="2732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80800" y="3832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A54-7A42-49C9-B0B7-4184DBAA5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rdin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dinalidad de una relación es el número de instancias de una entidad que se relacionan con cada instancia de la otra entida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uno (1:1): cada objeto de A se relaciona con a lo sumo uno y sólo un objeto de B (ej: profesor - oficina);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muchos (1:N): cada objeto de A se relaciona con cero o más objetos de B, pero cada objeto de B se relaciona con sólo un objeto de A (ej: madre - hij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uchos a muchos (M:N): cada objeto de A puede  relacionarse con varios objetos de B, y cada objeto de B puede relacionarse con varios objetos de A (autor - revist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5CE-89E0-4A68-8D59-7E2C00407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permiten especificar jerarquías de entidades mediante relaciones especiales: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 u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objeto subordinado hereda todos los atributos de su ancestro y puede agregar algún otro atribu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uede haber herencia múltiple, pero esto puede traer problemas de inconsist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656320" y="190512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erson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udi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564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cencia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gist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21280" y="287028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0" idx="2"/>
            <a:endCxn id="145" idx="0"/>
          </p:cNvCxnSpPr>
          <p:nvPr/>
        </p:nvCxnSpPr>
        <p:spPr>
          <a:xfrm>
            <a:off x="6334200" y="2680920"/>
            <a:ext cx="180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47" name=""/>
          <p:cNvCxnSpPr>
            <a:stCxn id="145" idx="1"/>
            <a:endCxn id="141" idx="0"/>
          </p:cNvCxnSpPr>
          <p:nvPr/>
        </p:nvCxnSpPr>
        <p:spPr>
          <a:xfrm flipV="1" rot="10800000">
            <a:off x="5096880" y="3149280"/>
            <a:ext cx="8244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8" name=""/>
          <p:cNvCxnSpPr>
            <a:stCxn id="145" idx="3"/>
            <a:endCxn id="142" idx="0"/>
          </p:cNvCxnSpPr>
          <p:nvPr/>
        </p:nvCxnSpPr>
        <p:spPr>
          <a:xfrm>
            <a:off x="6781320" y="3149640"/>
            <a:ext cx="7722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48320" y="439416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1" idx="2"/>
            <a:endCxn id="149" idx="0"/>
          </p:cNvCxnSpPr>
          <p:nvPr/>
        </p:nvCxnSpPr>
        <p:spPr>
          <a:xfrm flipH="1">
            <a:off x="5077800" y="4204800"/>
            <a:ext cx="198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51" name=""/>
          <p:cNvCxnSpPr>
            <a:stCxn id="149" idx="1"/>
            <a:endCxn id="143" idx="0"/>
          </p:cNvCxnSpPr>
          <p:nvPr/>
        </p:nvCxnSpPr>
        <p:spPr>
          <a:xfrm flipV="1" rot="10800000">
            <a:off x="4182480" y="4673160"/>
            <a:ext cx="46584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" name=""/>
          <p:cNvCxnSpPr>
            <a:stCxn id="149" idx="3"/>
            <a:endCxn id="144" idx="0"/>
          </p:cNvCxnSpPr>
          <p:nvPr/>
        </p:nvCxnSpPr>
        <p:spPr>
          <a:xfrm>
            <a:off x="5508720" y="4673520"/>
            <a:ext cx="50400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238880" y="1523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057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2"/>
            <a:endCxn id="140" idx="3"/>
          </p:cNvCxnSpPr>
          <p:nvPr/>
        </p:nvCxnSpPr>
        <p:spPr>
          <a:xfrm flipH="1">
            <a:off x="7009560" y="1752480"/>
            <a:ext cx="229320" cy="542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4" idx="2"/>
            <a:endCxn id="140" idx="3"/>
          </p:cNvCxnSpPr>
          <p:nvPr/>
        </p:nvCxnSpPr>
        <p:spPr>
          <a:xfrm flipH="1">
            <a:off x="7009560" y="2286000"/>
            <a:ext cx="22932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med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6"/>
            <a:endCxn id="143" idx="1"/>
          </p:cNvCxnSpPr>
          <p:nvPr/>
        </p:nvCxnSpPr>
        <p:spPr>
          <a:xfrm>
            <a:off x="3200040" y="5410080"/>
            <a:ext cx="30564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7086600" y="53341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uí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9" idx="2"/>
            <a:endCxn id="144" idx="3"/>
          </p:cNvCxnSpPr>
          <p:nvPr/>
        </p:nvCxnSpPr>
        <p:spPr>
          <a:xfrm flipH="1" flipV="1">
            <a:off x="6687360" y="5555880"/>
            <a:ext cx="399240" cy="7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3505320" y="3581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ingr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6"/>
            <a:endCxn id="141" idx="1"/>
          </p:cNvCxnSpPr>
          <p:nvPr/>
        </p:nvCxnSpPr>
        <p:spPr>
          <a:xfrm>
            <a:off x="4038120" y="3809880"/>
            <a:ext cx="38196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2388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facult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0" idx="3"/>
            <a:endCxn id="163" idx="2"/>
          </p:cNvCxnSpPr>
          <p:nvPr/>
        </p:nvCxnSpPr>
        <p:spPr>
          <a:xfrm>
            <a:off x="7009920" y="2293920"/>
            <a:ext cx="229320" cy="526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2666880" y="5715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specialid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6"/>
            <a:endCxn id="143" idx="1"/>
          </p:cNvCxnSpPr>
          <p:nvPr/>
        </p:nvCxnSpPr>
        <p:spPr>
          <a:xfrm flipV="1">
            <a:off x="3200040" y="5555880"/>
            <a:ext cx="305640" cy="388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8458200" y="3276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rad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38862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arg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2"/>
            <a:endCxn id="142" idx="3"/>
          </p:cNvCxnSpPr>
          <p:nvPr/>
        </p:nvCxnSpPr>
        <p:spPr>
          <a:xfrm flipH="1">
            <a:off x="8228880" y="3505320"/>
            <a:ext cx="229320" cy="313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70" name=""/>
          <p:cNvCxnSpPr>
            <a:stCxn id="168" idx="2"/>
            <a:endCxn id="142" idx="3"/>
          </p:cNvCxnSpPr>
          <p:nvPr/>
        </p:nvCxnSpPr>
        <p:spPr>
          <a:xfrm flipH="1" flipV="1">
            <a:off x="8228880" y="3817080"/>
            <a:ext cx="229320" cy="29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A71-FEC1-4C23-A269-FC66FF6EE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08-23T18:16:13Z</cp:lastPrinted>
  <dcterms:modified xsi:type="dcterms:W3CDTF">2005-10-04T18:22:18Z</dcterms:modified>
  <cp:revision>8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