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AC0-302E-42E9-8895-D9B1B057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348-3E15-4E8E-9A63-D726B17A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BCC-1374-4349-B605-D204EAE9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2CE-7804-4847-9EA0-B4F69B84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F21-148D-4886-AD10-543378FC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4F4-6177-4C7C-94AD-D27254AE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EDA-0D8D-44C6-A9FE-A7027705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18D-7E2E-498C-89D2-83115ECE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677-7228-4C9C-AAA4-6E7D7D6B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51D-E3DB-407C-A262-F2EFBFF7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D26-B932-4637-B561-E8DF7A16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EF6-5245-4573-A17E-3A564295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2E58-81AD-4308-A715-3C060126D375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Descriptiv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odelo de Da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52480" y="3657600"/>
          <a:ext cx="4876920" cy="30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657600"/>
                    <a:ext cx="48769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523880"/>
            <a:ext cx="822960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El modelo de datos consiste en identificar gráficamente las entidades (o tablas) que participan en mi sistema, ya sean nuevas o existente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- Identificar la clave primaria y las claves foráneas de cada una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- Podrían incluirse también otros campos..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A77-B8C0-45CF-AC49-F613E46C36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odelo de Da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454824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E75-D3BC-4954-91C1-B149E10069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ccionario de Da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00200" y="2108160"/>
          <a:ext cx="6335640" cy="46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108160"/>
                    <a:ext cx="633564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76212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Por cada tabla se especifican los campos y su forma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3CA-6BAE-4216-8290-CF6C720095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iagramas ER son muy ampliamente usados en la práctic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on altamente expresivos y fáciles de entender por personas no especialist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varias herramientas de apoyo al diseño de diagramas E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usan como base para el diseño de bases de da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0BC-44C0-4963-A55B-8F24F8D093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lgunas Características de los Diagramas E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tación concisa para especificar los datos manejados por una aplicación….. pero la notación no es estánd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iertos análisis pueden aplicarse al modelo…. pero la notación es limitada para especificar propiedades complej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 puede adivinar mucha de la funcionalidad que tendrá un sistema, analizando el diagrama ER… pero eso no evita que se tengan que definir y especificar los requisi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DCF-350D-4DC0-B6DA-C96E300BC6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Algebra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specificaciones algebraicas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on una alternativa para describir otra cara d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63880" indent="-263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sistemas grandes se componen de subsistem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572040" indent="-219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proceso de especificación consiste en definir estos subsistemas y sus interfac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572040" indent="-219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subsistemas se desarrollan independiente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63880" indent="-263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subsistema se ve como un tipo de dato abstracto (ADT) u objet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572040" indent="-219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capsula datos y funcionalidad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572040" indent="-219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olamente la interfaz es visible para los demás módul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05160" y="11300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especificaciones algebraicas son completamente forma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ún incompletas, las especificaciones formales ayudan a detectar inconsistenci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876920" y="4952880"/>
            <a:ext cx="1447560" cy="1143000"/>
            <a:chOff x="4876920" y="4952880"/>
            <a:chExt cx="1447560" cy="1143000"/>
          </a:xfrm>
        </p:grpSpPr>
        <p:sp>
          <p:nvSpPr>
            <p:cNvPr id="193" name=""/>
            <p:cNvSpPr/>
            <p:nvPr/>
          </p:nvSpPr>
          <p:spPr>
            <a:xfrm>
              <a:off x="4876920" y="4952880"/>
              <a:ext cx="144756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67280" y="4952880"/>
              <a:ext cx="45720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9920" y="5029200"/>
              <a:ext cx="15228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43600" y="54100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5791320"/>
              <a:ext cx="22860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7086600" y="4952880"/>
            <a:ext cx="144792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086600" y="4952880"/>
            <a:ext cx="45720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238880" y="50292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238880" y="5334120"/>
            <a:ext cx="15264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162920" y="5791320"/>
            <a:ext cx="3045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5" idx="3"/>
            <a:endCxn id="201" idx="1"/>
          </p:cNvCxnSpPr>
          <p:nvPr/>
        </p:nvCxnSpPr>
        <p:spPr>
          <a:xfrm>
            <a:off x="6171840" y="5181120"/>
            <a:ext cx="1067400" cy="3042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201" idx="1"/>
            <a:endCxn id="197" idx="3"/>
          </p:cNvCxnSpPr>
          <p:nvPr/>
        </p:nvCxnSpPr>
        <p:spPr>
          <a:xfrm flipH="1">
            <a:off x="6171480" y="5484960"/>
            <a:ext cx="1067400" cy="4212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2" idx="1"/>
            <a:endCxn id="196" idx="3"/>
          </p:cNvCxnSpPr>
          <p:nvPr/>
        </p:nvCxnSpPr>
        <p:spPr>
          <a:xfrm flipH="1" flipV="1">
            <a:off x="6248160" y="5486040"/>
            <a:ext cx="915120" cy="4183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6172200" y="5105520"/>
            <a:ext cx="10666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33160" y="5181480"/>
            <a:ext cx="7887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Sub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4080" y="5181480"/>
            <a:ext cx="7887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Sub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9840" y="4191120"/>
            <a:ext cx="127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lementos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a interfaz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6629400" y="3885840"/>
            <a:ext cx="152280" cy="167652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E3C-1E60-405C-80C5-8CDDAACB85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ementos de un T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cabezamien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ombre de la especific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arámetros genéric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Introducción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ombre del tipo (sort)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finiciones importad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scripción inform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irm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ombre y parámetros de las operacion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xiom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mántica de las operacion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487-91F7-47C8-BE17-D52C62C499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 Genéric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Array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s arrays son colecciones de elementos de un tipo genérico Elem. Tiene un primer y un último elemento. Elementos particulares pueden accederse a través de un índice.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(Integer, Intege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Array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Asignar (Array, Integer, Elem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Array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rimero (Array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Ultimo (Array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Evaluar (Array, Intege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Elem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rimero (Crear (x, y)) = x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rimero (Asignar (a, n, v)) = Primero (a)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Ultimo (Crear (x, y)) = y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Ultimo (Asignar (a, n, v)) = Ultimo (a)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Evaluar (Crear (x, y), n) = Indefinido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Evaluar (Asignar (a, n, v), m) =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 &lt; Primero (a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or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 &gt; Ultimo (a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the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definido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lse if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 = n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the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v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lse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Evaluar (a, m)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1371600"/>
            <a:ext cx="6553080" cy="480060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280" y="1233360"/>
            <a:ext cx="137844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ARRAY (Elem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05740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28195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11480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F86-850A-49F1-9FB7-B93016D605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sarrollo de Especificaciones Algebra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ructurar la especificació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scripción informal de las interfac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signar nombres a la especificació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mbrar tipos, sorts y decidir si se requieren parámetr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ección de operacion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identificar operaciones de acuerdo a la interfaz (crear elementos del tipo, modificarlos, inspeccionarlo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pecificación informal de opera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ición de la sintaxis (firma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ición de axio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F39-80E1-42B8-A123-DF6DAA50BA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Una Lista Genéri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129528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Define una lista donde los elementos se agregan al final y se sacan por el principio. Las operaciones son Crear, Cons, Longitud, Cabeza y Col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ns (Lista, Elem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la (Lista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beza (Lista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Elem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ngitud (Lista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beza (Crear) = Indefinido -- Error al evaluar una lista vací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beza (Cons (L, v)) =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 if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L = Crear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the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v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lse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abeza (L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ngitud (Crear) = 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ngitud (Cons (L, v) = Longitud (L) + 1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la (Crear) = Crea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la (Cons (L, v)) =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 = Crear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the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reate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lse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ons (Cola (L), v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447920"/>
            <a:ext cx="6553080" cy="457200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34560" y="1309680"/>
            <a:ext cx="128700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ISTA (Elem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289548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41911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B77-767D-4D82-8FBE-10C3DE4936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s de Entidad-Rel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iagramas de ER describen conceptualmente la estructura de los datos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es claro si la especificación de datos o de funcionalidad debe hacerse primer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atos suelen ser más estables para definir el dominio de aplicación, pero la funcionalidad puede ayudar mejor a comprender este domini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tres conceptos básic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ntidad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lacion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tribu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09C-0A62-40B2-BFE0-14DA284F21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xiom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dos tipos de operacion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peraciones de construcción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074240" indent="-21456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finen o modifican elementos del tipo especific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peraciones de inspección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074240" indent="-21456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alúan atributos de los elementos del tipo especific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Regl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tablecer las operaciones de construc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tablecer las operaciones de inspec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cribir un axioma para cada inspector sobre cada constructor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EEC-2BC6-4FCE-8F41-8458406AFF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Uso de Especificaciones Algebra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ribir especificaciones algebraicas es una actividad cara, lenta y trabajos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estrategia consiste en reutilizar especificaciones ya escrit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rategi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nstanciar especificaciones genéric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sarrollar especificaciones incrementalm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finar especificacion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3B8-986B-485F-8291-968E278BBF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stanciar Especificaciones 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ADT definidos como genéricos requieren que se le asigne un tipo a cada parámetro de la lis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295280" y="3657600"/>
            <a:ext cx="6629040" cy="990720"/>
            <a:chOff x="1295280" y="3657600"/>
            <a:chExt cx="6629040" cy="990720"/>
          </a:xfrm>
        </p:grpSpPr>
        <p:sp>
          <p:nvSpPr>
            <p:cNvPr id="237" name=""/>
            <p:cNvSpPr/>
            <p:nvPr/>
          </p:nvSpPr>
          <p:spPr>
            <a:xfrm>
              <a:off x="1371960" y="3657600"/>
              <a:ext cx="6475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66"/>
                  </a:solidFill>
                  <a:latin typeface="Tahoma"/>
                </a:rPr>
                <a:t>      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ahoma"/>
                </a:rPr>
                <a:t>sort</a:t>
              </a:r>
              <a:r>
                <a:rPr b="0" lang="es-ES_tradnl" sz="1500" spc="-1" strike="noStrike">
                  <a:solidFill>
                    <a:srgbClr val="000066"/>
                  </a:solidFill>
                  <a:latin typeface="Tahoma"/>
                </a:rPr>
                <a:t> Char_array instantiates Array (Elem := Char)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ahoma"/>
                </a:rPr>
                <a:t>imports</a:t>
              </a:r>
              <a:r>
                <a:rPr b="0" lang="es-ES_tradnl" sz="1500" spc="-1" strike="noStrike">
                  <a:solidFill>
                    <a:srgbClr val="000066"/>
                  </a:solidFill>
                  <a:latin typeface="Tahoma"/>
                </a:rPr>
                <a:t> INTEGER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95280" y="3810240"/>
              <a:ext cx="6629040" cy="838080"/>
            </a:xfrm>
            <a:prstGeom prst="flowChartAlternateProcess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9080" y="3672000"/>
              <a:ext cx="2100960" cy="32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66"/>
                  </a:solidFill>
                  <a:latin typeface="Tahoma"/>
                </a:rPr>
                <a:t>CHAR_ARRAY : ARRAY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F00-4D07-4C07-826B-8721A0740F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sarrollo Incrementa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pecificaciones de ADTs simples se importan y usan para definir ADTs más complej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Todas las operaciones definidas están disponibles para el nuevo ADT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DT simple: sistema de coordenad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DT complejo: cursor para la pantall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1B3-42D8-479B-A128-E57513A4EC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95280" y="1981080"/>
            <a:ext cx="6400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oord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, BOOLEAN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Define un tipo que representa un par de coordenadas cartesianas. Las operaciones definidas son X e Y, que evalúan cada una de las componentes, e Igual que compara dos coordenadas.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(Integer, Intege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oord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X (Coord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Y (Coord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Igual (Coord, Coord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Boolean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X (Crear (x, y)) = x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Y (Crear (x, y)) = y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Igual (Crear (x1, y1), Crear (x2, y2)) = (( x1 = x2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(y1 = y2)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2133720"/>
            <a:ext cx="6553080" cy="350496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07200" y="1995480"/>
            <a:ext cx="85752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ORD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8195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358128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46483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ordenad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8C5-F8E1-45F7-9641-E9494647AA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urso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828800"/>
            <a:ext cx="6782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, COORD, BITMAP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Un cursor es la descripción de un punto en la pantalla. Crear define un ícono en la posición indicada de la pantalla. Las operaciones son Posición, Trasladar, y CambiarÍcono. La operación Desplegar no se define formalmente.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(Coord, Bitmap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Trasladar (Cursor, Integer, Intege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osición (Curso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oord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mbiarÍcono (Cursor, Bitmap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Desplegar (Curso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Trasladar (Crear (C, Ícono), xd, yd) =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(COORD.Crear (X(C)+xd, Y(C)+yd), Ícono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osición (Crear (C, Ícono)) = C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osición (Trasladar (C, xd, yd)) = COORD.Crear (X(C)+xd, Y(C)+yd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mbiarÍcono (Crear (C, Ícono), Ícono2) = Crear (C, Ícono2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981080"/>
            <a:ext cx="6781680" cy="411480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12960" y="1843200"/>
            <a:ext cx="93204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666880"/>
            <a:ext cx="6781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3429000"/>
            <a:ext cx="6781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4724280"/>
            <a:ext cx="6781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685-4AE5-442A-88A2-B433D1AC22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finar Especifica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refinamiento de especificaciones es similar a la herencia en orientación a objet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operaciones y los axiomas del ADT base se heredan y son parte de la nueva especific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uevas operaciones y axiomas se define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lgunas operaciones y axiomas pueden redefinirse (sobreescribirse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l importar una especificación, las operaciones se hacen accesibles pero no forman parte del nuevo ADT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936-3EED-45BF-A923-60DDB479E2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Nueva Lis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1600200"/>
            <a:ext cx="6400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Nueva_Lista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nrich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, BOOLEAN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Define una forma extendida de lista que hereda las operaciones y las propiedades de Lista y agrega nuevas operaciones: Agregar y Miembro.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Agregar (Nueva_Lista, Elem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Nueva_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Miembro (Nueva_Lista, Elem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Boolean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Agregar (Crear, v) = Cons (Crear, v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Miembro (Crear, v) = FALSE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Miembro (Agregar (L, v), v1) = ((v == v1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or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iembro (L, v1)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Miembro (Cons (L, v), v1) = ((v == v1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or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iembro (L, v1)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beza (Agregar (L, v)) = v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la (Agregar (L, v)) = L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ngitud (Agregar (L, v)) = Longitud (L) + 1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1752480"/>
            <a:ext cx="6553080" cy="411480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73080" y="1616040"/>
            <a:ext cx="325476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NUEVA_LISTA (Elem; ==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imes New Roman"/>
              </a:rPr>
              <a:t>  Boolea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43828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320040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388620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9D1-4932-41AF-A945-CEC37D186B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Z y Especificaciones Form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os métodos se usan cuando los otros métodos no son apropiad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roblemas complejos donde la intuición no ayuda much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roblemas muy novedos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especificaciones formales son fórmulas que pueden ser evaluadas automáticamente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os programas son especificaciones formales de bajo nivel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especificaciones formales tienen mayor abstrac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ermiten especificar sin ambigüedades lo que el programa hará y encontrar errores tempran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3A1-FC1E-4284-BD43-A0D17A8260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Lógicas: Z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Z es un lenguaje de especificación formal basado en teoría de conjuntos y lógica de primer orde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usan los símbolos más habituales: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۸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۷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,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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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n este lenguaje se especifican objetos matemátic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usan tipos de datos básicos como los naturales (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N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), los datos lógicos (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B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) o los reales (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R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También pueden suponerse como existentes otros tipos de datos complejos. Éstos se expresan entre paréntesis re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ueden definirse nuevos tipos en base a los exist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CBE-86B1-43DD-8B8D-C6B199227C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ntidad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entidad es una colección de objetos que comparten ciertas propiedades (similar a un tipo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propiedades de la entidad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us atribu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relaciones en las que particip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Tipos usuales de entidad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sas: reporte, una pantalla de despliegu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hechos o eventos: llamada telefónica, mail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oles: vendedor, estudia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idades administrativas: departamentos o sec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ugares: talleres, galpones, escuela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tructuras: archivos, pil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259092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u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6C4-9890-4D19-A49C-207938623F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Tipos Complej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224000" y="2054160"/>
          <a:ext cx="7756560" cy="398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4000" y="2054160"/>
                    <a:ext cx="775656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2438280" y="441972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6F8-ED55-41D2-A536-FC7F7586A0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quemas Z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esquema define un tipo de dato complejo mediante la asignación de un tipo y posiblemente un valor a un conjunto de variables o identificad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esquemas también definen invariantes que deben satisfacer los identificad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uego pueden definirse variables del tipo del esqu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699280" y="3809880"/>
            <a:ext cx="3216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[ESTUDIANTE][LOGIN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Corre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studiantes : </a:t>
            </a: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STUDIA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mail : ESTUDIANTE </a:t>
            </a:r>
            <a:r>
              <a:rPr b="0" lang="es-ES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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LO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(dom 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mail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studian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457524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575240"/>
            <a:ext cx="2438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4575240"/>
            <a:ext cx="0" cy="1371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90920" y="5946840"/>
            <a:ext cx="33526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5489640"/>
            <a:ext cx="1904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20040" y="4129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ipos dad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457200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53120" y="476244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dor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548640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548640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nvaria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8280" y="4114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4114800"/>
            <a:ext cx="75960" cy="1981080"/>
          </a:xfrm>
          <a:custGeom>
            <a:avLst/>
            <a:gdLst>
              <a:gd name="textAreaLeft" fmla="*/ 0 w 75960"/>
              <a:gd name="textAreaRight" fmla="*/ 27360 w 759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849440" y="4876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squ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C8B-6958-4ADB-B823-D3856F23C1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clusión de Esquem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Z permite definir nuevos esquemas mediante la inclusión de otros esqu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o ayuda a la especificación modul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definición del nuevo esquema corresponde a la unión de todos los identificadores y a la conjunción de todos los invaria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00240" y="37335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 este caso tenemos todos los estudiantes y los correos d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todos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los estudia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a inclusión agrega una restricción más poderos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952880" y="1600200"/>
            <a:ext cx="3352680" cy="1828800"/>
            <a:chOff x="4952880" y="1600200"/>
            <a:chExt cx="3352680" cy="1828800"/>
          </a:xfrm>
        </p:grpSpPr>
        <p:sp>
          <p:nvSpPr>
            <p:cNvPr id="293" name=""/>
            <p:cNvSpPr/>
            <p:nvPr/>
          </p:nvSpPr>
          <p:spPr>
            <a:xfrm>
              <a:off x="5027040" y="1600200"/>
              <a:ext cx="2640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CorreosRegistrad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Corre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Times New Roman"/>
                </a:rPr>
                <a:t>(dom </a:t>
              </a: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email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Times New Roman"/>
                </a:rPr>
                <a:t>= </a:t>
              </a: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estudiantes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2880" y="236232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33960" y="2362320"/>
              <a:ext cx="1371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52880" y="2362320"/>
              <a:ext cx="0" cy="1066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52880" y="3429000"/>
              <a:ext cx="33526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2894040"/>
              <a:ext cx="1904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544-D6CD-4A45-9795-7FE5875797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ón de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operaciones sobre el estado de un esquema son transiciones entre estados váli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debe especificar el valor de los identificadores después de aplicar la oper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variables después de la operación se anotan con una prima (‘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nota con una Delta (Δ) el nombre del esquema al que se le aplica la oper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7960" y="3429000"/>
            <a:ext cx="41907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 general la relación entre los valores anteriores y los nuevos se establece en el invariante del esqu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nuevo?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es un nuevo estudiante a agregar a la lista; nótese que no se registr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logi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para este nuevo estudia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5023800" y="838080"/>
            <a:ext cx="34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NuevoAlum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Δ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 Corre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nuevo? : ESTUDIA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estudiantes’ = estudiantes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 nuevo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mail’ = emai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160020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1600200"/>
            <a:ext cx="1828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1600200"/>
            <a:ext cx="0" cy="1523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124080"/>
            <a:ext cx="3353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438280"/>
            <a:ext cx="1905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EDD-AC66-4BF0-8A71-3232BED743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ceptos de E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1320" y="5181480"/>
            <a:ext cx="2663640" cy="695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77120" y="2133720"/>
            <a:ext cx="1441440" cy="2054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520" y="4800600"/>
            <a:ext cx="2663640" cy="69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295280" y="1905120"/>
            <a:ext cx="1441440" cy="2054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79440" y="1219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ntida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840" y="125424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040" y="1330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Relacion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23440" y="2473200"/>
            <a:ext cx="1128600" cy="13136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nomb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R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7480" y="4495680"/>
            <a:ext cx="1140840" cy="1618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marc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model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ñ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matrícul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ol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960" y="43927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ose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422604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315900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514044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D9C-0D37-4AE0-A350-76E573C3CA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tribu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en las propiedades de las entidades (y a veces también de las relacione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usan par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dentificar a una instancia de la ent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scribir la instanci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hacer referencia a una instancia en otra entidad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atributo (o conjunto de atributos) llave o clave es el que identifica un único elemento de la ent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343400" y="4876920"/>
          <a:ext cx="3624120" cy="125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4876920"/>
                    <a:ext cx="36241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2120" y="5181480"/>
            <a:ext cx="2282760" cy="595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38480" y="5334120"/>
            <a:ext cx="3657600" cy="304560"/>
          </a:xfrm>
          <a:prstGeom prst="wedgeRoundRectCallout">
            <a:avLst>
              <a:gd name="adj1" fmla="val -73523"/>
              <a:gd name="adj2" fmla="val 43231"/>
              <a:gd name="adj3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209680"/>
            <a:ext cx="1447920" cy="838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12952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arc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18288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odel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236232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añ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28954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atrícul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34290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9" idx="3"/>
            <a:endCxn id="68" idx="3"/>
          </p:cNvCxnSpPr>
          <p:nvPr/>
        </p:nvCxnSpPr>
        <p:spPr>
          <a:xfrm flipH="1">
            <a:off x="7848360" y="1685880"/>
            <a:ext cx="535680" cy="943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5" name=""/>
          <p:cNvCxnSpPr>
            <a:stCxn id="70" idx="2"/>
            <a:endCxn id="68" idx="3"/>
          </p:cNvCxnSpPr>
          <p:nvPr/>
        </p:nvCxnSpPr>
        <p:spPr>
          <a:xfrm flipH="1">
            <a:off x="7848360" y="2057400"/>
            <a:ext cx="457920" cy="5724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6" name=""/>
          <p:cNvCxnSpPr>
            <a:stCxn id="71" idx="2"/>
            <a:endCxn id="68" idx="3"/>
          </p:cNvCxnSpPr>
          <p:nvPr/>
        </p:nvCxnSpPr>
        <p:spPr>
          <a:xfrm flipH="1">
            <a:off x="7848360" y="2590920"/>
            <a:ext cx="457920" cy="388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" name=""/>
          <p:cNvCxnSpPr>
            <a:stCxn id="72" idx="2"/>
            <a:endCxn id="68" idx="3"/>
          </p:cNvCxnSpPr>
          <p:nvPr/>
        </p:nvCxnSpPr>
        <p:spPr>
          <a:xfrm flipH="1" flipV="1">
            <a:off x="7848360" y="2628360"/>
            <a:ext cx="457920" cy="495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8" name=""/>
          <p:cNvCxnSpPr>
            <a:stCxn id="73" idx="1"/>
            <a:endCxn id="68" idx="3"/>
          </p:cNvCxnSpPr>
          <p:nvPr/>
        </p:nvCxnSpPr>
        <p:spPr>
          <a:xfrm flipH="1" flipV="1">
            <a:off x="7848360" y="2628360"/>
            <a:ext cx="535680" cy="8672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DBD-4ED5-4227-BC85-28590233B4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la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5983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elementos de datos se conectan de distintas for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relación R entre dos entidades A y B es un conjunto de parejas &lt;a,b&gt; donde a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A y b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B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 general las relaciones son entre dos entidades, pero pueden participar má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relaciones también pueden tener atribu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relaciones tienen además cardina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6670800" y="3048120"/>
            <a:ext cx="1371600" cy="7617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ven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94480" y="9144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utomóvi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99600" y="2286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arc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99600" y="76212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odel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99600" y="12952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añ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99600" y="18288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atrícul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9600" y="236232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3" idx="3"/>
            <a:endCxn id="82" idx="3"/>
          </p:cNvCxnSpPr>
          <p:nvPr/>
        </p:nvCxnSpPr>
        <p:spPr>
          <a:xfrm flipH="1">
            <a:off x="8042040" y="619200"/>
            <a:ext cx="535680" cy="714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9" name=""/>
          <p:cNvCxnSpPr>
            <a:stCxn id="84" idx="2"/>
            <a:endCxn id="82" idx="3"/>
          </p:cNvCxnSpPr>
          <p:nvPr/>
        </p:nvCxnSpPr>
        <p:spPr>
          <a:xfrm flipH="1">
            <a:off x="8042040" y="990720"/>
            <a:ext cx="457920" cy="343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0" name=""/>
          <p:cNvCxnSpPr>
            <a:stCxn id="85" idx="2"/>
            <a:endCxn id="82" idx="3"/>
          </p:cNvCxnSpPr>
          <p:nvPr/>
        </p:nvCxnSpPr>
        <p:spPr>
          <a:xfrm flipH="1" flipV="1">
            <a:off x="8042040" y="1332720"/>
            <a:ext cx="457920" cy="1911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1" name=""/>
          <p:cNvCxnSpPr>
            <a:stCxn id="86" idx="2"/>
            <a:endCxn id="82" idx="3"/>
          </p:cNvCxnSpPr>
          <p:nvPr/>
        </p:nvCxnSpPr>
        <p:spPr>
          <a:xfrm flipH="1" flipV="1">
            <a:off x="8042040" y="1332720"/>
            <a:ext cx="457920" cy="72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2" name=""/>
          <p:cNvCxnSpPr>
            <a:stCxn id="87" idx="1"/>
            <a:endCxn id="82" idx="3"/>
          </p:cNvCxnSpPr>
          <p:nvPr/>
        </p:nvCxnSpPr>
        <p:spPr>
          <a:xfrm flipH="1" flipV="1">
            <a:off x="8042040" y="1332720"/>
            <a:ext cx="535680" cy="1096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594480" y="487692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oncesion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2" idx="2"/>
            <a:endCxn id="81" idx="0"/>
          </p:cNvCxnSpPr>
          <p:nvPr/>
        </p:nvCxnSpPr>
        <p:spPr>
          <a:xfrm>
            <a:off x="7318440" y="1752120"/>
            <a:ext cx="38880" cy="1296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5" name=""/>
          <p:cNvCxnSpPr>
            <a:stCxn id="81" idx="2"/>
            <a:endCxn id="93" idx="0"/>
          </p:cNvCxnSpPr>
          <p:nvPr/>
        </p:nvCxnSpPr>
        <p:spPr>
          <a:xfrm flipH="1">
            <a:off x="7318080" y="3809880"/>
            <a:ext cx="38880" cy="1067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8575560" y="44197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empres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75560" y="49528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direcció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75560" y="54864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responsabl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3" idx="3"/>
          </p:cNvCxnSpPr>
          <p:nvPr/>
        </p:nvCxnSpPr>
        <p:spPr>
          <a:xfrm flipH="1">
            <a:off x="8041680" y="4647960"/>
            <a:ext cx="533880" cy="648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00" name=""/>
          <p:cNvCxnSpPr>
            <a:stCxn id="97" idx="2"/>
            <a:endCxn id="93" idx="3"/>
          </p:cNvCxnSpPr>
          <p:nvPr/>
        </p:nvCxnSpPr>
        <p:spPr>
          <a:xfrm flipH="1">
            <a:off x="8041680" y="5181480"/>
            <a:ext cx="533880" cy="11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01" name=""/>
          <p:cNvCxnSpPr>
            <a:stCxn id="98" idx="2"/>
            <a:endCxn id="93" idx="3"/>
          </p:cNvCxnSpPr>
          <p:nvPr/>
        </p:nvCxnSpPr>
        <p:spPr>
          <a:xfrm flipH="1" flipV="1">
            <a:off x="8041680" y="5295600"/>
            <a:ext cx="533880" cy="419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8499600" y="32004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81" idx="3"/>
            <a:endCxn id="102" idx="2"/>
          </p:cNvCxnSpPr>
          <p:nvPr/>
        </p:nvCxnSpPr>
        <p:spPr>
          <a:xfrm>
            <a:off x="8042400" y="342864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687-E5F3-4A3F-8175-B49F179608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 de E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diagramas ER fueron propuestos por Chen en 1977 para el diseño de bases de da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atributos suelen omitirse para no complicar excesivamente el diagra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28800" y="2666880"/>
            <a:ext cx="6476760" cy="3428640"/>
            <a:chOff x="1828800" y="2666880"/>
            <a:chExt cx="6476760" cy="3428640"/>
          </a:xfrm>
        </p:grpSpPr>
        <p:sp>
          <p:nvSpPr>
            <p:cNvPr id="107" name=""/>
            <p:cNvSpPr/>
            <p:nvPr/>
          </p:nvSpPr>
          <p:spPr>
            <a:xfrm>
              <a:off x="1897920" y="4127040"/>
              <a:ext cx="1309320" cy="698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Automóvil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4127040"/>
              <a:ext cx="1309320" cy="698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Fabricant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09560" y="4064040"/>
              <a:ext cx="151488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Fabric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7" idx="3"/>
              <a:endCxn id="109" idx="1"/>
            </p:cNvCxnSpPr>
            <p:nvPr/>
          </p:nvCxnSpPr>
          <p:spPr>
            <a:xfrm>
              <a:off x="3206880" y="4476600"/>
              <a:ext cx="110268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11" name=""/>
            <p:cNvCxnSpPr>
              <a:stCxn id="109" idx="3"/>
              <a:endCxn id="108" idx="1"/>
            </p:cNvCxnSpPr>
            <p:nvPr/>
          </p:nvCxnSpPr>
          <p:spPr>
            <a:xfrm flipV="1">
              <a:off x="5824800" y="4476600"/>
              <a:ext cx="103356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4378680" y="2793600"/>
              <a:ext cx="1307520" cy="69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Concesionari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2666880"/>
              <a:ext cx="151668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Vend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4" name=""/>
            <p:cNvCxnSpPr>
              <a:stCxn id="113" idx="2"/>
              <a:endCxn id="107" idx="0"/>
            </p:cNvCxnSpPr>
            <p:nvPr/>
          </p:nvCxnSpPr>
          <p:spPr>
            <a:xfrm flipH="1">
              <a:off x="2552040" y="3555000"/>
              <a:ext cx="34200" cy="5720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15" name=""/>
            <p:cNvCxnSpPr>
              <a:stCxn id="113" idx="3"/>
              <a:endCxn id="112" idx="1"/>
            </p:cNvCxnSpPr>
            <p:nvPr/>
          </p:nvCxnSpPr>
          <p:spPr>
            <a:xfrm>
              <a:off x="3345480" y="3110400"/>
              <a:ext cx="103356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116" name=""/>
            <p:cNvSpPr/>
            <p:nvPr/>
          </p:nvSpPr>
          <p:spPr>
            <a:xfrm>
              <a:off x="6720120" y="2666880"/>
              <a:ext cx="151668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Autoriz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112" idx="3"/>
              <a:endCxn id="116" idx="1"/>
            </p:cNvCxnSpPr>
            <p:nvPr/>
          </p:nvCxnSpPr>
          <p:spPr>
            <a:xfrm flipV="1">
              <a:off x="5686560" y="3110400"/>
              <a:ext cx="103356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18" name=""/>
            <p:cNvCxnSpPr>
              <a:stCxn id="116" idx="2"/>
              <a:endCxn id="108" idx="0"/>
            </p:cNvCxnSpPr>
            <p:nvPr/>
          </p:nvCxnSpPr>
          <p:spPr>
            <a:xfrm>
              <a:off x="7479000" y="3555000"/>
              <a:ext cx="34200" cy="5720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>
              <a:off x="4447800" y="5270040"/>
              <a:ext cx="1307880" cy="698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Transportist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5207040"/>
              <a:ext cx="151668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Transport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07" idx="2"/>
              <a:endCxn id="120" idx="0"/>
            </p:cNvCxnSpPr>
            <p:nvPr/>
          </p:nvCxnSpPr>
          <p:spPr>
            <a:xfrm>
              <a:off x="2552400" y="4825080"/>
              <a:ext cx="34200" cy="381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22" name=""/>
            <p:cNvCxnSpPr>
              <a:stCxn id="120" idx="3"/>
              <a:endCxn id="119" idx="1"/>
            </p:cNvCxnSpPr>
            <p:nvPr/>
          </p:nvCxnSpPr>
          <p:spPr>
            <a:xfrm flipV="1">
              <a:off x="3345120" y="5619600"/>
              <a:ext cx="110268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123" name=""/>
            <p:cNvSpPr/>
            <p:nvPr/>
          </p:nvSpPr>
          <p:spPr>
            <a:xfrm>
              <a:off x="6789240" y="5207040"/>
              <a:ext cx="151632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Contrat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3"/>
              <a:endCxn id="123" idx="1"/>
            </p:cNvCxnSpPr>
            <p:nvPr/>
          </p:nvCxnSpPr>
          <p:spPr>
            <a:xfrm>
              <a:off x="5756040" y="5619600"/>
              <a:ext cx="103356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25" name=""/>
            <p:cNvCxnSpPr>
              <a:stCxn id="108" idx="2"/>
              <a:endCxn id="123" idx="0"/>
            </p:cNvCxnSpPr>
            <p:nvPr/>
          </p:nvCxnSpPr>
          <p:spPr>
            <a:xfrm>
              <a:off x="7512840" y="4825080"/>
              <a:ext cx="36000" cy="381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6639120" y="4175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93920" y="4164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73480" y="5341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35240" y="286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23960" y="383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88040" y="48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57840" y="5335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97480" y="47930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26600" y="2732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80800" y="3832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DF3-6C11-4333-AAE4-ECBFC33806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rdina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cardinalidad de una relación es el número de instancias de una entidad que se relacionan con cada instancia de la otra entida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o a uno (1:1): cada objeto de A se relaciona con a lo sumo uno y sólo un objeto de B (ej: profesor - oficina);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o a muchos (1:N): cada objeto de A se relaciona con cero o más objetos de B, pero cada objeto de B se relaciona con sólo un objeto de A (ej: madre - hijos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muchos a muchos (M:N): cada objeto de A puede  relacionarse con varios objetos de B, y cada objeto de B puede relacionarse con varios objetos de A (autor - revista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F22-3060-4CB0-AEDE-A0CC65E546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diagramas ER permiten especificar jerarquías de entidades mediante relaciones especiales: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s u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objeto subordinado hereda todos los atributos de su ancestro y puede agregar algún otro atribu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uede haber herencia múltiple, pero esto puede traer problemas de inconsist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5656320" y="190512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erson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342900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tudia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75640" y="342900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fes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16744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cenciatur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516744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Magist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21280" y="2870280"/>
            <a:ext cx="860400" cy="55872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 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0" idx="2"/>
            <a:endCxn id="145" idx="0"/>
          </p:cNvCxnSpPr>
          <p:nvPr/>
        </p:nvCxnSpPr>
        <p:spPr>
          <a:xfrm>
            <a:off x="6334200" y="2680920"/>
            <a:ext cx="18000" cy="189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</p:cxnSp>
      <p:cxnSp>
        <p:nvCxnSpPr>
          <p:cNvPr id="147" name=""/>
          <p:cNvCxnSpPr>
            <a:stCxn id="145" idx="1"/>
            <a:endCxn id="141" idx="0"/>
          </p:cNvCxnSpPr>
          <p:nvPr/>
        </p:nvCxnSpPr>
        <p:spPr>
          <a:xfrm flipV="1" rot="10800000">
            <a:off x="5096880" y="3149280"/>
            <a:ext cx="824400" cy="280080"/>
          </a:xfrm>
          <a:prstGeom prst="bentConnector2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8" name=""/>
          <p:cNvCxnSpPr>
            <a:stCxn id="145" idx="3"/>
            <a:endCxn id="142" idx="0"/>
          </p:cNvCxnSpPr>
          <p:nvPr/>
        </p:nvCxnSpPr>
        <p:spPr>
          <a:xfrm>
            <a:off x="6781320" y="3149640"/>
            <a:ext cx="772200" cy="280080"/>
          </a:xfrm>
          <a:prstGeom prst="bentConnector2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4648320" y="4394160"/>
            <a:ext cx="860400" cy="55872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 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1" idx="2"/>
            <a:endCxn id="149" idx="0"/>
          </p:cNvCxnSpPr>
          <p:nvPr/>
        </p:nvCxnSpPr>
        <p:spPr>
          <a:xfrm flipH="1">
            <a:off x="5077800" y="4204800"/>
            <a:ext cx="19800" cy="189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</p:cxnSp>
      <p:cxnSp>
        <p:nvCxnSpPr>
          <p:cNvPr id="151" name=""/>
          <p:cNvCxnSpPr>
            <a:stCxn id="149" idx="1"/>
            <a:endCxn id="143" idx="0"/>
          </p:cNvCxnSpPr>
          <p:nvPr/>
        </p:nvCxnSpPr>
        <p:spPr>
          <a:xfrm flipV="1" rot="10800000">
            <a:off x="4182480" y="4673160"/>
            <a:ext cx="465840" cy="494640"/>
          </a:xfrm>
          <a:prstGeom prst="bentConnector2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2" name=""/>
          <p:cNvCxnSpPr>
            <a:stCxn id="149" idx="3"/>
            <a:endCxn id="144" idx="0"/>
          </p:cNvCxnSpPr>
          <p:nvPr/>
        </p:nvCxnSpPr>
        <p:spPr>
          <a:xfrm>
            <a:off x="5508720" y="4673520"/>
            <a:ext cx="504000" cy="494640"/>
          </a:xfrm>
          <a:prstGeom prst="bentConnector2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238880" y="15238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0574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ru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2"/>
            <a:endCxn id="140" idx="3"/>
          </p:cNvCxnSpPr>
          <p:nvPr/>
        </p:nvCxnSpPr>
        <p:spPr>
          <a:xfrm flipH="1">
            <a:off x="7009560" y="1752480"/>
            <a:ext cx="229320" cy="5421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6" name=""/>
          <p:cNvCxnSpPr>
            <a:stCxn id="154" idx="2"/>
            <a:endCxn id="140" idx="3"/>
          </p:cNvCxnSpPr>
          <p:nvPr/>
        </p:nvCxnSpPr>
        <p:spPr>
          <a:xfrm flipH="1">
            <a:off x="7009560" y="2286000"/>
            <a:ext cx="229320" cy="8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2666880" y="51814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promedi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7" idx="6"/>
            <a:endCxn id="143" idx="1"/>
          </p:cNvCxnSpPr>
          <p:nvPr/>
        </p:nvCxnSpPr>
        <p:spPr>
          <a:xfrm>
            <a:off x="3200040" y="5410080"/>
            <a:ext cx="305640" cy="1468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7086600" y="53341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Profes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guí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9" idx="2"/>
            <a:endCxn id="144" idx="3"/>
          </p:cNvCxnSpPr>
          <p:nvPr/>
        </p:nvCxnSpPr>
        <p:spPr>
          <a:xfrm flipH="1" flipV="1">
            <a:off x="6687360" y="5555880"/>
            <a:ext cx="399240" cy="7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3505320" y="35812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ingr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6"/>
            <a:endCxn id="141" idx="1"/>
          </p:cNvCxnSpPr>
          <p:nvPr/>
        </p:nvCxnSpPr>
        <p:spPr>
          <a:xfrm>
            <a:off x="4038120" y="3809880"/>
            <a:ext cx="381960" cy="8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238880" y="25909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faculta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40" idx="3"/>
            <a:endCxn id="163" idx="2"/>
          </p:cNvCxnSpPr>
          <p:nvPr/>
        </p:nvCxnSpPr>
        <p:spPr>
          <a:xfrm>
            <a:off x="7009920" y="2293920"/>
            <a:ext cx="229320" cy="526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2666880" y="57150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especialida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5" idx="6"/>
            <a:endCxn id="143" idx="1"/>
          </p:cNvCxnSpPr>
          <p:nvPr/>
        </p:nvCxnSpPr>
        <p:spPr>
          <a:xfrm flipV="1">
            <a:off x="3200040" y="5555880"/>
            <a:ext cx="305640" cy="388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8458200" y="32767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grad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38862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carg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7" idx="2"/>
            <a:endCxn id="142" idx="3"/>
          </p:cNvCxnSpPr>
          <p:nvPr/>
        </p:nvCxnSpPr>
        <p:spPr>
          <a:xfrm flipH="1">
            <a:off x="8228880" y="3505320"/>
            <a:ext cx="229320" cy="313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70" name=""/>
          <p:cNvCxnSpPr>
            <a:stCxn id="168" idx="2"/>
            <a:endCxn id="142" idx="3"/>
          </p:cNvCxnSpPr>
          <p:nvPr/>
        </p:nvCxnSpPr>
        <p:spPr>
          <a:xfrm flipH="1" flipV="1">
            <a:off x="8228880" y="3817080"/>
            <a:ext cx="229320" cy="29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D7F-A6B1-4423-BD00-C00B80E682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08-23T18:16:13Z</cp:lastPrinted>
  <dcterms:modified xsi:type="dcterms:W3CDTF">2005-10-04T18:22:18Z</dcterms:modified>
  <cp:revision>89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