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8B8-76AE-4371-ADF0-9E2DD87E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23C-A853-4744-B2C5-A55C929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3C5-CEEB-4085-8078-4A9AC7BF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E2B-7859-4CAF-B52C-1CBE2AB0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B52-CCD9-425D-B354-6FDC3CAA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B7A-19F0-4C60-8C86-DC69AEAB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24F-139C-4472-80A3-5A9B8622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01C-7683-42E2-AF0B-7497A9A6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476-FF52-43D2-9F16-52C8E82E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F89-235C-4D82-89CA-7471D656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450-EA9E-4E90-911F-82DF3474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72E-4962-4E13-BC88-C9C07677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B743-08E5-4070-BF9F-4111CD123426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Operacion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FDs son diagramas intuitivos y fácilmente comprensibles para describir el flujo de datos y operaciones en un sistema de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o tiene una semántica imprecis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se requiere una descripción precisa del sistema, los DFDs no son una herramienta adecuad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 se puede derivar un prototipo automáticamente de un DFD porque existen muchas ambigüedad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FDs son una notación semi-formal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sintaxis es formal pero la semántica n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BF4-C7C4-4B3B-9566-2A453C2556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ternativ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ormas de superar la ambigüedad de los DFD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una notación complementaria para especificar los aspectos ambiguo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xtender la notación para incluir elementos de control y sincroniz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definir los DFDs para hacerlos completamente formale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iferentes flechas para flujos de datos y flujo de control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nd/or entre las entradas y las salid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pecificación formal de la función de las burbuj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509-76F4-4477-9BD7-BBCBEF4E7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foques de Espec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905480" y="523548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imes New Roman"/>
              </a:rPr>
              <a:t>da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4560" y="198108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imes New Roman"/>
              </a:rPr>
              <a:t>funcionalida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240" y="523548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7760" y="38862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Times New Roman"/>
              </a:rPr>
              <a:t>Especificació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590920"/>
            <a:ext cx="304920" cy="1371600"/>
          </a:xfrm>
          <a:prstGeom prst="upDownArrow">
            <a:avLst>
              <a:gd name="adj1" fmla="val 50000"/>
              <a:gd name="adj2" fmla="val 8954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3318000">
            <a:off x="3200040" y="4190760"/>
            <a:ext cx="304920" cy="1371600"/>
          </a:xfrm>
          <a:prstGeom prst="upDownArrow">
            <a:avLst>
              <a:gd name="adj1" fmla="val 50000"/>
              <a:gd name="adj2" fmla="val 8954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rot="18282000">
            <a:off x="5257440" y="4190760"/>
            <a:ext cx="304920" cy="1371600"/>
          </a:xfrm>
          <a:prstGeom prst="upDownArrow">
            <a:avLst>
              <a:gd name="adj1" fmla="val 50000"/>
              <a:gd name="adj2" fmla="val 8954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8A8-DC6C-4CD0-8F19-0126A50BF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quinas de Estados Fini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máquinas de estados finitos (FSMs) son una notación formal para especificar aspectos de control de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us elementos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estados Q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entradas I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función parcial de transición  δ : Q </a:t>
            </a:r>
            <a:r>
              <a:rPr b="0" lang="es-ES_tradnl" sz="22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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ES_tradnl" sz="22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Q.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Gráficamente una máquina de estados finitos se representa como un grafo do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os nodos representan estados, y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arco i de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a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δ(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,i) =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9A0-4B1B-4514-B3F2-C7F2F3EFE9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sos de FSM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FSMs se usan para modelar sistemas que pueden encontrarse en un número finito de estados y que pasan de un estado a otro como reacción a una entrad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lámpara puede estar encendida o apagada dependiendo de la acción del switch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648320"/>
            <a:ext cx="1066680" cy="10666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ncend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724280"/>
            <a:ext cx="1067040" cy="10670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paga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7"/>
            <a:endCxn id="193" idx="1"/>
          </p:cNvCxnSpPr>
          <p:nvPr/>
        </p:nvCxnSpPr>
        <p:spPr>
          <a:xfrm flipH="1" rot="16200000">
            <a:off x="4457520" y="3313440"/>
            <a:ext cx="76680" cy="3054960"/>
          </a:xfrm>
          <a:prstGeom prst="curvedConnector5">
            <a:avLst>
              <a:gd name="adj1" fmla="val -503773"/>
              <a:gd name="adj2" fmla="val 49994"/>
              <a:gd name="adj3" fmla="val -503773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3" idx="3"/>
            <a:endCxn id="192" idx="5"/>
          </p:cNvCxnSpPr>
          <p:nvPr/>
        </p:nvCxnSpPr>
        <p:spPr>
          <a:xfrm flipV="1" rot="16200000">
            <a:off x="4457160" y="4070160"/>
            <a:ext cx="76680" cy="3054960"/>
          </a:xfrm>
          <a:prstGeom prst="curvedConnector5">
            <a:avLst>
              <a:gd name="adj1" fmla="val -506132"/>
              <a:gd name="adj2" fmla="val 49994"/>
              <a:gd name="adj3" fmla="val -50613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115520" y="40384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800" y="569916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50D-73B3-48A3-8D0D-E696545666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Planta Quími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niveles de presión y temperatura deben controlarse por motivos de segurida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xisten sensores que avisan cuando los niveles superan el valor predefini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olític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los valores de presión o temperatura superen el valor definido, se apaga la planta complet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planta se reinicializa manualmente después de corregir la situ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190512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funcionan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472428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xcep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3"/>
            <a:endCxn id="201" idx="1"/>
          </p:cNvCxnSpPr>
          <p:nvPr/>
        </p:nvCxnSpPr>
        <p:spPr>
          <a:xfrm flipV="1" rot="10800000">
            <a:off x="6947640" y="2881080"/>
            <a:ext cx="1080" cy="201024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0" idx="2"/>
            <a:endCxn id="201" idx="2"/>
          </p:cNvCxnSpPr>
          <p:nvPr/>
        </p:nvCxnSpPr>
        <p:spPr>
          <a:xfrm flipH="1" flipV="1" rot="10800000">
            <a:off x="6780600" y="2476080"/>
            <a:ext cx="2520" cy="2820240"/>
          </a:xfrm>
          <a:prstGeom prst="curvedConnector5">
            <a:avLst>
              <a:gd name="adj1" fmla="val -33200000"/>
              <a:gd name="adj2" fmla="val 49993"/>
              <a:gd name="adj3" fmla="val -332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1" idx="6"/>
            <a:endCxn id="200" idx="6"/>
          </p:cNvCxnSpPr>
          <p:nvPr/>
        </p:nvCxnSpPr>
        <p:spPr>
          <a:xfrm flipV="1">
            <a:off x="7924320" y="2476080"/>
            <a:ext cx="2520" cy="2820240"/>
          </a:xfrm>
          <a:prstGeom prst="curvedConnector5">
            <a:avLst>
              <a:gd name="adj1" fmla="val 34000000"/>
              <a:gd name="adj2" fmla="val 49993"/>
              <a:gd name="adj3" fmla="val 340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713920" y="312408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63520" y="3809880"/>
            <a:ext cx="70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3440" y="34290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reinici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3C3-D716-4691-B582-4E1067BCDA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olítica Refinad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política más adecuad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l superarse el valor definido de presión o temperatura, se entra en un procedimiento “recuperativo”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este procedimiento normaliza la situación, se vuelve al funcionamiento normal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no, suena la alarma y se apaga la planta ente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198108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ción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42900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342900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paga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02920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ción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0"/>
            <a:endCxn id="210" idx="2"/>
          </p:cNvCxnSpPr>
          <p:nvPr/>
        </p:nvCxnSpPr>
        <p:spPr>
          <a:xfrm flipH="1" flipV="1" rot="5400000">
            <a:off x="5067000" y="2400120"/>
            <a:ext cx="876960" cy="11815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0" idx="6"/>
            <a:endCxn id="212" idx="0"/>
          </p:cNvCxnSpPr>
          <p:nvPr/>
        </p:nvCxnSpPr>
        <p:spPr>
          <a:xfrm>
            <a:off x="7238880" y="2552760"/>
            <a:ext cx="1105920" cy="87696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4"/>
            <a:endCxn id="213" idx="2"/>
          </p:cNvCxnSpPr>
          <p:nvPr/>
        </p:nvCxnSpPr>
        <p:spPr>
          <a:xfrm flipH="1" rot="16200000">
            <a:off x="5029200" y="4457520"/>
            <a:ext cx="1029600" cy="125784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3" idx="6"/>
            <a:endCxn id="212" idx="4"/>
          </p:cNvCxnSpPr>
          <p:nvPr/>
        </p:nvCxnSpPr>
        <p:spPr>
          <a:xfrm flipV="1">
            <a:off x="7315200" y="4571640"/>
            <a:ext cx="1029600" cy="10296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3" idx="0"/>
            <a:endCxn id="211" idx="5"/>
          </p:cNvCxnSpPr>
          <p:nvPr/>
        </p:nvCxnSpPr>
        <p:spPr>
          <a:xfrm flipV="1" rot="16200000">
            <a:off x="5719320" y="4004280"/>
            <a:ext cx="624600" cy="1424880"/>
          </a:xfrm>
          <a:prstGeom prst="curvedConnector5">
            <a:avLst>
              <a:gd name="adj1" fmla="val 34313"/>
              <a:gd name="adj2" fmla="val 49987"/>
              <a:gd name="adj3" fmla="val 34313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0" idx="4"/>
            <a:endCxn id="211" idx="7"/>
          </p:cNvCxnSpPr>
          <p:nvPr/>
        </p:nvCxnSpPr>
        <p:spPr>
          <a:xfrm rot="5400000">
            <a:off x="5757120" y="2685960"/>
            <a:ext cx="472320" cy="1348560"/>
          </a:xfrm>
          <a:prstGeom prst="curvedConnector5">
            <a:avLst>
              <a:gd name="adj1" fmla="val 32265"/>
              <a:gd name="adj2" fmla="val 49986"/>
              <a:gd name="adj3" fmla="val 32265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2" idx="2"/>
            <a:endCxn id="211" idx="6"/>
          </p:cNvCxnSpPr>
          <p:nvPr/>
        </p:nvCxnSpPr>
        <p:spPr>
          <a:xfrm flipH="1">
            <a:off x="5486040" y="4000320"/>
            <a:ext cx="22867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4877280" y="2514600"/>
            <a:ext cx="762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18600" y="5105520"/>
            <a:ext cx="103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00800" y="3200400"/>
            <a:ext cx="1047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atisfactori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0920" y="4495680"/>
            <a:ext cx="1047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atisfactori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4160" y="2590920"/>
            <a:ext cx="762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2720" y="5029200"/>
            <a:ext cx="103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79560" y="3776760"/>
            <a:ext cx="777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reinici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68E-2696-4810-9676-4A0BCC2236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os Usos de FSM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máquinas de estados finitos se usan para el reconocimiento de secuencias aceptables (lenguajes formales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94160" indent="-276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agrega la definición de un estado inicial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0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Q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94160" indent="-276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de estados finales o aceptabl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94160" indent="-276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secuencia es aceptable si existe un camino entre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0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y un estado final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429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3429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3429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6"/>
            <a:endCxn id="234" idx="2"/>
          </p:cNvCxnSpPr>
          <p:nvPr/>
        </p:nvCxnSpPr>
        <p:spPr>
          <a:xfrm>
            <a:off x="5866920" y="3771720"/>
            <a:ext cx="762840" cy="10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4" idx="6"/>
            <a:endCxn id="232" idx="2"/>
          </p:cNvCxnSpPr>
          <p:nvPr/>
        </p:nvCxnSpPr>
        <p:spPr>
          <a:xfrm>
            <a:off x="7467480" y="3771720"/>
            <a:ext cx="610560" cy="10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6629400" y="3352680"/>
            <a:ext cx="838080" cy="8384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2" idx="0"/>
            <a:endCxn id="234" idx="0"/>
          </p:cNvCxnSpPr>
          <p:nvPr/>
        </p:nvCxnSpPr>
        <p:spPr>
          <a:xfrm flipV="1" rot="16200000">
            <a:off x="7695720" y="2704680"/>
            <a:ext cx="76680" cy="1372320"/>
          </a:xfrm>
          <a:prstGeom prst="curvedConnector5">
            <a:avLst>
              <a:gd name="adj1" fmla="val 761792"/>
              <a:gd name="adj2" fmla="val 49986"/>
              <a:gd name="adj3" fmla="val 76179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2" idx="4"/>
            <a:endCxn id="234" idx="4"/>
          </p:cNvCxnSpPr>
          <p:nvPr/>
        </p:nvCxnSpPr>
        <p:spPr>
          <a:xfrm rot="5400000">
            <a:off x="7695720" y="3467160"/>
            <a:ext cx="76680" cy="1372320"/>
          </a:xfrm>
          <a:prstGeom prst="curvedConnector5">
            <a:avLst>
              <a:gd name="adj1" fmla="val 776415"/>
              <a:gd name="adj2" fmla="val 49986"/>
              <a:gd name="adj3" fmla="val 776415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5947200" y="35053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t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71080" y="28195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t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9640" y="438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dígit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8560" y="347328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guió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FCA-5796-430F-A40C-9AB69D3DF6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os Usos Má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máquinas de estados finitos son sencillas para especifica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stemas de control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ilación,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aración de patron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iseño de hard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tras aplicaciones no relacionadas con la computa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782-B4C8-41E6-B138-D24DA39AEE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o Ejemp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181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proceso (productor) escribe mensajes en un buffer con dos pos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o proceso lee (consume) los mensajes del buffe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el buffer está lleno, el productor debe esper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el buffer está vacío, el consumidor debe esper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20968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53280" y="2286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5"/>
            <a:endCxn id="247" idx="3"/>
          </p:cNvCxnSpPr>
          <p:nvPr/>
        </p:nvCxnSpPr>
        <p:spPr>
          <a:xfrm flipH="1" rot="16200000">
            <a:off x="7238880" y="1857240"/>
            <a:ext cx="76680" cy="1953000"/>
          </a:xfrm>
          <a:prstGeom prst="curvedConnector5">
            <a:avLst>
              <a:gd name="adj1" fmla="val 531132"/>
              <a:gd name="adj2" fmla="val 50000"/>
              <a:gd name="adj3" fmla="val 53113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1"/>
            <a:endCxn id="246" idx="7"/>
          </p:cNvCxnSpPr>
          <p:nvPr/>
        </p:nvCxnSpPr>
        <p:spPr>
          <a:xfrm flipV="1" rot="16200000">
            <a:off x="7238880" y="1371600"/>
            <a:ext cx="76680" cy="1953000"/>
          </a:xfrm>
          <a:prstGeom prst="curvedConnector5">
            <a:avLst>
              <a:gd name="adj1" fmla="val 533490"/>
              <a:gd name="adj2" fmla="val 50000"/>
              <a:gd name="adj3" fmla="val 53349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6936840" y="28954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61960" y="19051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53280" y="380988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2" idx="5"/>
            <a:endCxn id="253" idx="3"/>
          </p:cNvCxnSpPr>
          <p:nvPr/>
        </p:nvCxnSpPr>
        <p:spPr>
          <a:xfrm flipH="1" rot="16200000">
            <a:off x="7238880" y="3381480"/>
            <a:ext cx="76680" cy="1953000"/>
          </a:xfrm>
          <a:prstGeom prst="curvedConnector5">
            <a:avLst>
              <a:gd name="adj1" fmla="val 533490"/>
              <a:gd name="adj2" fmla="val 50000"/>
              <a:gd name="adj3" fmla="val 53349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3" idx="1"/>
            <a:endCxn id="252" idx="7"/>
          </p:cNvCxnSpPr>
          <p:nvPr/>
        </p:nvCxnSpPr>
        <p:spPr>
          <a:xfrm flipV="1" rot="16200000">
            <a:off x="7238880" y="2895480"/>
            <a:ext cx="76680" cy="1953000"/>
          </a:xfrm>
          <a:prstGeom prst="curvedConnector5">
            <a:avLst>
              <a:gd name="adj1" fmla="val 533490"/>
              <a:gd name="adj2" fmla="val 50000"/>
              <a:gd name="adj3" fmla="val 53349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7089840" y="44197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60880" y="3429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51055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51055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055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8" idx="5"/>
            <a:endCxn id="259" idx="3"/>
          </p:cNvCxnSpPr>
          <p:nvPr/>
        </p:nvCxnSpPr>
        <p:spPr>
          <a:xfrm flipH="1" rot="16200000">
            <a:off x="3732120" y="5134680"/>
            <a:ext cx="2160" cy="111492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9" idx="5"/>
            <a:endCxn id="260" idx="3"/>
          </p:cNvCxnSpPr>
          <p:nvPr/>
        </p:nvCxnSpPr>
        <p:spPr>
          <a:xfrm flipH="1" rot="16200000">
            <a:off x="5332320" y="5134680"/>
            <a:ext cx="2160" cy="111492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9" idx="1"/>
            <a:endCxn id="258" idx="7"/>
          </p:cNvCxnSpPr>
          <p:nvPr/>
        </p:nvCxnSpPr>
        <p:spPr>
          <a:xfrm rot="5400000">
            <a:off x="3732120" y="4647960"/>
            <a:ext cx="2520" cy="1114920"/>
          </a:xfrm>
          <a:prstGeom prst="curvedConnector5">
            <a:avLst>
              <a:gd name="adj1" fmla="val -20700000"/>
              <a:gd name="adj2" fmla="val 50000"/>
              <a:gd name="adj3" fmla="val -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60" idx="1"/>
            <a:endCxn id="259" idx="7"/>
          </p:cNvCxnSpPr>
          <p:nvPr/>
        </p:nvCxnSpPr>
        <p:spPr>
          <a:xfrm rot="5400000">
            <a:off x="5332320" y="4647960"/>
            <a:ext cx="2520" cy="1114920"/>
          </a:xfrm>
          <a:prstGeom prst="curvedConnector5">
            <a:avLst>
              <a:gd name="adj1" fmla="val -20700000"/>
              <a:gd name="adj2" fmla="val 50000"/>
              <a:gd name="adj3" fmla="val -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3356640" y="568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8560" y="48448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8760" y="48006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6840" y="568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714-8A86-4D8F-983A-85C928E63A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s de Fluj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Diagramas de Flujo de Datos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(DFDs) son populares para especificar funcionalidad en sistemas de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sistemas se ven como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olecciones de datos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manipulados por ciertos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procesos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atos pueden se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áticos - en repositorios de da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inámicos - comunicación entre procesos y entidades extern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C30-0894-4AF7-BC24-5BE710421F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SM del Sistema Comple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1905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3048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4191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5334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3048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4191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5334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3048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29400" y="4191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5334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0" idx="4"/>
            <a:endCxn id="271" idx="0"/>
          </p:cNvCxnSpPr>
          <p:nvPr/>
        </p:nvCxnSpPr>
        <p:spPr>
          <a:xfrm>
            <a:off x="2171520" y="2590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2" idx="4"/>
            <a:endCxn id="273" idx="0"/>
          </p:cNvCxnSpPr>
          <p:nvPr/>
        </p:nvCxnSpPr>
        <p:spPr>
          <a:xfrm>
            <a:off x="217152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4" idx="4"/>
            <a:endCxn id="275" idx="0"/>
          </p:cNvCxnSpPr>
          <p:nvPr/>
        </p:nvCxnSpPr>
        <p:spPr>
          <a:xfrm>
            <a:off x="4533480" y="2590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6" idx="4"/>
            <a:endCxn id="277" idx="0"/>
          </p:cNvCxnSpPr>
          <p:nvPr/>
        </p:nvCxnSpPr>
        <p:spPr>
          <a:xfrm>
            <a:off x="453348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4"/>
            <a:endCxn id="279" idx="0"/>
          </p:cNvCxnSpPr>
          <p:nvPr/>
        </p:nvCxnSpPr>
        <p:spPr>
          <a:xfrm>
            <a:off x="6972120" y="2590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0" idx="4"/>
            <a:endCxn id="281" idx="0"/>
          </p:cNvCxnSpPr>
          <p:nvPr/>
        </p:nvCxnSpPr>
        <p:spPr>
          <a:xfrm>
            <a:off x="697212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2" idx="2"/>
            <a:endCxn id="270" idx="2"/>
          </p:cNvCxnSpPr>
          <p:nvPr/>
        </p:nvCxnSpPr>
        <p:spPr>
          <a:xfrm flipH="1" rot="10800000">
            <a:off x="1828440" y="2247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3" idx="2"/>
            <a:endCxn id="271" idx="2"/>
          </p:cNvCxnSpPr>
          <p:nvPr/>
        </p:nvCxnSpPr>
        <p:spPr>
          <a:xfrm flipH="1" rot="10800000">
            <a:off x="1828440" y="3390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6" idx="2"/>
            <a:endCxn id="274" idx="2"/>
          </p:cNvCxnSpPr>
          <p:nvPr/>
        </p:nvCxnSpPr>
        <p:spPr>
          <a:xfrm flipH="1" rot="10800000">
            <a:off x="4190760" y="2247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7" idx="2"/>
            <a:endCxn id="275" idx="2"/>
          </p:cNvCxnSpPr>
          <p:nvPr/>
        </p:nvCxnSpPr>
        <p:spPr>
          <a:xfrm flipH="1" rot="10800000">
            <a:off x="4190760" y="3390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1" idx="2"/>
            <a:endCxn id="279" idx="2"/>
          </p:cNvCxnSpPr>
          <p:nvPr/>
        </p:nvCxnSpPr>
        <p:spPr>
          <a:xfrm flipH="1" rot="10800000">
            <a:off x="6629040" y="3390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0" idx="2"/>
            <a:endCxn id="278" idx="2"/>
          </p:cNvCxnSpPr>
          <p:nvPr/>
        </p:nvCxnSpPr>
        <p:spPr>
          <a:xfrm flipH="1" rot="10800000">
            <a:off x="6629040" y="2247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1" idx="7"/>
            <a:endCxn id="274" idx="0"/>
          </p:cNvCxnSpPr>
          <p:nvPr/>
        </p:nvCxnSpPr>
        <p:spPr>
          <a:xfrm flipH="1" flipV="1" rot="5400000">
            <a:off x="2852280" y="1466280"/>
            <a:ext cx="1243440" cy="2120040"/>
          </a:xfrm>
          <a:prstGeom prst="curvedConnector5">
            <a:avLst>
              <a:gd name="adj1" fmla="val 125774"/>
              <a:gd name="adj2" fmla="val 50000"/>
              <a:gd name="adj3" fmla="val 12577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4" idx="1"/>
            <a:endCxn id="272" idx="6"/>
          </p:cNvCxnSpPr>
          <p:nvPr/>
        </p:nvCxnSpPr>
        <p:spPr>
          <a:xfrm rot="5400000">
            <a:off x="2137680" y="2380320"/>
            <a:ext cx="2529720" cy="1776960"/>
          </a:xfrm>
          <a:prstGeom prst="curvedConnector5">
            <a:avLst>
              <a:gd name="adj1" fmla="val -3885"/>
              <a:gd name="adj2" fmla="val 26403"/>
              <a:gd name="adj3" fmla="val -3885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5" idx="7"/>
            <a:endCxn id="278" idx="0"/>
          </p:cNvCxnSpPr>
          <p:nvPr/>
        </p:nvCxnSpPr>
        <p:spPr>
          <a:xfrm flipH="1" flipV="1" rot="5400000">
            <a:off x="5252400" y="1428480"/>
            <a:ext cx="1243440" cy="2196000"/>
          </a:xfrm>
          <a:prstGeom prst="curvedConnector5">
            <a:avLst>
              <a:gd name="adj1" fmla="val 126817"/>
              <a:gd name="adj2" fmla="val 49991"/>
              <a:gd name="adj3" fmla="val 126817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78" idx="1"/>
            <a:endCxn id="276" idx="6"/>
          </p:cNvCxnSpPr>
          <p:nvPr/>
        </p:nvCxnSpPr>
        <p:spPr>
          <a:xfrm rot="5400000">
            <a:off x="4538160" y="2342160"/>
            <a:ext cx="2529720" cy="1853280"/>
          </a:xfrm>
          <a:prstGeom prst="curvedConnector5">
            <a:avLst>
              <a:gd name="adj1" fmla="val -7586"/>
              <a:gd name="adj2" fmla="val 26345"/>
              <a:gd name="adj3" fmla="val -758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75" idx="4"/>
            <a:endCxn id="273" idx="7"/>
          </p:cNvCxnSpPr>
          <p:nvPr/>
        </p:nvCxnSpPr>
        <p:spPr>
          <a:xfrm rot="5400000">
            <a:off x="2623320" y="3524040"/>
            <a:ext cx="1700640" cy="2120040"/>
          </a:xfrm>
          <a:prstGeom prst="curvedConnector5">
            <a:avLst>
              <a:gd name="adj1" fmla="val 39106"/>
              <a:gd name="adj2" fmla="val 50000"/>
              <a:gd name="adj3" fmla="val 3910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79" idx="4"/>
            <a:endCxn id="277" idx="7"/>
          </p:cNvCxnSpPr>
          <p:nvPr/>
        </p:nvCxnSpPr>
        <p:spPr>
          <a:xfrm rot="5400000">
            <a:off x="5023800" y="3486240"/>
            <a:ext cx="1700640" cy="2196000"/>
          </a:xfrm>
          <a:prstGeom prst="curvedConnector5">
            <a:avLst>
              <a:gd name="adj1" fmla="val 39106"/>
              <a:gd name="adj2" fmla="val 49991"/>
              <a:gd name="adj3" fmla="val 3910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73" idx="6"/>
            <a:endCxn id="276" idx="3"/>
          </p:cNvCxnSpPr>
          <p:nvPr/>
        </p:nvCxnSpPr>
        <p:spPr>
          <a:xfrm flipV="1">
            <a:off x="2514600" y="4776480"/>
            <a:ext cx="1776960" cy="900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77" idx="6"/>
            <a:endCxn id="280" idx="3"/>
          </p:cNvCxnSpPr>
          <p:nvPr/>
        </p:nvCxnSpPr>
        <p:spPr>
          <a:xfrm flipV="1">
            <a:off x="4876920" y="4776480"/>
            <a:ext cx="1853280" cy="900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841320" y="25146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7280" y="47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08200" y="2438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70520" y="25146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7880" y="47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51160" y="47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8240" y="26668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8240" y="4876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93640" y="26668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7320" y="4876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5000" y="26668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5000" y="4876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52080" y="15238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90360" y="15238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7160" y="54864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90360" y="54100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22760" y="3581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3581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8720" y="44197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9640" y="4343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13160" y="1600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30440" y="36259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13160" y="3886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89120" y="59436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51440" y="59436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1440" y="39625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51440" y="36576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75120" y="1600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31040" y="59119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9720" y="3886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89720" y="36259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07360" y="15685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20E-619A-4DE9-B5D2-BE720E19F4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Limitaciones de las FSM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ra aplicaciones sofisticadas, la simplicidad de la notación puede ser una desventaja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la acción correctiva de la planta química depende de la temperatura o presión alcanzada, existe un número infinito de estados posibles y posibles ac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el buffer tiene n posiciones en lugar de 2, el tamaño del diagrama sería enorm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se dan simultáneamente temperatura y presión excesivas, no es claro en qué estado quedará el siste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ada impide que las acciones de lectura y escritura se den simultáneamente cuando el buffer tiene un solo elemen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B5D-8D31-469F-B392-E9F762DD34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des de Petr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ormalismos gráficos especialmente apropiados para modelar sistemas asincrónic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componen 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lugares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(círculos)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transiciones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(barras)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flechas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(flechas) conectando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ugares con transicion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ransiciones con luga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de una red de Petri se establece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marcan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los lugares.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jun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tokens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asignados a lugares de la red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EFC-4526-47E7-8A5D-38236AA9E9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n Ejemplo de Red de Petr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1752480"/>
            <a:ext cx="53316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3048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7280" y="175248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90920" y="4952880"/>
            <a:ext cx="53316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495288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42670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42670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57150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7150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3429000"/>
            <a:ext cx="30492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09880" y="3429000"/>
            <a:ext cx="45720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3429000"/>
            <a:ext cx="30492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486400" y="3429000"/>
            <a:ext cx="38088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047760" y="4267080"/>
            <a:ext cx="60948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4267080"/>
            <a:ext cx="68580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5410080"/>
            <a:ext cx="53316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257440" y="5334120"/>
            <a:ext cx="60948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62" idx="0"/>
            <a:endCxn id="339" idx="2"/>
          </p:cNvCxnSpPr>
          <p:nvPr/>
        </p:nvCxnSpPr>
        <p:spPr>
          <a:xfrm flipV="1" rot="16200000">
            <a:off x="1230480" y="3364200"/>
            <a:ext cx="3696480" cy="1005480"/>
          </a:xfrm>
          <a:prstGeom prst="curvedConnector5">
            <a:avLst>
              <a:gd name="adj1" fmla="val -10947"/>
              <a:gd name="adj2" fmla="val 69412"/>
              <a:gd name="adj3" fmla="val -10947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63" idx="0"/>
            <a:endCxn id="341" idx="6"/>
          </p:cNvCxnSpPr>
          <p:nvPr/>
        </p:nvCxnSpPr>
        <p:spPr>
          <a:xfrm flipH="1" flipV="1" rot="5400000">
            <a:off x="3987720" y="3287520"/>
            <a:ext cx="3695040" cy="1157760"/>
          </a:xfrm>
          <a:prstGeom prst="curvedConnector5">
            <a:avLst>
              <a:gd name="adj1" fmla="val -10396"/>
              <a:gd name="adj2" fmla="val 68118"/>
              <a:gd name="adj3" fmla="val -1039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2" idx="1"/>
            <a:endCxn id="343" idx="4"/>
          </p:cNvCxnSpPr>
          <p:nvPr/>
        </p:nvCxnSpPr>
        <p:spPr>
          <a:xfrm flipH="1" flipV="1" rot="5400000">
            <a:off x="2997720" y="4178520"/>
            <a:ext cx="2120040" cy="953280"/>
          </a:xfrm>
          <a:prstGeom prst="curvedConnector5">
            <a:avLst>
              <a:gd name="adj1" fmla="val -10784"/>
              <a:gd name="adj2" fmla="val 49981"/>
              <a:gd name="adj3" fmla="val -1078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3" idx="1"/>
            <a:endCxn id="343" idx="4"/>
          </p:cNvCxnSpPr>
          <p:nvPr/>
        </p:nvCxnSpPr>
        <p:spPr>
          <a:xfrm flipV="1" rot="16200000">
            <a:off x="3836160" y="4291920"/>
            <a:ext cx="2118600" cy="724680"/>
          </a:xfrm>
          <a:prstGeom prst="curvedConnector5">
            <a:avLst>
              <a:gd name="adj1" fmla="val -10859"/>
              <a:gd name="adj2" fmla="val 50000"/>
              <a:gd name="adj3" fmla="val -1085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2368440" y="27432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8840" y="16002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78160" y="25909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8440" y="16765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68840" y="2895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44400" y="46483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49760" y="48006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652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4940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7920" y="40384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44800" y="40384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77920" y="54864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44800" y="556272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98A-26DD-4605-8965-3E122BD627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námica de las Redes de Petr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transición puede tener una o más flechas entrantes y una o más flechas sali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flecha va de un lugar a una transición, ese lugar se dice un lugar de entrada de la trans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flecha va de una transición a un lugar, ese lugar es un lugar de salida de la trans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transición está habilitada si existe al menos un token en cada uno de sus estados de entr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9DF-CFBE-42BE-95FF-D2F8773941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par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olamente una transición habilitada puede disparars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consume un token de cada lugar de entra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produce un token en cada lugar de sal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existe más de una transición habilitada, el sistema elige una en forma no determinística para disparar primer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secuencia de disparos es una cadena &lt;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...,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&gt; tal que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habilitada con el marcado inicial,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queda habilitada después de dispara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y así sucesiv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349-A51B-470C-AC38-A2B5C24094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pre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des de Petri se usan para especificar sistemas concurr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transiciones modelan eventos o acciones, y dispararlas implica que se da ese evento o 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habilitación de las transiciones implica que están dadas las condiciones para la acción correspond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existencia de un token en un lugar representa la existencia de determinada condición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cursos disponib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osible conflic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no determinismo puede causar la “hambruna”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28F-B2CB-4CBC-8409-A43C28EBD9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adlock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1752480"/>
            <a:ext cx="53316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3048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5334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5334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1932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38862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6095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6095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5791320"/>
            <a:ext cx="53316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657240" y="5715000"/>
            <a:ext cx="60948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4" idx="0"/>
            <a:endCxn id="388" idx="2"/>
          </p:cNvCxnSpPr>
          <p:nvPr/>
        </p:nvCxnSpPr>
        <p:spPr>
          <a:xfrm flipV="1" rot="16200000">
            <a:off x="-560160" y="3554640"/>
            <a:ext cx="4077360" cy="1005480"/>
          </a:xfrm>
          <a:prstGeom prst="curvedConnector5">
            <a:avLst>
              <a:gd name="adj1" fmla="val -5598"/>
              <a:gd name="adj2" fmla="val 74856"/>
              <a:gd name="adj3" fmla="val -5598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5" idx="0"/>
            <a:endCxn id="390" idx="6"/>
          </p:cNvCxnSpPr>
          <p:nvPr/>
        </p:nvCxnSpPr>
        <p:spPr>
          <a:xfrm flipH="1" flipV="1" rot="5400000">
            <a:off x="2197080" y="3477960"/>
            <a:ext cx="4075920" cy="1157760"/>
          </a:xfrm>
          <a:prstGeom prst="curvedConnector5">
            <a:avLst>
              <a:gd name="adj1" fmla="val -5644"/>
              <a:gd name="adj2" fmla="val 59253"/>
              <a:gd name="adj3" fmla="val -564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4" idx="1"/>
            <a:endCxn id="392" idx="4"/>
          </p:cNvCxnSpPr>
          <p:nvPr/>
        </p:nvCxnSpPr>
        <p:spPr>
          <a:xfrm flipH="1" flipV="1" rot="5400000">
            <a:off x="1207080" y="4368960"/>
            <a:ext cx="2500920" cy="953280"/>
          </a:xfrm>
          <a:prstGeom prst="curvedConnector5">
            <a:avLst>
              <a:gd name="adj1" fmla="val -9141"/>
              <a:gd name="adj2" fmla="val 49981"/>
              <a:gd name="adj3" fmla="val -9141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5" idx="1"/>
            <a:endCxn id="392" idx="4"/>
          </p:cNvCxnSpPr>
          <p:nvPr/>
        </p:nvCxnSpPr>
        <p:spPr>
          <a:xfrm flipV="1" rot="16200000">
            <a:off x="2045520" y="4482360"/>
            <a:ext cx="2499480" cy="724680"/>
          </a:xfrm>
          <a:prstGeom prst="curvedConnector5">
            <a:avLst>
              <a:gd name="adj1" fmla="val -9204"/>
              <a:gd name="adj2" fmla="val 50000"/>
              <a:gd name="adj3" fmla="val -920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968640" y="16002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77960" y="25909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8240" y="15238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49560" y="5181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632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4920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5600" y="36576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7720" y="5867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44600" y="59436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4191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4952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342900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388620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47242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4952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00" idx="0"/>
            <a:endCxn id="392" idx="4"/>
          </p:cNvCxnSpPr>
          <p:nvPr/>
        </p:nvCxnSpPr>
        <p:spPr>
          <a:xfrm flipH="1" flipV="1" rot="5400000">
            <a:off x="1389600" y="4566600"/>
            <a:ext cx="2515320" cy="572040"/>
          </a:xfrm>
          <a:prstGeom prst="curvedConnector5">
            <a:avLst>
              <a:gd name="adj1" fmla="val 91468"/>
              <a:gd name="adj2" fmla="val 50000"/>
              <a:gd name="adj3" fmla="val 91468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01" idx="0"/>
            <a:endCxn id="392" idx="4"/>
          </p:cNvCxnSpPr>
          <p:nvPr/>
        </p:nvCxnSpPr>
        <p:spPr>
          <a:xfrm flipV="1" rot="16200000">
            <a:off x="1899720" y="4628520"/>
            <a:ext cx="2486880" cy="419760"/>
          </a:xfrm>
          <a:prstGeom prst="curvedConnector5">
            <a:avLst>
              <a:gd name="adj1" fmla="val 90473"/>
              <a:gd name="adj2" fmla="val 49957"/>
              <a:gd name="adj3" fmla="val 90473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 flipH="1">
            <a:off x="1371600" y="3429000"/>
            <a:ext cx="12952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447920" y="3429000"/>
            <a:ext cx="1295280" cy="152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39006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92320" y="47242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’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420516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4967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3900600"/>
            <a:ext cx="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4738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49672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358128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1920" y="47242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’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8280" y="36576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33526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31240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3429000"/>
            <a:ext cx="10666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3429000"/>
            <a:ext cx="1295280" cy="152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deadlock ocurre cuando una secuencia de disparos lleva a que no existan más transiciones habilita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red de Petri donde no pueden ocurrir deadlocks, se dice que está viv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22B-B8BE-494E-A60E-C86F03E84C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Limita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des de Petri modelan solamente el flujo de control de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tokens representan recursos, pero son anónim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impresora disponible, pero ¿cuál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mensaje en el buffer, pero ¿qué contiene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signación de valores a los toke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incluye consideraciones de tiempo de ejecu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loured Petri nets o redes con tiemp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3A7-859C-4952-8837-176A9D265E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FDs: No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Burbujas: representan fun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lechas: flujos de datos. Pueden entrar o salir de una burbuj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jas abiertas: almacenamiento de datos. Flechas saliendo de las cajas son lectura de datos, y entrando son escritura de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jas cerradas: entidades externas al sistema; pueden ser usuarios u otros 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19810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ceso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5812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ceso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1"/>
            <a:endCxn id="47" idx="2"/>
          </p:cNvCxnSpPr>
          <p:nvPr/>
        </p:nvCxnSpPr>
        <p:spPr>
          <a:xfrm flipH="1" flipV="1" rot="5400000">
            <a:off x="6699960" y="3067200"/>
            <a:ext cx="1168920" cy="2152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858720" y="306216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ato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7" idx="5"/>
            <a:endCxn id="48" idx="6"/>
          </p:cNvCxnSpPr>
          <p:nvPr/>
        </p:nvCxnSpPr>
        <p:spPr>
          <a:xfrm rot="5400000">
            <a:off x="7675560" y="3499560"/>
            <a:ext cx="1169280" cy="2152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8078040" y="32767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ato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2920" y="914400"/>
            <a:ext cx="1676160" cy="457200"/>
            <a:chOff x="7162920" y="914400"/>
            <a:chExt cx="1676160" cy="457200"/>
          </a:xfrm>
        </p:grpSpPr>
        <p:sp>
          <p:nvSpPr>
            <p:cNvPr id="54" name=""/>
            <p:cNvSpPr/>
            <p:nvPr/>
          </p:nvSpPr>
          <p:spPr>
            <a:xfrm>
              <a:off x="7162920" y="9144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62920" y="13716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62920" y="9144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162560" y="9144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924680" y="1371600"/>
            <a:ext cx="7632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7160" y="14479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a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5638680"/>
            <a:ext cx="12189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8" idx="4"/>
            <a:endCxn id="60" idx="0"/>
          </p:cNvCxnSpPr>
          <p:nvPr/>
        </p:nvCxnSpPr>
        <p:spPr>
          <a:xfrm flipH="1">
            <a:off x="7543440" y="4800600"/>
            <a:ext cx="3888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163640" y="49528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íne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D13-DF9E-4BAD-A9AA-F4FED5B35B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La Bibliote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ra obtener un libro se requie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solicitud del usuario conteniendo su identificación así como también el nombre y el autor del libr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isponer de una lista de libros y autores para localizar el libr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eder a los estantes donde se encuentra el libr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DFD es una primera aproximación a como ocurre este procedimien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F8B-5A66-469A-BB1A-93A678821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edir un Libr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981080"/>
            <a:ext cx="1676160" cy="457200"/>
            <a:chOff x="457200" y="1981080"/>
            <a:chExt cx="1676160" cy="457200"/>
          </a:xfrm>
        </p:grpSpPr>
        <p:sp>
          <p:nvSpPr>
            <p:cNvPr id="67" name=""/>
            <p:cNvSpPr/>
            <p:nvPr/>
          </p:nvSpPr>
          <p:spPr>
            <a:xfrm>
              <a:off x="457200" y="19810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4382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19810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560" y="19810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tan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2971800"/>
            <a:ext cx="1676160" cy="457200"/>
            <a:chOff x="457200" y="2971800"/>
            <a:chExt cx="1676160" cy="457200"/>
          </a:xfrm>
        </p:grpSpPr>
        <p:sp>
          <p:nvSpPr>
            <p:cNvPr id="72" name=""/>
            <p:cNvSpPr/>
            <p:nvPr/>
          </p:nvSpPr>
          <p:spPr>
            <a:xfrm>
              <a:off x="457200" y="2971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429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2971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55040" y="2971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Au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7200" y="4114800"/>
            <a:ext cx="1676160" cy="457200"/>
            <a:chOff x="457200" y="4114800"/>
            <a:chExt cx="1676160" cy="457200"/>
          </a:xfrm>
        </p:grpSpPr>
        <p:sp>
          <p:nvSpPr>
            <p:cNvPr id="77" name=""/>
            <p:cNvSpPr/>
            <p:nvPr/>
          </p:nvSpPr>
          <p:spPr>
            <a:xfrm>
              <a:off x="457200" y="4114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" y="4572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4114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55760" y="41148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Tít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5257800"/>
            <a:ext cx="1676160" cy="457200"/>
            <a:chOff x="457200" y="5257800"/>
            <a:chExt cx="1676160" cy="457200"/>
          </a:xfrm>
        </p:grpSpPr>
        <p:sp>
          <p:nvSpPr>
            <p:cNvPr id="82" name=""/>
            <p:cNvSpPr/>
            <p:nvPr/>
          </p:nvSpPr>
          <p:spPr>
            <a:xfrm>
              <a:off x="457200" y="5257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5715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5257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56480" y="52578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Tem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22096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Obten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n lib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11480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usc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or 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34320" y="5181480"/>
            <a:ext cx="1676160" cy="457200"/>
            <a:chOff x="6934320" y="5181480"/>
            <a:chExt cx="1676160" cy="457200"/>
          </a:xfrm>
        </p:grpSpPr>
        <p:sp>
          <p:nvSpPr>
            <p:cNvPr id="89" name=""/>
            <p:cNvSpPr/>
            <p:nvPr/>
          </p:nvSpPr>
          <p:spPr>
            <a:xfrm>
              <a:off x="6934320" y="51814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34320" y="56386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51814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931080" y="518148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bros Prest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371600"/>
            <a:ext cx="12193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0800000">
            <a:off x="4686480" y="1675440"/>
            <a:ext cx="2171880" cy="5338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84400" y="140976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 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70" idx="0"/>
            <a:endCxn id="86" idx="1"/>
          </p:cNvCxnSpPr>
          <p:nvPr/>
        </p:nvCxnSpPr>
        <p:spPr>
          <a:xfrm flipH="1" rot="16200000">
            <a:off x="2423160" y="528120"/>
            <a:ext cx="407160" cy="3310560"/>
          </a:xfrm>
          <a:prstGeom prst="curvedConnector5">
            <a:avLst>
              <a:gd name="adj1" fmla="val -56194"/>
              <a:gd name="adj2" fmla="val 49994"/>
              <a:gd name="adj3" fmla="val -5619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423520" y="14619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5" idx="0"/>
            <a:endCxn id="86" idx="2"/>
          </p:cNvCxnSpPr>
          <p:nvPr/>
        </p:nvCxnSpPr>
        <p:spPr>
          <a:xfrm flipH="1" flipV="1" rot="5400000">
            <a:off x="2674800" y="1531440"/>
            <a:ext cx="153000" cy="27280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592000" y="2529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0" idx="0"/>
            <a:endCxn id="86" idx="3"/>
          </p:cNvCxnSpPr>
          <p:nvPr/>
        </p:nvCxnSpPr>
        <p:spPr>
          <a:xfrm flipH="1" flipV="1" rot="5400000">
            <a:off x="2381040" y="2214000"/>
            <a:ext cx="864360" cy="2937600"/>
          </a:xfrm>
          <a:prstGeom prst="curvedConnector5">
            <a:avLst>
              <a:gd name="adj1" fmla="val 39666"/>
              <a:gd name="adj2" fmla="val 49993"/>
              <a:gd name="adj3" fmla="val 3966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591640" y="34290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80" idx="2"/>
            <a:endCxn id="87" idx="2"/>
          </p:cNvCxnSpPr>
          <p:nvPr/>
        </p:nvCxnSpPr>
        <p:spPr>
          <a:xfrm flipH="1" rot="16200000">
            <a:off x="2622240" y="3232440"/>
            <a:ext cx="213480" cy="27709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2820240" y="44197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86" idx="6"/>
            <a:endCxn id="92" idx="0"/>
          </p:cNvCxnSpPr>
          <p:nvPr/>
        </p:nvCxnSpPr>
        <p:spPr>
          <a:xfrm>
            <a:off x="5257800" y="2819160"/>
            <a:ext cx="2618280" cy="23626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6781320" y="403848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86" idx="7"/>
            <a:endCxn id="93" idx="2"/>
          </p:cNvCxnSpPr>
          <p:nvPr/>
        </p:nvCxnSpPr>
        <p:spPr>
          <a:xfrm flipH="1" flipV="1" rot="5400000">
            <a:off x="6075720" y="995400"/>
            <a:ext cx="407160" cy="2377080"/>
          </a:xfrm>
          <a:prstGeom prst="curvedConnector5">
            <a:avLst>
              <a:gd name="adj1" fmla="val -31946"/>
              <a:gd name="adj2" fmla="val 50000"/>
              <a:gd name="adj3" fmla="val -3194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401880" y="22096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93" idx="1"/>
            <a:endCxn id="87" idx="7"/>
          </p:cNvCxnSpPr>
          <p:nvPr/>
        </p:nvCxnSpPr>
        <p:spPr>
          <a:xfrm flipV="1" rot="10800000">
            <a:off x="5090400" y="1675440"/>
            <a:ext cx="1767600" cy="261684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877640" y="35812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85" idx="3"/>
            <a:endCxn id="87" idx="3"/>
          </p:cNvCxnSpPr>
          <p:nvPr/>
        </p:nvCxnSpPr>
        <p:spPr>
          <a:xfrm flipV="1">
            <a:off x="2190600" y="5155560"/>
            <a:ext cx="2091600" cy="3006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820240" y="51195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87" idx="6"/>
            <a:endCxn id="93" idx="2"/>
          </p:cNvCxnSpPr>
          <p:nvPr/>
        </p:nvCxnSpPr>
        <p:spPr>
          <a:xfrm flipV="1">
            <a:off x="5257800" y="1980720"/>
            <a:ext cx="2210400" cy="27439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7162920" y="25909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sta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8ED-DDEC-440D-A69A-F2E3DA500A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btener un Libro (refinamiento o explosión)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971800"/>
            <a:ext cx="1676160" cy="457200"/>
            <a:chOff x="457200" y="2971800"/>
            <a:chExt cx="1676160" cy="457200"/>
          </a:xfrm>
        </p:grpSpPr>
        <p:sp>
          <p:nvSpPr>
            <p:cNvPr id="116" name=""/>
            <p:cNvSpPr/>
            <p:nvPr/>
          </p:nvSpPr>
          <p:spPr>
            <a:xfrm>
              <a:off x="457200" y="2971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3429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971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57560" y="297180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tan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3962520"/>
            <a:ext cx="1676160" cy="457200"/>
            <a:chOff x="457200" y="3962520"/>
            <a:chExt cx="1676160" cy="457200"/>
          </a:xfrm>
        </p:grpSpPr>
        <p:sp>
          <p:nvSpPr>
            <p:cNvPr id="121" name=""/>
            <p:cNvSpPr/>
            <p:nvPr/>
          </p:nvSpPr>
          <p:spPr>
            <a:xfrm>
              <a:off x="457200" y="39625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4197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396252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5040" y="39625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Au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5105520"/>
            <a:ext cx="1676160" cy="457200"/>
            <a:chOff x="457200" y="5105520"/>
            <a:chExt cx="1676160" cy="457200"/>
          </a:xfrm>
        </p:grpSpPr>
        <p:sp>
          <p:nvSpPr>
            <p:cNvPr id="126" name=""/>
            <p:cNvSpPr/>
            <p:nvPr/>
          </p:nvSpPr>
          <p:spPr>
            <a:xfrm>
              <a:off x="457200" y="51055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55627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10552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5760" y="510552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Tít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22096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Obten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l lib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934320" y="2514600"/>
            <a:ext cx="1676160" cy="457200"/>
            <a:chOff x="6934320" y="2514600"/>
            <a:chExt cx="1676160" cy="457200"/>
          </a:xfrm>
        </p:grpSpPr>
        <p:sp>
          <p:nvSpPr>
            <p:cNvPr id="132" name=""/>
            <p:cNvSpPr/>
            <p:nvPr/>
          </p:nvSpPr>
          <p:spPr>
            <a:xfrm>
              <a:off x="6934320" y="25146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4320" y="2971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34320" y="25146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931080" y="251460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bros Prest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029200"/>
            <a:ext cx="12193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3760" y="548640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 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19" idx="0"/>
            <a:endCxn id="130" idx="1"/>
          </p:cNvCxnSpPr>
          <p:nvPr/>
        </p:nvCxnSpPr>
        <p:spPr>
          <a:xfrm flipH="1" flipV="1" rot="5400000">
            <a:off x="2410200" y="947880"/>
            <a:ext cx="585000" cy="3462840"/>
          </a:xfrm>
          <a:prstGeom prst="curvedConnector5">
            <a:avLst>
              <a:gd name="adj1" fmla="val 169519"/>
              <a:gd name="adj2" fmla="val 50000"/>
              <a:gd name="adj3" fmla="val 16951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2363400" y="19051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24" idx="0"/>
            <a:endCxn id="141" idx="1"/>
          </p:cNvCxnSpPr>
          <p:nvPr/>
        </p:nvCxnSpPr>
        <p:spPr>
          <a:xfrm flipH="1" rot="16200000">
            <a:off x="2631240" y="2718360"/>
            <a:ext cx="559080" cy="3047040"/>
          </a:xfrm>
          <a:prstGeom prst="curvedConnector5">
            <a:avLst>
              <a:gd name="adj1" fmla="val -40914"/>
              <a:gd name="adj2" fmla="val 49994"/>
              <a:gd name="adj3" fmla="val -4091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2000" y="3429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29" idx="0"/>
            <a:endCxn id="141" idx="2"/>
          </p:cNvCxnSpPr>
          <p:nvPr/>
        </p:nvCxnSpPr>
        <p:spPr>
          <a:xfrm flipH="1" flipV="1" rot="5400000">
            <a:off x="2729160" y="3567600"/>
            <a:ext cx="153360" cy="29232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91640" y="46483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0" idx="7"/>
            <a:endCxn id="135" idx="0"/>
          </p:cNvCxnSpPr>
          <p:nvPr/>
        </p:nvCxnSpPr>
        <p:spPr>
          <a:xfrm flipH="1" rot="16200000">
            <a:off x="6495840" y="1133640"/>
            <a:ext cx="127800" cy="2633040"/>
          </a:xfrm>
          <a:prstGeom prst="curvedConnector5">
            <a:avLst>
              <a:gd name="adj1" fmla="val -319774"/>
              <a:gd name="adj2" fmla="val 49993"/>
              <a:gd name="adj3" fmla="val -31977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486040" y="190512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1" idx="4"/>
            <a:endCxn id="136" idx="2"/>
          </p:cNvCxnSpPr>
          <p:nvPr/>
        </p:nvCxnSpPr>
        <p:spPr>
          <a:xfrm flipH="1" rot="16200000">
            <a:off x="6191280" y="4209480"/>
            <a:ext cx="76680" cy="2782080"/>
          </a:xfrm>
          <a:prstGeom prst="curvedConnector5">
            <a:avLst>
              <a:gd name="adj1" fmla="val 400000"/>
              <a:gd name="adj2" fmla="val 49993"/>
              <a:gd name="adj3" fmla="val 400000"/>
            </a:avLst>
          </a:prstGeom>
          <a:ln w="9360">
            <a:solidFill>
              <a:srgbClr val="000066"/>
            </a:solidFill>
            <a:miter/>
            <a:head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859080" y="38098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34340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usc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n lib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0" idx="6"/>
            <a:endCxn id="136" idx="0"/>
          </p:cNvCxnSpPr>
          <p:nvPr/>
        </p:nvCxnSpPr>
        <p:spPr>
          <a:xfrm>
            <a:off x="5409720" y="2819520"/>
            <a:ext cx="2210760" cy="22104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1" idx="0"/>
            <a:endCxn id="130" idx="4"/>
          </p:cNvCxnSpPr>
          <p:nvPr/>
        </p:nvCxnSpPr>
        <p:spPr>
          <a:xfrm flipV="1">
            <a:off x="4838400" y="3428640"/>
            <a:ext cx="1080" cy="9151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190400" y="344340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#estante, #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313-84D5-4395-829E-1475CCEB88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eci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refinamiento de procesos da mayor precisión a la especificación, pero no elimina la ambigüe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es necesario dar el título del libro y el autor siempre? ¿o alcanza sólo con el nombre del libr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FA0-E97E-4E47-A572-742F07414E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usas de Impreci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mánt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significado de los nombres de los elementos del diagrama son elegidos (imprecisamente) por el especificado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743200" y="2895480"/>
            <a:ext cx="4648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el usuario da el título y el autor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determinar la posición del libro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el libro existe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obtener el libro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no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dar un mensaje de error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no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se da sólo el autor del libro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dar una lista de libros de ese autor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pedir un título de la lista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no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si se da sólo el título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443-2739-4849-B34C-1DD57424BA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Causas de Impreci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modelo no define elementos de contro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o se explicita cómo producir las salidas a partir de las entrad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necesit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, para poder producir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necesit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 producir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produc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simultánea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produce primer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y lueg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38862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o posible problema de control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 manda el dat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en cuanto lo tiene disponibl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solicita a A el dat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190512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25146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2004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25146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213372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9718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0" idx="5"/>
            <a:endCxn id="163" idx="1"/>
          </p:cNvCxnSpPr>
          <p:nvPr/>
        </p:nvCxnSpPr>
        <p:spPr>
          <a:xfrm>
            <a:off x="6029280" y="2295360"/>
            <a:ext cx="820080" cy="286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1" idx="6"/>
            <a:endCxn id="163" idx="2"/>
          </p:cNvCxnSpPr>
          <p:nvPr/>
        </p:nvCxnSpPr>
        <p:spPr>
          <a:xfrm>
            <a:off x="6095520" y="274284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2" idx="7"/>
            <a:endCxn id="163" idx="3"/>
          </p:cNvCxnSpPr>
          <p:nvPr/>
        </p:nvCxnSpPr>
        <p:spPr>
          <a:xfrm flipV="1">
            <a:off x="6029280" y="2904480"/>
            <a:ext cx="820080" cy="362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3" idx="7"/>
            <a:endCxn id="164" idx="2"/>
          </p:cNvCxnSpPr>
          <p:nvPr/>
        </p:nvCxnSpPr>
        <p:spPr>
          <a:xfrm flipV="1">
            <a:off x="7171920" y="2361960"/>
            <a:ext cx="677160" cy="219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5"/>
            <a:endCxn id="165" idx="2"/>
          </p:cNvCxnSpPr>
          <p:nvPr/>
        </p:nvCxnSpPr>
        <p:spPr>
          <a:xfrm>
            <a:off x="7171920" y="2905200"/>
            <a:ext cx="600840" cy="295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6174000" y="2057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3280" y="242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400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40680" y="22096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6280" y="2666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F8F-483E-4400-A6D5-5937EF582E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Ochoachoa</cp:lastModifiedBy>
  <cp:lastPrinted>2000-08-21T18:18:27Z</cp:lastPrinted>
  <dcterms:modified xsi:type="dcterms:W3CDTF">2001-09-24T14:52:26Z</dcterms:modified>
  <cp:revision>50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WA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