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22A-3626-47C5-AE4A-D3BBC831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DF0D-1620-45CC-8AC9-DAB9463D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403-32FB-474A-8C0E-1835402F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D79-A151-4396-8128-A20D16272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9E9-AAB0-41F6-A3EB-B855B47A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7A2-BA36-4DE4-ADF1-4C73BD23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D76-8F92-40A0-8502-B3940335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888-5625-4AD5-8BB2-00844F6C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7294-AC3E-46FA-8DF7-F72CE7CD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662-CF6C-452C-B0B7-B22D5965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874-2E0A-49B1-AA8F-A2F3ACED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444-9BC8-4720-AC4A-24436228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05C7-BB52-4F22-9195-4F75845BAB13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pecificaciones Operacion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nsecuenci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DFDs son diagramas intuitivos y fácilmente comprensibles para describir el flujo de datos y operaciones en un sistema de infor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ero tiene una semántica imprecis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i se requiere una descripción precisa del sistema, los DFDs no son una herramienta adecuada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o se puede derivar un prototipo automáticamente de un DFD porque existen muchas ambigüedad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DFDs son una notación semi-formal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 sintaxis es formal pero la semántica n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F62-1A11-4571-9D25-9E92D7181A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Alternativ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Formas de superar la ambigüedad de los DFD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sar una notación complementaria para especificar los aspectos ambiguo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xtender la notación para incluir elementos de control y sincronización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definir los DFDs para hacerlos completamente formales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iferentes flechas para flujos de datos y flujo de control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nd/or entre las entradas y las salida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pecificación formal de la función de las burbuj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0307-A6BC-4C1A-9977-C5D8973B23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nfoques de Especific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1905480" y="523548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Times New Roman"/>
              </a:rPr>
              <a:t>dat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4560" y="1981080"/>
            <a:ext cx="24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Times New Roman"/>
              </a:rPr>
              <a:t>funcionalida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3240" y="523548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7760" y="388620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8000"/>
                </a:solidFill>
                <a:latin typeface="Times New Roman"/>
              </a:rPr>
              <a:t>Especificació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2590920"/>
            <a:ext cx="304920" cy="1371600"/>
          </a:xfrm>
          <a:prstGeom prst="upDownArrow">
            <a:avLst>
              <a:gd name="adj1" fmla="val 50000"/>
              <a:gd name="adj2" fmla="val 89548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3318000">
            <a:off x="3200040" y="4190760"/>
            <a:ext cx="304920" cy="1371600"/>
          </a:xfrm>
          <a:prstGeom prst="upDownArrow">
            <a:avLst>
              <a:gd name="adj1" fmla="val 50000"/>
              <a:gd name="adj2" fmla="val 89548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rot="18282000">
            <a:off x="5257440" y="4190760"/>
            <a:ext cx="304920" cy="1371600"/>
          </a:xfrm>
          <a:prstGeom prst="upDownArrow">
            <a:avLst>
              <a:gd name="adj1" fmla="val 50000"/>
              <a:gd name="adj2" fmla="val 89548"/>
            </a:avLst>
          </a:prstGeom>
          <a:solidFill>
            <a:srgbClr val="cc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EBA-9C23-45A6-AC5B-CB8E7D101E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áquinas de Estados Fini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máquinas de estados finitos (FSMs) son una notación formal para especificar aspectos de control de un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us elementos so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77960" indent="-271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conjunto finito de estados Q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77960" indent="-271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conjunto finito de entradas I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77960" indent="-271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a función parcial de transición  δ : Q </a:t>
            </a:r>
            <a:r>
              <a:rPr b="0" lang="es-ES_tradnl" sz="22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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I </a:t>
            </a:r>
            <a:r>
              <a:rPr b="0" lang="es-ES_tradnl" sz="2200" spc="-1" strike="noStrike">
                <a:solidFill>
                  <a:srgbClr val="000066"/>
                </a:solidFill>
                <a:latin typeface="Monotype Sorts"/>
                <a:ea typeface="Monotype Sorts"/>
              </a:rPr>
              <a:t>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Q.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Gráficamente una máquina de estados finitos se representa como un grafo don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77960" indent="-271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os nodos representan estados, y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77960" indent="-271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arco i de q</a:t>
            </a:r>
            <a:r>
              <a:rPr b="0" lang="es-ES_tradnl" sz="22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a q</a:t>
            </a:r>
            <a:r>
              <a:rPr b="0" lang="es-ES_tradnl" sz="22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0066"/>
                </a:solidFill>
                <a:latin typeface="Symbol"/>
                <a:ea typeface="Symbol"/>
              </a:rPr>
              <a:t>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δ(q</a:t>
            </a:r>
            <a:r>
              <a:rPr b="0" lang="es-ES_tradnl" sz="22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,i) = q</a:t>
            </a:r>
            <a:r>
              <a:rPr b="0" lang="es-ES_tradnl" sz="22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D99D-9839-4F43-8212-9F0DA1D1F8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Usos de FSM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FSMs se usan para modelar sistemas que pueden encontrarse en un número finito de estados y que pasan de un estado a otro como reacción a una entrad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a lámpara puede estar encendida o apagada dependiendo de la acción del switch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4648320"/>
            <a:ext cx="1066680" cy="10666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ncend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4724280"/>
            <a:ext cx="1067040" cy="10670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apaga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7"/>
            <a:endCxn id="193" idx="1"/>
          </p:cNvCxnSpPr>
          <p:nvPr/>
        </p:nvCxnSpPr>
        <p:spPr>
          <a:xfrm flipH="1" rot="16200000">
            <a:off x="4457520" y="3313440"/>
            <a:ext cx="76680" cy="3054960"/>
          </a:xfrm>
          <a:prstGeom prst="curvedConnector5">
            <a:avLst>
              <a:gd name="adj1" fmla="val -503773"/>
              <a:gd name="adj2" fmla="val 49994"/>
              <a:gd name="adj3" fmla="val -503773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3" idx="3"/>
            <a:endCxn id="192" idx="5"/>
          </p:cNvCxnSpPr>
          <p:nvPr/>
        </p:nvCxnSpPr>
        <p:spPr>
          <a:xfrm flipV="1" rot="16200000">
            <a:off x="4457160" y="4070160"/>
            <a:ext cx="76680" cy="3054960"/>
          </a:xfrm>
          <a:prstGeom prst="curvedConnector5">
            <a:avLst>
              <a:gd name="adj1" fmla="val -506132"/>
              <a:gd name="adj2" fmla="val 49994"/>
              <a:gd name="adj3" fmla="val -506132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115520" y="40384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lic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800" y="569916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lic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38E6-FD68-4414-9541-B4256B5824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jemplo: Planta Químic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niveles de presión y temperatura deben controlarse por motivos de seguridad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xisten sensores que avisan cuando los niveles superan el valor predefini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olític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uando los valores de presión o temperatura superen el valor definido, se apaga la planta complet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planta se reinicializa manualmente después de corregir la situ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1905120"/>
            <a:ext cx="1143000" cy="1143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funcionand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1680" y="4724280"/>
            <a:ext cx="1143000" cy="1143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excep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3"/>
            <a:endCxn id="201" idx="1"/>
          </p:cNvCxnSpPr>
          <p:nvPr/>
        </p:nvCxnSpPr>
        <p:spPr>
          <a:xfrm flipV="1" rot="10800000">
            <a:off x="6947640" y="2881080"/>
            <a:ext cx="1080" cy="201024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200" idx="2"/>
            <a:endCxn id="201" idx="2"/>
          </p:cNvCxnSpPr>
          <p:nvPr/>
        </p:nvCxnSpPr>
        <p:spPr>
          <a:xfrm flipH="1" flipV="1" rot="10800000">
            <a:off x="6780600" y="2476080"/>
            <a:ext cx="2520" cy="2820240"/>
          </a:xfrm>
          <a:prstGeom prst="curvedConnector5">
            <a:avLst>
              <a:gd name="adj1" fmla="val -33200000"/>
              <a:gd name="adj2" fmla="val 49993"/>
              <a:gd name="adj3" fmla="val -332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201" idx="6"/>
            <a:endCxn id="200" idx="6"/>
          </p:cNvCxnSpPr>
          <p:nvPr/>
        </p:nvCxnSpPr>
        <p:spPr>
          <a:xfrm flipV="1">
            <a:off x="7924320" y="2476080"/>
            <a:ext cx="2520" cy="2820240"/>
          </a:xfrm>
          <a:prstGeom prst="curvedConnector5">
            <a:avLst>
              <a:gd name="adj1" fmla="val 34000000"/>
              <a:gd name="adj2" fmla="val 49993"/>
              <a:gd name="adj3" fmla="val 340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5713920" y="312408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al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temperatur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63520" y="3809880"/>
            <a:ext cx="70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al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pres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03440" y="3429000"/>
            <a:ext cx="77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reinicia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D5E-CAA6-48A4-AB89-4CD9B20DEA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olítica Refinad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a política más adecuad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l superarse el valor definido de presión o temperatura, se entra en un procedimiento “recuperativo”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i este procedimiento normaliza la situación, se vuelve al funcionamiento normal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ino, suena la alarma y se apaga la planta ente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1981080"/>
            <a:ext cx="1143000" cy="1143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cción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pres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3429000"/>
            <a:ext cx="1143000" cy="1143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norm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72400" y="3429000"/>
            <a:ext cx="1143000" cy="1143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pagad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5029200"/>
            <a:ext cx="1143000" cy="11430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cción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emperatur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1" idx="0"/>
            <a:endCxn id="210" idx="2"/>
          </p:cNvCxnSpPr>
          <p:nvPr/>
        </p:nvCxnSpPr>
        <p:spPr>
          <a:xfrm flipH="1" flipV="1" rot="5400000">
            <a:off x="5067000" y="2400120"/>
            <a:ext cx="876960" cy="11815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10" idx="6"/>
            <a:endCxn id="212" idx="0"/>
          </p:cNvCxnSpPr>
          <p:nvPr/>
        </p:nvCxnSpPr>
        <p:spPr>
          <a:xfrm>
            <a:off x="7238880" y="2552760"/>
            <a:ext cx="1105920" cy="87696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1" idx="4"/>
            <a:endCxn id="213" idx="2"/>
          </p:cNvCxnSpPr>
          <p:nvPr/>
        </p:nvCxnSpPr>
        <p:spPr>
          <a:xfrm flipH="1" rot="16200000">
            <a:off x="5029200" y="4457520"/>
            <a:ext cx="1029600" cy="125784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3" idx="6"/>
            <a:endCxn id="212" idx="4"/>
          </p:cNvCxnSpPr>
          <p:nvPr/>
        </p:nvCxnSpPr>
        <p:spPr>
          <a:xfrm flipV="1">
            <a:off x="7315200" y="4571640"/>
            <a:ext cx="1029600" cy="102960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3" idx="0"/>
            <a:endCxn id="211" idx="5"/>
          </p:cNvCxnSpPr>
          <p:nvPr/>
        </p:nvCxnSpPr>
        <p:spPr>
          <a:xfrm flipV="1" rot="16200000">
            <a:off x="5719320" y="4004280"/>
            <a:ext cx="624600" cy="1424880"/>
          </a:xfrm>
          <a:prstGeom prst="curvedConnector5">
            <a:avLst>
              <a:gd name="adj1" fmla="val 34313"/>
              <a:gd name="adj2" fmla="val 49987"/>
              <a:gd name="adj3" fmla="val 34313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0" idx="4"/>
            <a:endCxn id="211" idx="7"/>
          </p:cNvCxnSpPr>
          <p:nvPr/>
        </p:nvCxnSpPr>
        <p:spPr>
          <a:xfrm rot="5400000">
            <a:off x="5757120" y="2685960"/>
            <a:ext cx="472320" cy="1348560"/>
          </a:xfrm>
          <a:prstGeom prst="curvedConnector5">
            <a:avLst>
              <a:gd name="adj1" fmla="val 32265"/>
              <a:gd name="adj2" fmla="val 49986"/>
              <a:gd name="adj3" fmla="val 32265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2" idx="2"/>
            <a:endCxn id="211" idx="6"/>
          </p:cNvCxnSpPr>
          <p:nvPr/>
        </p:nvCxnSpPr>
        <p:spPr>
          <a:xfrm flipH="1">
            <a:off x="5486040" y="4000320"/>
            <a:ext cx="22867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4877280" y="2514600"/>
            <a:ext cx="762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señal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pres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18600" y="5105520"/>
            <a:ext cx="1035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señal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temperatur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00800" y="3200400"/>
            <a:ext cx="1047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ac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satisfactori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60920" y="4495680"/>
            <a:ext cx="1047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ac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satisfactori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4160" y="2590920"/>
            <a:ext cx="762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señal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pres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2720" y="5029200"/>
            <a:ext cx="1035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señal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temperatur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79560" y="3776760"/>
            <a:ext cx="7779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imes New Roman"/>
              </a:rPr>
              <a:t>reinicia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92E-772B-471B-BB06-6ACAAEC491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tros Usos de FSM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724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máquinas de estados finitos se usan para el reconocimiento de secuencias aceptables (lenguajes formales)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94160" indent="-276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 agrega la definición de un estado inicial q</a:t>
            </a:r>
            <a:r>
              <a:rPr b="0" lang="es-ES_tradnl" sz="2200" spc="-1" strike="noStrike" baseline="-25000">
                <a:solidFill>
                  <a:srgbClr val="000066"/>
                </a:solidFill>
                <a:latin typeface="Tahoma"/>
              </a:rPr>
              <a:t>0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Q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94160" indent="-276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conjunto de estados finales o aceptabl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94160" indent="-276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a secuencia es aceptable si existe un camino entre q</a:t>
            </a:r>
            <a:r>
              <a:rPr b="0" lang="es-ES_tradnl" sz="2200" spc="-1" strike="noStrike" baseline="-25000">
                <a:solidFill>
                  <a:srgbClr val="000066"/>
                </a:solidFill>
                <a:latin typeface="Tahoma"/>
              </a:rPr>
              <a:t>0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y un estado final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342900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342900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77320" y="342900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6"/>
            <a:endCxn id="234" idx="2"/>
          </p:cNvCxnSpPr>
          <p:nvPr/>
        </p:nvCxnSpPr>
        <p:spPr>
          <a:xfrm>
            <a:off x="5866920" y="3771720"/>
            <a:ext cx="762840" cy="10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4" idx="6"/>
            <a:endCxn id="232" idx="2"/>
          </p:cNvCxnSpPr>
          <p:nvPr/>
        </p:nvCxnSpPr>
        <p:spPr>
          <a:xfrm>
            <a:off x="7467480" y="3771720"/>
            <a:ext cx="610560" cy="10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6629400" y="3352680"/>
            <a:ext cx="838080" cy="8384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2" idx="0"/>
            <a:endCxn id="234" idx="0"/>
          </p:cNvCxnSpPr>
          <p:nvPr/>
        </p:nvCxnSpPr>
        <p:spPr>
          <a:xfrm flipV="1" rot="16200000">
            <a:off x="7695720" y="2704680"/>
            <a:ext cx="76680" cy="1372320"/>
          </a:xfrm>
          <a:prstGeom prst="curvedConnector5">
            <a:avLst>
              <a:gd name="adj1" fmla="val 761792"/>
              <a:gd name="adj2" fmla="val 49986"/>
              <a:gd name="adj3" fmla="val 761792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2" idx="4"/>
            <a:endCxn id="234" idx="4"/>
          </p:cNvCxnSpPr>
          <p:nvPr/>
        </p:nvCxnSpPr>
        <p:spPr>
          <a:xfrm rot="5400000">
            <a:off x="7695720" y="3467160"/>
            <a:ext cx="76680" cy="1372320"/>
          </a:xfrm>
          <a:prstGeom prst="curvedConnector5">
            <a:avLst>
              <a:gd name="adj1" fmla="val 776415"/>
              <a:gd name="adj2" fmla="val 49986"/>
              <a:gd name="adj3" fmla="val 776415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5947200" y="350532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tr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71080" y="281952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tr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9640" y="43876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dígit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68560" y="347328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guió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F04-940F-4B27-B00F-172860BB16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tros Usos Má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máquinas de estados finitos son sencillas para especificar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istemas de control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mpilación, 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mparación de patron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iseño de hardwar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otras aplicaciones no relacionadas con la computación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54B-12A4-4E1F-A75E-773B5CC082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tro Ejempl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51814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 proceso (productor) escribe mensajes en un buffer con dos posi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tro proceso lee (consume) los mensajes del buffe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i el buffer está lleno, el productor debe esper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i el buffer está vacío, el consumidor debe esper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220968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53280" y="228600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6" idx="5"/>
            <a:endCxn id="247" idx="3"/>
          </p:cNvCxnSpPr>
          <p:nvPr/>
        </p:nvCxnSpPr>
        <p:spPr>
          <a:xfrm flipH="1" rot="16200000">
            <a:off x="7238880" y="1857240"/>
            <a:ext cx="76680" cy="1953000"/>
          </a:xfrm>
          <a:prstGeom prst="curvedConnector5">
            <a:avLst>
              <a:gd name="adj1" fmla="val 531132"/>
              <a:gd name="adj2" fmla="val 50000"/>
              <a:gd name="adj3" fmla="val 531132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7" idx="1"/>
            <a:endCxn id="246" idx="7"/>
          </p:cNvCxnSpPr>
          <p:nvPr/>
        </p:nvCxnSpPr>
        <p:spPr>
          <a:xfrm flipV="1" rot="16200000">
            <a:off x="7238880" y="1371600"/>
            <a:ext cx="76680" cy="1953000"/>
          </a:xfrm>
          <a:prstGeom prst="curvedConnector5">
            <a:avLst>
              <a:gd name="adj1" fmla="val 533490"/>
              <a:gd name="adj2" fmla="val 50000"/>
              <a:gd name="adj3" fmla="val 53349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6936840" y="289548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61960" y="19051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15000" y="37339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53280" y="380988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52" idx="5"/>
            <a:endCxn id="253" idx="3"/>
          </p:cNvCxnSpPr>
          <p:nvPr/>
        </p:nvCxnSpPr>
        <p:spPr>
          <a:xfrm flipH="1" rot="16200000">
            <a:off x="7238880" y="3381480"/>
            <a:ext cx="76680" cy="1953000"/>
          </a:xfrm>
          <a:prstGeom prst="curvedConnector5">
            <a:avLst>
              <a:gd name="adj1" fmla="val 533490"/>
              <a:gd name="adj2" fmla="val 50000"/>
              <a:gd name="adj3" fmla="val 53349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3" idx="1"/>
            <a:endCxn id="252" idx="7"/>
          </p:cNvCxnSpPr>
          <p:nvPr/>
        </p:nvCxnSpPr>
        <p:spPr>
          <a:xfrm flipV="1" rot="16200000">
            <a:off x="7238880" y="2895480"/>
            <a:ext cx="76680" cy="1953000"/>
          </a:xfrm>
          <a:prstGeom prst="curvedConnector5">
            <a:avLst>
              <a:gd name="adj1" fmla="val 533490"/>
              <a:gd name="adj2" fmla="val 50000"/>
              <a:gd name="adj3" fmla="val 53349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7089840" y="44197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60880" y="34290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51055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1120" y="51055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51055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8" idx="5"/>
            <a:endCxn id="259" idx="3"/>
          </p:cNvCxnSpPr>
          <p:nvPr/>
        </p:nvCxnSpPr>
        <p:spPr>
          <a:xfrm flipH="1" rot="16200000">
            <a:off x="3732120" y="5134680"/>
            <a:ext cx="2160" cy="111492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9" idx="5"/>
            <a:endCxn id="260" idx="3"/>
          </p:cNvCxnSpPr>
          <p:nvPr/>
        </p:nvCxnSpPr>
        <p:spPr>
          <a:xfrm flipH="1" rot="16200000">
            <a:off x="5332320" y="5134680"/>
            <a:ext cx="2160" cy="111492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9" idx="1"/>
            <a:endCxn id="258" idx="7"/>
          </p:cNvCxnSpPr>
          <p:nvPr/>
        </p:nvCxnSpPr>
        <p:spPr>
          <a:xfrm rot="5400000">
            <a:off x="3732120" y="4647960"/>
            <a:ext cx="2520" cy="1114920"/>
          </a:xfrm>
          <a:prstGeom prst="curvedConnector5">
            <a:avLst>
              <a:gd name="adj1" fmla="val -20700000"/>
              <a:gd name="adj2" fmla="val 50000"/>
              <a:gd name="adj3" fmla="val -207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60" idx="1"/>
            <a:endCxn id="259" idx="7"/>
          </p:cNvCxnSpPr>
          <p:nvPr/>
        </p:nvCxnSpPr>
        <p:spPr>
          <a:xfrm rot="5400000">
            <a:off x="5332320" y="4647960"/>
            <a:ext cx="2520" cy="1114920"/>
          </a:xfrm>
          <a:prstGeom prst="curvedConnector5">
            <a:avLst>
              <a:gd name="adj1" fmla="val -20700000"/>
              <a:gd name="adj2" fmla="val 50000"/>
              <a:gd name="adj3" fmla="val -207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3356640" y="56833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8560" y="48448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08760" y="48006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6840" y="56833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C86-ABC8-472C-93F6-F8F3A7AA63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agramas de Flujo de Da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Diagramas de Flujo de Datos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(DFDs) son populares para especificar funcionalidad en sistemas de infor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sistemas se ven como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colecciones de datos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manipulados por ciertos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procesos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datos pueden ser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státicos - en repositorios de dat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inámicos - comunicación entre procesos y entidades extern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B00-686F-4796-AC64-B6B51B4AC9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SM del Sistema Comple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1905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3048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28800" y="4191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5334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91120" y="1905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91120" y="3048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91120" y="4191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5334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29400" y="1905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29400" y="3048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29400" y="4191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29400" y="5334120"/>
            <a:ext cx="68580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70" idx="4"/>
            <a:endCxn id="271" idx="0"/>
          </p:cNvCxnSpPr>
          <p:nvPr/>
        </p:nvCxnSpPr>
        <p:spPr>
          <a:xfrm>
            <a:off x="2171520" y="2590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2" idx="4"/>
            <a:endCxn id="273" idx="0"/>
          </p:cNvCxnSpPr>
          <p:nvPr/>
        </p:nvCxnSpPr>
        <p:spPr>
          <a:xfrm>
            <a:off x="217152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4" idx="4"/>
            <a:endCxn id="275" idx="0"/>
          </p:cNvCxnSpPr>
          <p:nvPr/>
        </p:nvCxnSpPr>
        <p:spPr>
          <a:xfrm>
            <a:off x="4533480" y="2590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6" idx="4"/>
            <a:endCxn id="277" idx="0"/>
          </p:cNvCxnSpPr>
          <p:nvPr/>
        </p:nvCxnSpPr>
        <p:spPr>
          <a:xfrm>
            <a:off x="453348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4"/>
            <a:endCxn id="279" idx="0"/>
          </p:cNvCxnSpPr>
          <p:nvPr/>
        </p:nvCxnSpPr>
        <p:spPr>
          <a:xfrm>
            <a:off x="6972120" y="2590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80" idx="4"/>
            <a:endCxn id="281" idx="0"/>
          </p:cNvCxnSpPr>
          <p:nvPr/>
        </p:nvCxnSpPr>
        <p:spPr>
          <a:xfrm>
            <a:off x="697212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72" idx="2"/>
            <a:endCxn id="270" idx="2"/>
          </p:cNvCxnSpPr>
          <p:nvPr/>
        </p:nvCxnSpPr>
        <p:spPr>
          <a:xfrm flipH="1" rot="10800000">
            <a:off x="1828440" y="224712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73" idx="2"/>
            <a:endCxn id="271" idx="2"/>
          </p:cNvCxnSpPr>
          <p:nvPr/>
        </p:nvCxnSpPr>
        <p:spPr>
          <a:xfrm flipH="1" rot="10800000">
            <a:off x="1828440" y="339012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76" idx="2"/>
            <a:endCxn id="274" idx="2"/>
          </p:cNvCxnSpPr>
          <p:nvPr/>
        </p:nvCxnSpPr>
        <p:spPr>
          <a:xfrm flipH="1" rot="10800000">
            <a:off x="4190760" y="224712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77" idx="2"/>
            <a:endCxn id="275" idx="2"/>
          </p:cNvCxnSpPr>
          <p:nvPr/>
        </p:nvCxnSpPr>
        <p:spPr>
          <a:xfrm flipH="1" rot="10800000">
            <a:off x="4190760" y="339012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81" idx="2"/>
            <a:endCxn id="279" idx="2"/>
          </p:cNvCxnSpPr>
          <p:nvPr/>
        </p:nvCxnSpPr>
        <p:spPr>
          <a:xfrm flipH="1" rot="10800000">
            <a:off x="6629040" y="339012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80" idx="2"/>
            <a:endCxn id="278" idx="2"/>
          </p:cNvCxnSpPr>
          <p:nvPr/>
        </p:nvCxnSpPr>
        <p:spPr>
          <a:xfrm flipH="1" rot="10800000">
            <a:off x="6629040" y="224712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1" idx="7"/>
            <a:endCxn id="274" idx="0"/>
          </p:cNvCxnSpPr>
          <p:nvPr/>
        </p:nvCxnSpPr>
        <p:spPr>
          <a:xfrm flipH="1" flipV="1" rot="5400000">
            <a:off x="2852280" y="1466280"/>
            <a:ext cx="1243440" cy="2120040"/>
          </a:xfrm>
          <a:prstGeom prst="curvedConnector5">
            <a:avLst>
              <a:gd name="adj1" fmla="val 125774"/>
              <a:gd name="adj2" fmla="val 50000"/>
              <a:gd name="adj3" fmla="val 12577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74" idx="1"/>
            <a:endCxn id="272" idx="6"/>
          </p:cNvCxnSpPr>
          <p:nvPr/>
        </p:nvCxnSpPr>
        <p:spPr>
          <a:xfrm rot="5400000">
            <a:off x="2137680" y="2380320"/>
            <a:ext cx="2529720" cy="1776960"/>
          </a:xfrm>
          <a:prstGeom prst="curvedConnector5">
            <a:avLst>
              <a:gd name="adj1" fmla="val -3885"/>
              <a:gd name="adj2" fmla="val 26403"/>
              <a:gd name="adj3" fmla="val -3885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5" idx="7"/>
            <a:endCxn id="278" idx="0"/>
          </p:cNvCxnSpPr>
          <p:nvPr/>
        </p:nvCxnSpPr>
        <p:spPr>
          <a:xfrm flipH="1" flipV="1" rot="5400000">
            <a:off x="5252400" y="1428480"/>
            <a:ext cx="1243440" cy="2196000"/>
          </a:xfrm>
          <a:prstGeom prst="curvedConnector5">
            <a:avLst>
              <a:gd name="adj1" fmla="val 126817"/>
              <a:gd name="adj2" fmla="val 49991"/>
              <a:gd name="adj3" fmla="val 126817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78" idx="1"/>
            <a:endCxn id="276" idx="6"/>
          </p:cNvCxnSpPr>
          <p:nvPr/>
        </p:nvCxnSpPr>
        <p:spPr>
          <a:xfrm rot="5400000">
            <a:off x="4538160" y="2342160"/>
            <a:ext cx="2529720" cy="1853280"/>
          </a:xfrm>
          <a:prstGeom prst="curvedConnector5">
            <a:avLst>
              <a:gd name="adj1" fmla="val -7586"/>
              <a:gd name="adj2" fmla="val 26345"/>
              <a:gd name="adj3" fmla="val -758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75" idx="4"/>
            <a:endCxn id="273" idx="7"/>
          </p:cNvCxnSpPr>
          <p:nvPr/>
        </p:nvCxnSpPr>
        <p:spPr>
          <a:xfrm rot="5400000">
            <a:off x="2623320" y="3524040"/>
            <a:ext cx="1700640" cy="2120040"/>
          </a:xfrm>
          <a:prstGeom prst="curvedConnector5">
            <a:avLst>
              <a:gd name="adj1" fmla="val 39106"/>
              <a:gd name="adj2" fmla="val 50000"/>
              <a:gd name="adj3" fmla="val 3910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79" idx="4"/>
            <a:endCxn id="277" idx="7"/>
          </p:cNvCxnSpPr>
          <p:nvPr/>
        </p:nvCxnSpPr>
        <p:spPr>
          <a:xfrm rot="5400000">
            <a:off x="5023800" y="3486240"/>
            <a:ext cx="1700640" cy="2196000"/>
          </a:xfrm>
          <a:prstGeom prst="curvedConnector5">
            <a:avLst>
              <a:gd name="adj1" fmla="val 39106"/>
              <a:gd name="adj2" fmla="val 49991"/>
              <a:gd name="adj3" fmla="val 3910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73" idx="6"/>
            <a:endCxn id="276" idx="3"/>
          </p:cNvCxnSpPr>
          <p:nvPr/>
        </p:nvCxnSpPr>
        <p:spPr>
          <a:xfrm flipV="1">
            <a:off x="2514600" y="4776480"/>
            <a:ext cx="1776960" cy="9007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77" idx="6"/>
            <a:endCxn id="280" idx="3"/>
          </p:cNvCxnSpPr>
          <p:nvPr/>
        </p:nvCxnSpPr>
        <p:spPr>
          <a:xfrm flipV="1">
            <a:off x="4876920" y="4776480"/>
            <a:ext cx="1853280" cy="9007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841320" y="25146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7280" y="4724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08200" y="2438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70520" y="25146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7880" y="4724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51160" y="4724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consum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08240" y="266688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08240" y="487692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93640" y="266688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7320" y="487692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5000" y="266688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55000" y="487692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produc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52080" y="152388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90360" y="152388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7160" y="54864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90360" y="541008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escrib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22760" y="3581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84720" y="3581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8720" y="44197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89640" y="43434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le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13160" y="16002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0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30440" y="362592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0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13160" y="38862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0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89120" y="59436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0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51440" y="59436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1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51440" y="396252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1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51440" y="36576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1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75120" y="16002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1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431040" y="591192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2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89720" y="388620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2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89720" y="362592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2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07360" y="1568520"/>
            <a:ext cx="1023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lt;2, p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, c</a:t>
            </a:r>
            <a:r>
              <a:rPr b="0" lang="es-ES_tradnl" sz="16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s-ES_tradnl" sz="1600" spc="-1" strike="noStrike">
                <a:solidFill>
                  <a:srgbClr val="000066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CBE-A71E-43C4-A79D-271DD0457A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Limitaciones de las FSM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ara aplicaciones sofisticadas, la simplicidad de la notación puede ser una desventaja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i la acción correctiva de la planta química depende de la temperatura o presión alcanzada, existe un número infinito de estados posibles y posibles ac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i el buffer tiene n posiciones en lugar de 2, el tamaño del diagrama sería enorm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i se dan simultáneamente temperatura y presión excesivas, no es claro en qué estado quedará el sistema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ada impide que las acciones de lectura y escritura se den simultáneamente cuando el buffer tiene un solo element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F83-4E74-4B67-BAC0-890668978B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Redes de Petri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Formalismos gráficos especialmente apropiados para modelar sistemas asincrónic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componen 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conjunto finito de </a:t>
            </a:r>
            <a:r>
              <a:rPr b="0" i="1" lang="es-ES_tradnl" sz="2200" spc="-1" strike="noStrike">
                <a:solidFill>
                  <a:srgbClr val="000066"/>
                </a:solidFill>
                <a:latin typeface="Tahoma"/>
              </a:rPr>
              <a:t>lugares 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(círculos)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conjunto finito de </a:t>
            </a:r>
            <a:r>
              <a:rPr b="0" i="1" lang="es-ES_tradnl" sz="2200" spc="-1" strike="noStrike">
                <a:solidFill>
                  <a:srgbClr val="000066"/>
                </a:solidFill>
                <a:latin typeface="Tahoma"/>
              </a:rPr>
              <a:t>transiciones 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(barras)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conjunto finito de </a:t>
            </a:r>
            <a:r>
              <a:rPr b="0" i="1" lang="es-ES_tradnl" sz="2200" spc="-1" strike="noStrike">
                <a:solidFill>
                  <a:srgbClr val="000066"/>
                </a:solidFill>
                <a:latin typeface="Tahoma"/>
              </a:rPr>
              <a:t>flechas 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(flechas) conectando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ugares con transicione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transiciones con luga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estad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de una red de Petri se establece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marcand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los lugares.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njunto de </a:t>
            </a:r>
            <a:r>
              <a:rPr b="0" i="1" lang="es-ES_tradnl" sz="2200" spc="-1" strike="noStrike">
                <a:solidFill>
                  <a:srgbClr val="000066"/>
                </a:solidFill>
                <a:latin typeface="Tahoma"/>
              </a:rPr>
              <a:t>tokens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asignados a lugares de la red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7C4-8752-4F40-B480-BC23615BB8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Un Ejemplo de Red de Petri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1752480"/>
            <a:ext cx="53316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3048120"/>
            <a:ext cx="53316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67280" y="1752480"/>
            <a:ext cx="53352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3048120"/>
            <a:ext cx="53352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67080" y="3048120"/>
            <a:ext cx="53352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90920" y="4952880"/>
            <a:ext cx="53316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4952880"/>
            <a:ext cx="53352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2666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19520" y="228600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228600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1320" y="2666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42670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42670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76720" y="57150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57150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19520" y="266688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5880" y="266688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24080" y="3429000"/>
            <a:ext cx="304920" cy="838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09880" y="3429000"/>
            <a:ext cx="457200" cy="838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00600" y="3429000"/>
            <a:ext cx="304920" cy="838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486400" y="3429000"/>
            <a:ext cx="380880" cy="8380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047760" y="4267080"/>
            <a:ext cx="609480" cy="7621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4267080"/>
            <a:ext cx="685800" cy="7621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5410080"/>
            <a:ext cx="53316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5257440" y="5334120"/>
            <a:ext cx="60948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62" idx="0"/>
            <a:endCxn id="339" idx="2"/>
          </p:cNvCxnSpPr>
          <p:nvPr/>
        </p:nvCxnSpPr>
        <p:spPr>
          <a:xfrm flipV="1" rot="16200000">
            <a:off x="1230480" y="3364200"/>
            <a:ext cx="3696480" cy="1005480"/>
          </a:xfrm>
          <a:prstGeom prst="curvedConnector5">
            <a:avLst>
              <a:gd name="adj1" fmla="val -10947"/>
              <a:gd name="adj2" fmla="val 69412"/>
              <a:gd name="adj3" fmla="val -10947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63" idx="0"/>
            <a:endCxn id="341" idx="6"/>
          </p:cNvCxnSpPr>
          <p:nvPr/>
        </p:nvCxnSpPr>
        <p:spPr>
          <a:xfrm flipH="1" flipV="1" rot="5400000">
            <a:off x="3987720" y="3287520"/>
            <a:ext cx="3695040" cy="1157760"/>
          </a:xfrm>
          <a:prstGeom prst="curvedConnector5">
            <a:avLst>
              <a:gd name="adj1" fmla="val -10396"/>
              <a:gd name="adj2" fmla="val 68118"/>
              <a:gd name="adj3" fmla="val -1039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66" name=""/>
          <p:cNvCxnSpPr>
            <a:stCxn id="362" idx="1"/>
            <a:endCxn id="343" idx="4"/>
          </p:cNvCxnSpPr>
          <p:nvPr/>
        </p:nvCxnSpPr>
        <p:spPr>
          <a:xfrm flipH="1" flipV="1" rot="5400000">
            <a:off x="2997720" y="4178520"/>
            <a:ext cx="2120040" cy="953280"/>
          </a:xfrm>
          <a:prstGeom prst="curvedConnector5">
            <a:avLst>
              <a:gd name="adj1" fmla="val -10784"/>
              <a:gd name="adj2" fmla="val 49981"/>
              <a:gd name="adj3" fmla="val -1078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63" idx="1"/>
            <a:endCxn id="343" idx="4"/>
          </p:cNvCxnSpPr>
          <p:nvPr/>
        </p:nvCxnSpPr>
        <p:spPr>
          <a:xfrm flipV="1" rot="16200000">
            <a:off x="3836160" y="4291920"/>
            <a:ext cx="2118600" cy="724680"/>
          </a:xfrm>
          <a:prstGeom prst="curvedConnector5">
            <a:avLst>
              <a:gd name="adj1" fmla="val -10859"/>
              <a:gd name="adj2" fmla="val 50000"/>
              <a:gd name="adj3" fmla="val -10859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368" name=""/>
          <p:cNvSpPr/>
          <p:nvPr/>
        </p:nvSpPr>
        <p:spPr>
          <a:xfrm>
            <a:off x="2368440" y="274320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68840" y="160020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78160" y="259092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8440" y="167652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68840" y="2895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44400" y="464832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49760" y="480060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206520" y="2438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49400" y="2438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77920" y="40384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44800" y="40384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77920" y="54864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44800" y="556272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217-3933-4109-BD1C-CE05C69086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námica de las Redes de Petri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transición puede tener una o más flechas entrantes y una o más flechas sali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i una flecha va de un lugar a una transición, ese lugar se dice un lugar de entrada de la transi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i una flecha va de una transición a un lugar, ese lugar es un lugar de salida de la transi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transición está habilitada si existe al menos un token en cada uno de sus estados de entrad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9D7-145B-423A-8889-B60B380F40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spar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olamente una transición habilitada puede disparars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 consume un token de cada lugar de entra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 produce un token en cada lugar de sali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i existe más de una transición habilitada, el sistema elige una en forma no determinística para disparar primer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secuencia de disparos es una cadena &lt;t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t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..., t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ahoma"/>
              </a:rPr>
              <a:t>n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&gt; tal que t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habilitada con el marcado inicial, t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queda habilitada después de dispara t</a:t>
            </a:r>
            <a:r>
              <a:rPr b="0" lang="es-ES_tradnl" sz="24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, y así sucesivam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317B-FC93-4527-894B-12779340D7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terpre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redes de Petri se usan para especificar sistemas concurr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transiciones modelan eventos o acciones, y dispararlas implica que se da ese evento o ac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habilitación de las transiciones implica que están dadas las condiciones para la acción correspondi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existencia de un token en un lugar representa la existencia de determinada condición,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cursos disponibl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osible conflict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no determinismo puede causar la “hambruna”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2C14-5637-4B19-BDA3-FFD3A3A43F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eadlock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1752480"/>
            <a:ext cx="53316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90720" y="3048120"/>
            <a:ext cx="53316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67080" y="1752480"/>
            <a:ext cx="53352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3048120"/>
            <a:ext cx="53352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666880" y="3048120"/>
            <a:ext cx="53352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5334120"/>
            <a:ext cx="53316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267080" y="5334120"/>
            <a:ext cx="53352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4400" y="2666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19320" y="228600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495680" y="228600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1120" y="2666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38862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76520" y="6095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52680" y="6095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19320" y="266688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266688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5791320"/>
            <a:ext cx="533160" cy="3045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657240" y="5715000"/>
            <a:ext cx="60948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4" idx="0"/>
            <a:endCxn id="388" idx="2"/>
          </p:cNvCxnSpPr>
          <p:nvPr/>
        </p:nvCxnSpPr>
        <p:spPr>
          <a:xfrm flipV="1" rot="16200000">
            <a:off x="-560160" y="3554640"/>
            <a:ext cx="4077360" cy="1005480"/>
          </a:xfrm>
          <a:prstGeom prst="curvedConnector5">
            <a:avLst>
              <a:gd name="adj1" fmla="val -5598"/>
              <a:gd name="adj2" fmla="val 74856"/>
              <a:gd name="adj3" fmla="val -5598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405" idx="0"/>
            <a:endCxn id="390" idx="6"/>
          </p:cNvCxnSpPr>
          <p:nvPr/>
        </p:nvCxnSpPr>
        <p:spPr>
          <a:xfrm flipH="1" flipV="1" rot="5400000">
            <a:off x="2197080" y="3477960"/>
            <a:ext cx="4075920" cy="1157760"/>
          </a:xfrm>
          <a:prstGeom prst="curvedConnector5">
            <a:avLst>
              <a:gd name="adj1" fmla="val -5644"/>
              <a:gd name="adj2" fmla="val 59253"/>
              <a:gd name="adj3" fmla="val -564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404" idx="1"/>
            <a:endCxn id="392" idx="4"/>
          </p:cNvCxnSpPr>
          <p:nvPr/>
        </p:nvCxnSpPr>
        <p:spPr>
          <a:xfrm flipH="1" flipV="1" rot="5400000">
            <a:off x="1207080" y="4368960"/>
            <a:ext cx="2500920" cy="953280"/>
          </a:xfrm>
          <a:prstGeom prst="curvedConnector5">
            <a:avLst>
              <a:gd name="adj1" fmla="val -9141"/>
              <a:gd name="adj2" fmla="val 49981"/>
              <a:gd name="adj3" fmla="val -9141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405" idx="1"/>
            <a:endCxn id="392" idx="4"/>
          </p:cNvCxnSpPr>
          <p:nvPr/>
        </p:nvCxnSpPr>
        <p:spPr>
          <a:xfrm flipV="1" rot="16200000">
            <a:off x="2045520" y="4482360"/>
            <a:ext cx="2499480" cy="724680"/>
          </a:xfrm>
          <a:prstGeom prst="curvedConnector5">
            <a:avLst>
              <a:gd name="adj1" fmla="val -9204"/>
              <a:gd name="adj2" fmla="val 50000"/>
              <a:gd name="adj3" fmla="val -920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968640" y="160020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77960" y="259092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8240" y="15238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49560" y="5181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06320" y="2438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49200" y="2438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5600" y="36576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77720" y="58672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44600" y="59436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90720" y="4191120"/>
            <a:ext cx="533160" cy="53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14400" y="4952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19320" y="342900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19320" y="3886200"/>
            <a:ext cx="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19320" y="47242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495288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00" idx="0"/>
            <a:endCxn id="392" idx="4"/>
          </p:cNvCxnSpPr>
          <p:nvPr/>
        </p:nvCxnSpPr>
        <p:spPr>
          <a:xfrm flipH="1" flipV="1" rot="5400000">
            <a:off x="1389600" y="4566600"/>
            <a:ext cx="2515320" cy="572040"/>
          </a:xfrm>
          <a:prstGeom prst="curvedConnector5">
            <a:avLst>
              <a:gd name="adj1" fmla="val 91468"/>
              <a:gd name="adj2" fmla="val 50000"/>
              <a:gd name="adj3" fmla="val 91468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01" idx="0"/>
            <a:endCxn id="392" idx="4"/>
          </p:cNvCxnSpPr>
          <p:nvPr/>
        </p:nvCxnSpPr>
        <p:spPr>
          <a:xfrm flipV="1" rot="16200000">
            <a:off x="1899720" y="4628520"/>
            <a:ext cx="2486880" cy="419760"/>
          </a:xfrm>
          <a:prstGeom prst="curvedConnector5">
            <a:avLst>
              <a:gd name="adj1" fmla="val 90473"/>
              <a:gd name="adj2" fmla="val 49957"/>
              <a:gd name="adj3" fmla="val 90473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27" name=""/>
          <p:cNvSpPr/>
          <p:nvPr/>
        </p:nvSpPr>
        <p:spPr>
          <a:xfrm flipH="1">
            <a:off x="1371600" y="3429000"/>
            <a:ext cx="129528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447920" y="3429000"/>
            <a:ext cx="1295280" cy="1523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39006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92320" y="47242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’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7080" y="4205160"/>
            <a:ext cx="533520" cy="5335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191120" y="49672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3900600"/>
            <a:ext cx="0" cy="3045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4738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496728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95680" y="3581280"/>
            <a:ext cx="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91920" y="47242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’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68280" y="365760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s-ES_tradnl" sz="1800" spc="-1" strike="noStrike" baseline="-25000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33526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3124080"/>
            <a:ext cx="15228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00400" y="3429000"/>
            <a:ext cx="106668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3429000"/>
            <a:ext cx="1295280" cy="1523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 deadlock ocurre cuando una secuencia de disparos lleva a que no existan más transiciones habilitad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a red de Petri donde no pueden ocurrir deadlocks, se dice que está viv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680E-A86D-4C31-B5AB-A1561C5455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Limita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redes de Petri modelan solamente el flujo de control de un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tokens representan recursos, pero son anónim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a impresora disponible, pero ¿cuál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 mensaje en el buffer, pero ¿qué contiene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19960" indent="-22392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signación de valores a los toke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 incluye consideraciones de tiempo de ejecuc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loured Petri nets o redes con tiemp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5FC-2CC2-4159-8C8A-42196C69E8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FDs: No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Burbujas: representan funcion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Flechas: flujos de datos. Pueden entrar o salir de una burbuj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ajas abiertas: almacenamiento de datos. Flechas saliendo de las cajas son lectura de datos, y entrando son escritura de da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ajas cerradas: entidades externas al sistema; pueden ser usuarios u otros siste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7391520" y="1981080"/>
            <a:ext cx="1143000" cy="1219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roceso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3581280"/>
            <a:ext cx="1143000" cy="1219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roceso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8" idx="1"/>
            <a:endCxn id="47" idx="2"/>
          </p:cNvCxnSpPr>
          <p:nvPr/>
        </p:nvCxnSpPr>
        <p:spPr>
          <a:xfrm flipH="1" flipV="1" rot="5400000">
            <a:off x="6699960" y="3067200"/>
            <a:ext cx="1168920" cy="2152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858720" y="306216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dato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7" idx="5"/>
            <a:endCxn id="48" idx="6"/>
          </p:cNvCxnSpPr>
          <p:nvPr/>
        </p:nvCxnSpPr>
        <p:spPr>
          <a:xfrm rot="5400000">
            <a:off x="7675560" y="3499560"/>
            <a:ext cx="1169280" cy="2152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8078040" y="327672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dato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162920" y="914400"/>
            <a:ext cx="1676160" cy="457200"/>
            <a:chOff x="7162920" y="914400"/>
            <a:chExt cx="1676160" cy="457200"/>
          </a:xfrm>
        </p:grpSpPr>
        <p:sp>
          <p:nvSpPr>
            <p:cNvPr id="54" name=""/>
            <p:cNvSpPr/>
            <p:nvPr/>
          </p:nvSpPr>
          <p:spPr>
            <a:xfrm>
              <a:off x="7162920" y="9144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62920" y="13716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162920" y="91440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7162560" y="91440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924680" y="1371600"/>
            <a:ext cx="7632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97160" y="144792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da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5638680"/>
            <a:ext cx="121896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sta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8" idx="4"/>
            <a:endCxn id="60" idx="0"/>
          </p:cNvCxnSpPr>
          <p:nvPr/>
        </p:nvCxnSpPr>
        <p:spPr>
          <a:xfrm flipH="1">
            <a:off x="7543440" y="4800600"/>
            <a:ext cx="38880" cy="8388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163640" y="495288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íne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69B-E68C-4647-9BBD-5841EA8797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jemplo: La Bibliotec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ara obtener un libro se requie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na solicitud del usuario conteniendo su identificación así como también el nombre y el autor del libr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isponer de una lista de libros y autores para localizar el libr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cceder a los estantes donde se encuentra el libr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 DFD es una primera aproximación a como ocurre este procedimien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656-E2F5-4376-AF0C-D1D923D855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edir un Libr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981080"/>
            <a:ext cx="1676160" cy="457200"/>
            <a:chOff x="457200" y="1981080"/>
            <a:chExt cx="1676160" cy="457200"/>
          </a:xfrm>
        </p:grpSpPr>
        <p:sp>
          <p:nvSpPr>
            <p:cNvPr id="67" name=""/>
            <p:cNvSpPr/>
            <p:nvPr/>
          </p:nvSpPr>
          <p:spPr>
            <a:xfrm>
              <a:off x="457200" y="198108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43828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198108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57560" y="198108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stant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57200" y="2971800"/>
            <a:ext cx="1676160" cy="457200"/>
            <a:chOff x="457200" y="2971800"/>
            <a:chExt cx="1676160" cy="457200"/>
          </a:xfrm>
        </p:grpSpPr>
        <p:sp>
          <p:nvSpPr>
            <p:cNvPr id="72" name=""/>
            <p:cNvSpPr/>
            <p:nvPr/>
          </p:nvSpPr>
          <p:spPr>
            <a:xfrm>
              <a:off x="457200" y="29718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34290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" y="297180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55040" y="29718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sta de Autor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57200" y="4114800"/>
            <a:ext cx="1676160" cy="457200"/>
            <a:chOff x="457200" y="4114800"/>
            <a:chExt cx="1676160" cy="457200"/>
          </a:xfrm>
        </p:grpSpPr>
        <p:sp>
          <p:nvSpPr>
            <p:cNvPr id="77" name=""/>
            <p:cNvSpPr/>
            <p:nvPr/>
          </p:nvSpPr>
          <p:spPr>
            <a:xfrm>
              <a:off x="457200" y="41148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" y="45720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" y="411480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55760" y="411480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sta de Títul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7200" y="5257800"/>
            <a:ext cx="1676160" cy="457200"/>
            <a:chOff x="457200" y="5257800"/>
            <a:chExt cx="1676160" cy="457200"/>
          </a:xfrm>
        </p:grpSpPr>
        <p:sp>
          <p:nvSpPr>
            <p:cNvPr id="82" name=""/>
            <p:cNvSpPr/>
            <p:nvPr/>
          </p:nvSpPr>
          <p:spPr>
            <a:xfrm>
              <a:off x="457200" y="52578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" y="57150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525780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56480" y="52578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sta de Tem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2209680"/>
            <a:ext cx="1143000" cy="1219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Obten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un libr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4114800"/>
            <a:ext cx="1143000" cy="1219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Busca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or 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934320" y="5181480"/>
            <a:ext cx="1676160" cy="457200"/>
            <a:chOff x="6934320" y="5181480"/>
            <a:chExt cx="1676160" cy="457200"/>
          </a:xfrm>
        </p:grpSpPr>
        <p:sp>
          <p:nvSpPr>
            <p:cNvPr id="89" name=""/>
            <p:cNvSpPr/>
            <p:nvPr/>
          </p:nvSpPr>
          <p:spPr>
            <a:xfrm>
              <a:off x="6934320" y="518148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34320" y="563868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34320" y="518148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6931080" y="518148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bros Prestad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1371600"/>
            <a:ext cx="12193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Usuar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3" idx="1"/>
            <a:endCxn id="86" idx="0"/>
          </p:cNvCxnSpPr>
          <p:nvPr/>
        </p:nvCxnSpPr>
        <p:spPr>
          <a:xfrm flipV="1" rot="10800000">
            <a:off x="4686480" y="1675440"/>
            <a:ext cx="2171880" cy="5338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4784400" y="140976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dentifica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, au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70" idx="0"/>
            <a:endCxn id="86" idx="1"/>
          </p:cNvCxnSpPr>
          <p:nvPr/>
        </p:nvCxnSpPr>
        <p:spPr>
          <a:xfrm flipH="1" rot="16200000">
            <a:off x="2423160" y="528120"/>
            <a:ext cx="407160" cy="3310560"/>
          </a:xfrm>
          <a:prstGeom prst="curvedConnector5">
            <a:avLst>
              <a:gd name="adj1" fmla="val -56194"/>
              <a:gd name="adj2" fmla="val 49994"/>
              <a:gd name="adj3" fmla="val -5619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2423520" y="146196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ib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75" idx="0"/>
            <a:endCxn id="86" idx="2"/>
          </p:cNvCxnSpPr>
          <p:nvPr/>
        </p:nvCxnSpPr>
        <p:spPr>
          <a:xfrm flipH="1" flipV="1" rot="5400000">
            <a:off x="2674800" y="1531440"/>
            <a:ext cx="153000" cy="27280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2592000" y="25290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u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0" idx="0"/>
            <a:endCxn id="86" idx="3"/>
          </p:cNvCxnSpPr>
          <p:nvPr/>
        </p:nvCxnSpPr>
        <p:spPr>
          <a:xfrm flipH="1" flipV="1" rot="5400000">
            <a:off x="2381040" y="2214000"/>
            <a:ext cx="864360" cy="2937600"/>
          </a:xfrm>
          <a:prstGeom prst="curvedConnector5">
            <a:avLst>
              <a:gd name="adj1" fmla="val 39666"/>
              <a:gd name="adj2" fmla="val 49993"/>
              <a:gd name="adj3" fmla="val 3966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2591640" y="342900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80" idx="2"/>
            <a:endCxn id="87" idx="2"/>
          </p:cNvCxnSpPr>
          <p:nvPr/>
        </p:nvCxnSpPr>
        <p:spPr>
          <a:xfrm flipH="1" rot="16200000">
            <a:off x="2622240" y="3232440"/>
            <a:ext cx="213480" cy="27709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2820240" y="441972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86" idx="6"/>
            <a:endCxn id="92" idx="0"/>
          </p:cNvCxnSpPr>
          <p:nvPr/>
        </p:nvCxnSpPr>
        <p:spPr>
          <a:xfrm>
            <a:off x="5257800" y="2819160"/>
            <a:ext cx="2618280" cy="236268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6781320" y="403848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dentifica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86" idx="7"/>
            <a:endCxn id="93" idx="2"/>
          </p:cNvCxnSpPr>
          <p:nvPr/>
        </p:nvCxnSpPr>
        <p:spPr>
          <a:xfrm flipH="1" flipV="1" rot="5400000">
            <a:off x="6075720" y="995400"/>
            <a:ext cx="407160" cy="2377080"/>
          </a:xfrm>
          <a:prstGeom prst="curvedConnector5">
            <a:avLst>
              <a:gd name="adj1" fmla="val -31946"/>
              <a:gd name="adj2" fmla="val 50000"/>
              <a:gd name="adj3" fmla="val -3194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401880" y="22096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ib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93" idx="1"/>
            <a:endCxn id="87" idx="7"/>
          </p:cNvCxnSpPr>
          <p:nvPr/>
        </p:nvCxnSpPr>
        <p:spPr>
          <a:xfrm flipV="1" rot="10800000">
            <a:off x="5090400" y="1675440"/>
            <a:ext cx="1767600" cy="261684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877640" y="358128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em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85" idx="3"/>
            <a:endCxn id="87" idx="3"/>
          </p:cNvCxnSpPr>
          <p:nvPr/>
        </p:nvCxnSpPr>
        <p:spPr>
          <a:xfrm flipV="1">
            <a:off x="2190600" y="5155560"/>
            <a:ext cx="2091600" cy="30060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2820240" y="511956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em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87" idx="6"/>
            <a:endCxn id="93" idx="2"/>
          </p:cNvCxnSpPr>
          <p:nvPr/>
        </p:nvCxnSpPr>
        <p:spPr>
          <a:xfrm flipV="1">
            <a:off x="5257800" y="1980720"/>
            <a:ext cx="2210400" cy="27439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7162920" y="25909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ista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FFE-6829-46D3-9527-C8C8595B49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btener un Libro (refinamiento o explosión)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2971800"/>
            <a:ext cx="1676160" cy="457200"/>
            <a:chOff x="457200" y="2971800"/>
            <a:chExt cx="1676160" cy="457200"/>
          </a:xfrm>
        </p:grpSpPr>
        <p:sp>
          <p:nvSpPr>
            <p:cNvPr id="116" name=""/>
            <p:cNvSpPr/>
            <p:nvPr/>
          </p:nvSpPr>
          <p:spPr>
            <a:xfrm>
              <a:off x="457200" y="29718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34290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297180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57560" y="297180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stant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" y="3962520"/>
            <a:ext cx="1676160" cy="457200"/>
            <a:chOff x="457200" y="3962520"/>
            <a:chExt cx="1676160" cy="457200"/>
          </a:xfrm>
        </p:grpSpPr>
        <p:sp>
          <p:nvSpPr>
            <p:cNvPr id="121" name=""/>
            <p:cNvSpPr/>
            <p:nvPr/>
          </p:nvSpPr>
          <p:spPr>
            <a:xfrm>
              <a:off x="457200" y="396252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41972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396252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55040" y="396252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sta de Autor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57200" y="5105520"/>
            <a:ext cx="1676160" cy="457200"/>
            <a:chOff x="457200" y="5105520"/>
            <a:chExt cx="1676160" cy="457200"/>
          </a:xfrm>
        </p:grpSpPr>
        <p:sp>
          <p:nvSpPr>
            <p:cNvPr id="126" name=""/>
            <p:cNvSpPr/>
            <p:nvPr/>
          </p:nvSpPr>
          <p:spPr>
            <a:xfrm>
              <a:off x="457200" y="510552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556272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510552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55760" y="510552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sta de Títul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2209680"/>
            <a:ext cx="1143000" cy="1219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Obten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l libr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934320" y="2514600"/>
            <a:ext cx="1676160" cy="457200"/>
            <a:chOff x="6934320" y="2514600"/>
            <a:chExt cx="1676160" cy="457200"/>
          </a:xfrm>
        </p:grpSpPr>
        <p:sp>
          <p:nvSpPr>
            <p:cNvPr id="132" name=""/>
            <p:cNvSpPr/>
            <p:nvPr/>
          </p:nvSpPr>
          <p:spPr>
            <a:xfrm>
              <a:off x="6934320" y="25146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34320" y="2971800"/>
              <a:ext cx="1676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34320" y="2514600"/>
              <a:ext cx="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931080" y="251460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Libros Prestad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5029200"/>
            <a:ext cx="12193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Usuar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3760" y="548640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dentifica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, au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19" idx="0"/>
            <a:endCxn id="130" idx="1"/>
          </p:cNvCxnSpPr>
          <p:nvPr/>
        </p:nvCxnSpPr>
        <p:spPr>
          <a:xfrm flipH="1" flipV="1" rot="5400000">
            <a:off x="2410200" y="947880"/>
            <a:ext cx="585000" cy="3462840"/>
          </a:xfrm>
          <a:prstGeom prst="curvedConnector5">
            <a:avLst>
              <a:gd name="adj1" fmla="val 169519"/>
              <a:gd name="adj2" fmla="val 50000"/>
              <a:gd name="adj3" fmla="val 169519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2363400" y="190512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ib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24" idx="0"/>
            <a:endCxn id="141" idx="1"/>
          </p:cNvCxnSpPr>
          <p:nvPr/>
        </p:nvCxnSpPr>
        <p:spPr>
          <a:xfrm flipH="1" rot="16200000">
            <a:off x="2631240" y="2718360"/>
            <a:ext cx="559080" cy="3047040"/>
          </a:xfrm>
          <a:prstGeom prst="curvedConnector5">
            <a:avLst>
              <a:gd name="adj1" fmla="val -40914"/>
              <a:gd name="adj2" fmla="val 49994"/>
              <a:gd name="adj3" fmla="val -4091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592000" y="34290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u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29" idx="0"/>
            <a:endCxn id="141" idx="2"/>
          </p:cNvCxnSpPr>
          <p:nvPr/>
        </p:nvCxnSpPr>
        <p:spPr>
          <a:xfrm flipH="1" flipV="1" rot="5400000">
            <a:off x="2729160" y="3567600"/>
            <a:ext cx="153360" cy="292320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591640" y="464832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0" idx="7"/>
            <a:endCxn id="135" idx="0"/>
          </p:cNvCxnSpPr>
          <p:nvPr/>
        </p:nvCxnSpPr>
        <p:spPr>
          <a:xfrm flipH="1" rot="16200000">
            <a:off x="6495840" y="1133640"/>
            <a:ext cx="127800" cy="2633040"/>
          </a:xfrm>
          <a:prstGeom prst="curvedConnector5">
            <a:avLst>
              <a:gd name="adj1" fmla="val -319774"/>
              <a:gd name="adj2" fmla="val 49993"/>
              <a:gd name="adj3" fmla="val -319774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5486040" y="190512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ítulo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identifica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1" idx="4"/>
            <a:endCxn id="136" idx="2"/>
          </p:cNvCxnSpPr>
          <p:nvPr/>
        </p:nvCxnSpPr>
        <p:spPr>
          <a:xfrm flipH="1" rot="16200000">
            <a:off x="6191280" y="4209480"/>
            <a:ext cx="76680" cy="2782080"/>
          </a:xfrm>
          <a:prstGeom prst="curvedConnector5">
            <a:avLst>
              <a:gd name="adj1" fmla="val 400000"/>
              <a:gd name="adj2" fmla="val 49993"/>
              <a:gd name="adj3" fmla="val 400000"/>
            </a:avLst>
          </a:prstGeom>
          <a:ln w="9360">
            <a:solidFill>
              <a:srgbClr val="000066"/>
            </a:solidFill>
            <a:miter/>
            <a:head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6859080" y="38098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lib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343400"/>
            <a:ext cx="1143000" cy="1219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Busca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un libr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30" idx="6"/>
            <a:endCxn id="136" idx="0"/>
          </p:cNvCxnSpPr>
          <p:nvPr/>
        </p:nvCxnSpPr>
        <p:spPr>
          <a:xfrm>
            <a:off x="5409720" y="2819520"/>
            <a:ext cx="2210760" cy="221040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1" idx="0"/>
            <a:endCxn id="130" idx="4"/>
          </p:cNvCxnSpPr>
          <p:nvPr/>
        </p:nvCxnSpPr>
        <p:spPr>
          <a:xfrm flipV="1">
            <a:off x="4838400" y="3428640"/>
            <a:ext cx="1080" cy="915120"/>
          </a:xfrm>
          <a:prstGeom prst="curvedConnector2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190400" y="3443400"/>
            <a:ext cx="15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#estante, #lib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7D0-BDC7-4D90-B8B4-58F05F231A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recis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refinamiento de procesos da mayor precisión a la especificación, pero no elimina la ambigüedad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¿es necesario dar el título del libro y el autor siempre? ¿o alcanza sólo con el nombre del libro?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B4E-FEB7-4BC8-9B86-1FF3D3C4B4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ausas de Imprecis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mántic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significado de los nombres de los elementos del diagrama son elegidos (imprecisamente) por el especificado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743200" y="2895480"/>
            <a:ext cx="46483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si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el usuario da el título y el autor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entonce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determinar la posición del libro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si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el libro existe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entonce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obtener el libro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sino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dar un mensaje de error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sino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si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se da sólo el autor del libro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entonce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dar una lista de libros de ese autor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pedir un título de la lista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sino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si se da sólo el título </a:t>
            </a:r>
            <a:r>
              <a:rPr b="1" lang="es-ES_tradnl" sz="1600" spc="-1" strike="noStrike">
                <a:solidFill>
                  <a:srgbClr val="000066"/>
                </a:solidFill>
                <a:latin typeface="Tahoma"/>
              </a:rPr>
              <a:t>entonces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000066"/>
                </a:solidFill>
                <a:latin typeface="Tahoma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0A89-99C1-450B-849D-1A6E4F72D9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ás Causas de Imprecis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modelo no define elementos de contro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o se explicita cómo producir las salidas a partir de las entrad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 necesita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b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c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, para poder producir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 necesita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b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 o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c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para producir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 produce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 y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 simultáneam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19000" indent="-2854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 produce primero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 y luego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05520" y="3886200"/>
            <a:ext cx="4038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tro posible problema de control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 manda el dato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 en cuanto lo tiene disponibl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 solicita a A el dato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1905120"/>
            <a:ext cx="4572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2514600"/>
            <a:ext cx="4572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3200400"/>
            <a:ext cx="4572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1680" y="2514600"/>
            <a:ext cx="4572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48720" y="2133720"/>
            <a:ext cx="4572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2971800"/>
            <a:ext cx="4572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0" idx="5"/>
            <a:endCxn id="163" idx="1"/>
          </p:cNvCxnSpPr>
          <p:nvPr/>
        </p:nvCxnSpPr>
        <p:spPr>
          <a:xfrm>
            <a:off x="6029280" y="2295360"/>
            <a:ext cx="820080" cy="2865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1" idx="6"/>
            <a:endCxn id="163" idx="2"/>
          </p:cNvCxnSpPr>
          <p:nvPr/>
        </p:nvCxnSpPr>
        <p:spPr>
          <a:xfrm>
            <a:off x="6095520" y="2742840"/>
            <a:ext cx="6865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2" idx="7"/>
            <a:endCxn id="163" idx="3"/>
          </p:cNvCxnSpPr>
          <p:nvPr/>
        </p:nvCxnSpPr>
        <p:spPr>
          <a:xfrm flipV="1">
            <a:off x="6029280" y="2904480"/>
            <a:ext cx="820080" cy="362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3" idx="7"/>
            <a:endCxn id="164" idx="2"/>
          </p:cNvCxnSpPr>
          <p:nvPr/>
        </p:nvCxnSpPr>
        <p:spPr>
          <a:xfrm flipV="1">
            <a:off x="7171920" y="2361960"/>
            <a:ext cx="677160" cy="2196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3" idx="5"/>
            <a:endCxn id="165" idx="2"/>
          </p:cNvCxnSpPr>
          <p:nvPr/>
        </p:nvCxnSpPr>
        <p:spPr>
          <a:xfrm>
            <a:off x="7171920" y="2905200"/>
            <a:ext cx="600840" cy="2955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6174000" y="20574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73280" y="2422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4000" y="2819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40680" y="22096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6280" y="26668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546D-86DF-407C-A542-5D3A8D61C1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Ochoachoa</cp:lastModifiedBy>
  <cp:lastPrinted>2000-08-21T18:18:27Z</cp:lastPrinted>
  <dcterms:modified xsi:type="dcterms:W3CDTF">2001-09-24T14:52:26Z</dcterms:modified>
  <cp:revision>50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WA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