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752-01D7-4553-9732-2A5EA429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488-61DF-4FF6-BCCC-7F9620CE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10A-C36F-4D08-99EE-86859F19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10C-CE49-461E-B9F5-81F7A79C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4140-990C-4E6B-921A-B74C9857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ABB7-9661-4201-AF96-9F1B280F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6FA9-7E64-490E-A63B-4CF68E21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EC9E-6B2D-41FE-A8B1-85333FE5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612C-F7B3-413C-8F50-C14D362F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EF71-A8AD-4F02-8A55-BE83594A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A63C-EA56-4C33-AF49-F753DB0B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961-CFEB-44B7-A14D-873F7425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8191-309B-4184-BA65-DAE64CA7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D0F2-BCF7-469A-8AF2-55A9012E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FD1E-B274-41F0-AEFD-7E4A3E80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62DE-3AB7-453C-A842-CADE2D81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3F57-94EA-4A92-B690-DB1D8FE9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C88-3C38-4A70-86AB-96960D20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85B-8752-4D8D-9192-D22228DC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27D-35AE-4BAB-BABB-56157903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3D8-9E24-4228-8C6B-22EEC41D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569-0081-4578-95BC-FBF4BED7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329-873F-497E-A9E3-0B8F8830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5AC-6EEB-42CD-B1A4-8299E90D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4B79-95CA-4A54-8601-FB49DB1ACE9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7B48-4CA7-48B3-B0ED-58D61AEBA309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31B – Desarrollo de Software de Apl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78900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lanificación de la Revisión – Fase de Análi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 de la Revis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jec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ntes de la revisión, los autores debe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entregar el documento impreso, a los revis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entregar a los revisores, el acceso a ReqAdm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preparar una presentación (puede ser PowerPoint o bien sobre la herramienta) de 15minutos (como máx.), a cerca de los requisitos de su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presentar lo más representativo del proyecto (servicios, restricciones, requisitos críticos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Uno de los autores debe presentar el trabaj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Otro(s) debe(n) tomar nota de las observaciones de los revisores. Este es conocido como el “</a:t>
            </a:r>
            <a:r>
              <a:rPr b="0" i="1" lang="es-CL" sz="2000" spc="-1" strike="noStrike">
                <a:solidFill>
                  <a:srgbClr val="40458c"/>
                </a:solidFill>
                <a:latin typeface="Tahoma"/>
              </a:rPr>
              <a:t>Registrador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”. Ojalá graben las revisiones (al menos la parte de las pregunt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cuche (y agradezca) a sus compañeros, por las observaciones que le hagan. Ellos le están ayudando a mejorar su trabaj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Lleguen antes de la hora fijada y comprueben que todo está OK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Moderad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coordinar la reunión, y velar por el cumplimiento de los tiempos establec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ignar la palabra, para que los revisores puedan participar (el orden de participación queda a su criteri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 recomendable que el moderador no haga de revisor, salvo en casos excepcion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Revisor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hacer preguntas u observaciones puntuales... Recuerden que tienen poco tiempo par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observar primero lo que es más importante. Si sobra tiempo, se puede revisar el r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bservar sin herir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edir la palabra, y hablar sólo cuando se le haya asignado. Deben hacer preguntas u observaciones puntuales... Recuerden que tienen poco tiempo par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velar por la correctitud y completitud del elemento inspeccion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verificar la adhesión al Estándar utilizado (si hay un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El documento o memoria de la revisión debe ser enviado a todos los miembros del equipo de trabaj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Luego los autores deben reunirse para planificar la corrección de los errores encontrado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La versión final del documento de requisitos se deberá entregar en el horario de clase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1999-02-10T22:32:39Z</cp:lastPrinted>
  <dcterms:modified xsi:type="dcterms:W3CDTF">2005-09-01T17:36:26Z</dcterms:modified>
  <cp:revision>40</cp:revision>
  <dc:subject/>
  <dc:title>Software Technical Reviews</dc:title>
</cp:coreProperties>
</file>