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C47-9531-4C1D-8F0E-F977E78A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68A9-E9CA-4B72-BDFF-B9C8C95F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C2D-2C47-45EE-B537-16ED4FDD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7F1-AB51-40A9-9492-27AB541B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D096-3793-4F0F-BA28-63861C40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D92C-51D9-404C-AA4D-C7F78714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B816-5147-43A0-AE36-2F38A24A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E36C-B5BD-4B38-B72D-DF608CD2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A01A-6471-4E94-A3C4-F52DD626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8389-B498-47C0-A900-98F0402C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BCAB-E8BE-4884-BDD1-82D529E2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970-DE50-4A96-8DA2-1FB8DDA9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2C3D-AFB2-43D6-843D-C028E63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DE25-27C2-4EB1-BBB6-6CBBE19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3BB2-864B-4C00-97A9-B2A43420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9189-0795-4BDA-9856-ECD7B1CE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14A9-5DF4-4245-98F9-E8291EE7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BBE-F471-4070-9E05-0FEA4876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881-1560-4666-943C-D860A068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05B-465A-48F1-A95D-2736AF6D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9AF-435C-42C7-AB1A-C1A3D521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DDB-B14C-4351-B0A9-62F32D99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6E0-A98A-473B-BAC3-F03179B5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281-F424-4121-8FE1-8B6F43B3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AF8C-9938-4C50-946D-2C4023DFD95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A575-991F-419D-8087-C849DBE16D1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31B – Desarrollo de Software de Apl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78900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lanificación de la Revisión – Fase de Análi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 de la Revis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jec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ntes de la revisión, los autores debe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entregar el documento impreso, a los revis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entregar a los revisores, el acceso a ReqAdm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preparar una presentación (puede ser PowerPoint o bien sobre la herramienta) de 15minutos (como máx.), a cerca de los requisitos de su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presentar lo más representativo del proyecto (servicios, restricciones, requisitos críticos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Uno de los autores debe presentar el trabaj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Otro(s) debe(n) tomar nota de las observaciones de los revisores. Este es conocido como el “</a:t>
            </a:r>
            <a:r>
              <a:rPr b="0" i="1" lang="es-CL" sz="2000" spc="-1" strike="noStrike">
                <a:solidFill>
                  <a:srgbClr val="40458c"/>
                </a:solidFill>
                <a:latin typeface="Tahoma"/>
              </a:rPr>
              <a:t>Registrador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”. Ojalá graben las revisiones (al menos la parte de las pregunt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cuche (y agradezca) a sus compañeros, por las observaciones que le hagan. Ellos le están ayudando a mejorar su trabaj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Lleguen antes de la hora fijada y comprueben que todo está OK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Moderad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coordinar la reunión, y velar por el cumplimiento de los tiempos estable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ignar la palabra, para que los revisores puedan participar (el orden de participación queda a su criteri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 recomendable que el moderador no haga de revisor, salvo en casos excepcion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Revisor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hacer preguntas u observaciones puntuales... Recuerden que tienen poco tiempo par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observar primero lo que es más importante. Si sobra tiempo, se puede revisar el r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bservar sin herir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edir la palabra, y hablar sólo cuando se le haya asignado. Deben hacer preguntas u observaciones puntuales... Recuerden que tienen poco tiempo par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velar por la correctitud y completitud del elemento inspeccion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verificar la adhesión al Estándar utilizado (si hay un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El documento o memoria de la revisión debe ser enviado a todos los miembros del equipo de trabaj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Luego los autores deben reunirse para planificar la corrección de los errores encontrado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La versión final del documento de requisitos se deberá entregar en el horario de clase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1999-02-10T22:32:39Z</cp:lastPrinted>
  <dcterms:modified xsi:type="dcterms:W3CDTF">2005-09-01T17:36:26Z</dcterms:modified>
  <cp:revision>40</cp:revision>
  <dc:subject/>
  <dc:title>Software Technical Reviews</dc:title>
</cp:coreProperties>
</file>