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A46-4DD3-4DDD-AE63-1E0ED397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C1D-3153-4264-BAAE-4964AE2D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764-7296-4780-A6D0-C1355F6C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0A8-9EA7-4DE6-95DD-9303DF73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3CE7-67E1-44D9-9C39-FC157F51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6475-FDA1-4AA9-B2FB-321B7AB3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385A-60DE-443F-B28C-99D015CA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6DF0-C201-41B4-93E4-B947609D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3E6A-1D23-4136-B761-C08BCA4B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37A1-A0E3-4FED-B638-A7073BFB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AFDD-11B5-4A3D-B441-AB49FE66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37F-94DB-4762-8B94-BAC044A0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38B1-3704-49B3-A739-F1BD6E0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8BE4-E404-402A-9342-0C1ED8F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2DED-E1DE-4B79-A258-D5B2C86A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4B5C-84E3-434E-9FCC-4E779A62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0D47-C70B-4993-B272-9D5D256E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ABF-3AD5-4B66-A8D5-EF6FAC2F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924-729F-4F8F-A68A-331E7CA1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75E-D7B6-4A1E-AD10-E5E58DB3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521-A6C1-4A43-AA98-790FB973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7D6-325A-4A54-9DDA-9134FC65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240-3090-46BC-826D-F1B26CA1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D72-2895-49DE-B1D9-C78EF89C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1A5E-F8DF-4D90-9599-EC0E30CA131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6383-73AB-4965-856F-FFBD2FF0DCE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31B – Desarrollo de Software de Apl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78900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lanificación de la Revisión – Fase de Análi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 de la Revis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jec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ntes de la revisión, los autores debe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entregar el documento impreso, a los revis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entregar a los revisores, el acceso a ReqAdm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preparar una presentación (puede ser PowerPoint o bien sobre la herramienta) de 15minutos (como máx.), a cerca de los requisitos de su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presentar lo más representativo del proyecto (servicios, restricciones, requisitos críticos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Uno de los autores debe presentar el trabaj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Otro(s) debe(n) tomar nota de las observaciones de los revisores. Este es conocido como el “</a:t>
            </a:r>
            <a:r>
              <a:rPr b="0" i="1" lang="es-CL" sz="2000" spc="-1" strike="noStrike">
                <a:solidFill>
                  <a:srgbClr val="40458c"/>
                </a:solidFill>
                <a:latin typeface="Tahoma"/>
              </a:rPr>
              <a:t>Registrador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”. Ojalá graben las revisiones (al menos la parte de las pregunt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cuche (y agradezca) a sus compañeros, por las observaciones que le hagan. Ellos le están ayudando a mejorar su trabaj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Lleguen antes de la hora fijada y comprueben que todo está OK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Moderad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coordinar la reunión, y velar por el cumplimiento de los tiempos estable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ignar la palabra, para que los revisores puedan participar (el orden de participación queda a su criteri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 recomendable que el moderador no haga de revisor, salvo en casos excepcion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Revisor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hacer preguntas u observaciones puntuales... Recuerden que tienen poco tiempo par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observar primero lo que es más importante. Si sobra tiempo, se puede revisar el r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bservar sin herir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edir la palabra, y hablar sólo cuando se le haya asignado. Deben hacer preguntas u observaciones puntuales... Recuerden que tienen poco tiempo par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velar por la correctitud y completitud del elemento inspeccion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verificar la adhesión al Estándar utilizado (si hay un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El documento o memoria de la revisión debe ser enviado a todos los miembros del equipo de trabaj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Luego los autores deben reunirse para planificar la corrección de los errores encontrado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La versión final del documento de requisitos se deberá entregar en el horario de clase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1999-02-10T22:32:39Z</cp:lastPrinted>
  <dcterms:modified xsi:type="dcterms:W3CDTF">2005-09-01T17:36:26Z</dcterms:modified>
  <cp:revision>40</cp:revision>
  <dc:subject/>
  <dc:title>Software Technical Reviews</dc:title>
</cp:coreProperties>
</file>