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911-8E98-4F6D-B831-F693F6EA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9FF-76C8-47C1-8EEA-7AE59C23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D0B-AEED-4CDF-85F5-3C9A1AB9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9B4-323D-4B94-AB36-CD5C3665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D5F-8361-4751-B91D-31E9F61D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875-6AF6-451E-8375-16AF0A9D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B3F-0109-46CB-89DC-7B2CD2C0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655-4C63-4CBA-9B46-1B4B1DB6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AAE-7707-4D29-89AE-4582969E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308-12E7-40B7-91AC-0BD53673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697-1090-44BD-863F-90513A2A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5D6-F76E-4269-9B81-BBD0FFAF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B268-4659-4A5F-BD60-22659C34FBDC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ones Funcionales: Casos de Uso</a:t>
            </a:r>
            <a:br>
              <a:rPr sz="4400"/>
            </a:b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(UML)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ptiembre 2004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aso de Uso de Alto Nive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1828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aso de us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Actore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Tip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Descripció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43200" y="2133720"/>
            <a:ext cx="6019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omprar produ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liente, Cajer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imari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 Cliente llega a la caja registradora con los artículos que comprará. El Cajero registra los artículos y cobra el importe. Al terminar la operación, el Cliente se marcha con los productos, una boleta que detalla su comp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C6E-83ED-4EE5-9A55-B560A09101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aso de Uso Expandi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981080"/>
            <a:ext cx="182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aso de us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Actore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Propósi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Resume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Tip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Referencia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198108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omprar productos en efectiv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liente (iniciador), Caje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aptura una venta y su pago en efectiv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 Cliente llega a la caja registradora con los artículos que comprará. El Cajero registra los artículos y recibe un pago en efectivo. Al terminar la operación, el Cliente se marcha con los productos, y la boleta que detalla su compr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imario y esencial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Funciones: R1.1, R1.2, R1.3, R1.7, R1.9, R2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A66-C01F-4CD1-87D6-371BD6BADC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urso Normal de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. El caso de uso comienza cuando un Cliente llega a la caja con productos que desea comprar.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2. El cajero registra el identificador de cada producto. Si hay varios de cada producto, el Cajero introduce la cantidad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4. Al terminar de introducir el producto, el Cajero indica al sistema que concluyó la captu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6. El Cajero indica el total al Cli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48360" y="1828800"/>
            <a:ext cx="374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3. Determina el precio del producto e incorpora la información a la transacción actu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5. Calcula y presenta el total de la vent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44360" y="137016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cción del Act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8040" y="137016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spuesta del Sist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2DD-9B5D-4628-9910-ADBF235683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urso Normal de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7. El Cliente paga en efectivo un monto mayor o igual al total de la vent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8. El Cajero registra la cantidad en efectivo recibid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0. El Cajero deposita el efectivo recibido y extrae el cambio. El Cajero da al Cliente el cambio y el recibo impres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2. El Cliente se marcha con los artículos comprado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2122560"/>
            <a:ext cx="3995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9. Muestra al Cliente la diferencia. Genera un recib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1. Registra la venta concluid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17080" y="14461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cción del Act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6640" y="144612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spuesta del Sist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C5E-92D2-4FEC-A53B-09AE2F4FE9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urso Alterno de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Operac. 2: introducción de identificador invalido. Indicar erro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Operac.  7: el cliente no tenía suficiente dinero. Cancelar la transac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DF3-4686-4CAA-9630-ED97D8E676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Actor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os actores son entidades externas que participan en el caso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stimula al sistema con entradas o recibe algo de é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identifican con el papel que desempeña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n un caso de uso hay un </a:t>
            </a:r>
            <a:r>
              <a:rPr b="1" lang="es-CL" sz="2400" spc="-1" strike="noStrike">
                <a:solidFill>
                  <a:srgbClr val="000066"/>
                </a:solidFill>
                <a:latin typeface="Tahoma"/>
              </a:rPr>
              <a:t>actor iniciador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y posiblemente otros </a:t>
            </a:r>
            <a:r>
              <a:rPr b="1" lang="es-CL" sz="2400" spc="-1" strike="noStrike">
                <a:solidFill>
                  <a:srgbClr val="000066"/>
                </a:solidFill>
                <a:latin typeface="Tahoma"/>
              </a:rPr>
              <a:t>actores participantes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os actores pueden ser de varios tip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personas desempeñando distintos papel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sistemas de cómput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aparatos eléctricos o mecánic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391160" y="3809880"/>
            <a:ext cx="914040" cy="1447560"/>
            <a:chOff x="7391160" y="3809880"/>
            <a:chExt cx="914040" cy="1447560"/>
          </a:xfrm>
        </p:grpSpPr>
        <p:sp>
          <p:nvSpPr>
            <p:cNvPr id="90" name=""/>
            <p:cNvSpPr/>
            <p:nvPr/>
          </p:nvSpPr>
          <p:spPr>
            <a:xfrm>
              <a:off x="7492680" y="3809880"/>
              <a:ext cx="609480" cy="5788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97240" y="4388760"/>
              <a:ext cx="0" cy="482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7391160" y="4871880"/>
              <a:ext cx="405720" cy="385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97240" y="4871880"/>
              <a:ext cx="507960" cy="289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91520" y="4485600"/>
              <a:ext cx="812520" cy="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391160" y="53341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B01-9C29-4E8E-AF17-B7E9AD0A9B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Identificación de 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Método 1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identifican los actores relacionados con un sistema o empres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Para cada actor, se identifican los procesos que él inicia o en los que particip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Método 2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identifican los eventos externos a los que un sistema ha de responde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relacionan los eventos con los actores y con los casos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264-6EDC-41C9-897F-CFA55D6AD9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Diagramas de 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xplican gráficamente un conjunto de casos de uso de un sistema, los actores y la relación entre éstos y los casos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os casos de uso se muestran como óvalos, los actores como figuras estilizadas, y los flujos de información o estímulos como líne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Identifican los agentes externos de un sistema y la forma en que lo utiliza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AD1-DE99-4854-B9E2-7086F3784C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Diagrama de Punto de Ven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238880" y="3200400"/>
            <a:ext cx="685800" cy="1143000"/>
            <a:chOff x="7238880" y="3200400"/>
            <a:chExt cx="685800" cy="1143000"/>
          </a:xfrm>
        </p:grpSpPr>
        <p:sp>
          <p:nvSpPr>
            <p:cNvPr id="103" name=""/>
            <p:cNvSpPr/>
            <p:nvPr/>
          </p:nvSpPr>
          <p:spPr>
            <a:xfrm>
              <a:off x="7314840" y="320040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43440" y="3657600"/>
              <a:ext cx="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7238880" y="4038840"/>
              <a:ext cx="30456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43440" y="4038840"/>
              <a:ext cx="38124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38880" y="3733920"/>
              <a:ext cx="60948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523880" y="3124080"/>
            <a:ext cx="685800" cy="1143000"/>
            <a:chOff x="1523880" y="3124080"/>
            <a:chExt cx="685800" cy="1143000"/>
          </a:xfrm>
        </p:grpSpPr>
        <p:sp>
          <p:nvSpPr>
            <p:cNvPr id="109" name=""/>
            <p:cNvSpPr/>
            <p:nvPr/>
          </p:nvSpPr>
          <p:spPr>
            <a:xfrm>
              <a:off x="1599840" y="312408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28440" y="3581280"/>
              <a:ext cx="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3880" y="3962520"/>
              <a:ext cx="30456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440" y="3962520"/>
              <a:ext cx="38124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3880" y="3657600"/>
              <a:ext cx="60948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657600" y="1752480"/>
            <a:ext cx="243828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2514600"/>
            <a:ext cx="2133720" cy="7621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505320"/>
            <a:ext cx="2133720" cy="761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a Da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495680"/>
            <a:ext cx="2133720" cy="7621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Entrega camb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e los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d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94400" y="171756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6120" y="4384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Cajer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240" y="44956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3" idx="0"/>
            <a:endCxn id="115" idx="2"/>
          </p:cNvCxnSpPr>
          <p:nvPr/>
        </p:nvCxnSpPr>
        <p:spPr>
          <a:xfrm flipV="1">
            <a:off x="2133720" y="2894760"/>
            <a:ext cx="1676880" cy="778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22" name=""/>
          <p:cNvCxnSpPr>
            <a:stCxn id="113" idx="1"/>
            <a:endCxn id="116" idx="2"/>
          </p:cNvCxnSpPr>
          <p:nvPr/>
        </p:nvCxnSpPr>
        <p:spPr>
          <a:xfrm>
            <a:off x="2133720" y="3673080"/>
            <a:ext cx="1676880" cy="2134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23" name=""/>
          <p:cNvCxnSpPr>
            <a:stCxn id="113" idx="1"/>
            <a:endCxn id="117" idx="2"/>
          </p:cNvCxnSpPr>
          <p:nvPr/>
        </p:nvCxnSpPr>
        <p:spPr>
          <a:xfrm>
            <a:off x="2133720" y="3673080"/>
            <a:ext cx="1676880" cy="1204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24" name=""/>
          <p:cNvCxnSpPr>
            <a:stCxn id="107" idx="0"/>
            <a:endCxn id="115" idx="6"/>
          </p:cNvCxnSpPr>
          <p:nvPr/>
        </p:nvCxnSpPr>
        <p:spPr>
          <a:xfrm flipH="1" flipV="1">
            <a:off x="5943240" y="2894760"/>
            <a:ext cx="1296000" cy="824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25" name=""/>
          <p:cNvCxnSpPr>
            <a:stCxn id="107" idx="0"/>
            <a:endCxn id="117" idx="6"/>
          </p:cNvCxnSpPr>
          <p:nvPr/>
        </p:nvCxnSpPr>
        <p:spPr>
          <a:xfrm flipH="1">
            <a:off x="5943240" y="3719160"/>
            <a:ext cx="1296000" cy="1157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C09-5958-468F-8F70-E5AF7A225D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ormatos de 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ormato de Alto Ni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be un proceso muy brevemente. Es conveniente durante el estado inicial de los requerimientos para establecer la complejidad y funcionalidad del sistema. Son sucintos y vag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ormato Expandid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 más detallado que el formato de alto nivel. Tiene una sección d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curso normal de eventos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 Este formato se usa durante la especificación de requerimientos para los requerimientos más importantes o de mayor influenci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B32-3756-451C-A0E4-17313C1D04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so de Estudio: Punto de Ven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punto de venta es el terminal de un sistema computarizado donde se registran ventas y se realizan pag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hardware lo componen un computador y una lectora de código de barr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pide desarrollar el software para el punto de ven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5880" y="1676520"/>
            <a:ext cx="2614680" cy="188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F0A-A32B-4422-B3F2-1F36B96076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ronteras del Sistem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caso de uso describe la interacción con un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fronteras del sistema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 frontera hardware/softwar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l departamento de una organiza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 organización enter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frontera determina qué es interno y externo al sistema, así como las responsabilidades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ambiente externo está representado solamente por los actor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153280" y="3505320"/>
            <a:ext cx="533160" cy="761400"/>
            <a:chOff x="8153280" y="3505320"/>
            <a:chExt cx="533160" cy="761400"/>
          </a:xfrm>
        </p:grpSpPr>
        <p:sp>
          <p:nvSpPr>
            <p:cNvPr id="132" name=""/>
            <p:cNvSpPr/>
            <p:nvPr/>
          </p:nvSpPr>
          <p:spPr>
            <a:xfrm>
              <a:off x="8212320" y="350532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90160" y="3809880"/>
              <a:ext cx="0" cy="253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153280" y="4064040"/>
              <a:ext cx="236880" cy="202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90160" y="406404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53280" y="386064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781680" y="2133720"/>
            <a:ext cx="1981440" cy="1218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2467080"/>
            <a:ext cx="1733400" cy="5810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aso de U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6" idx="0"/>
            <a:endCxn id="138" idx="4"/>
          </p:cNvCxnSpPr>
          <p:nvPr/>
        </p:nvCxnSpPr>
        <p:spPr>
          <a:xfrm flipH="1" flipV="1">
            <a:off x="7743240" y="3047760"/>
            <a:ext cx="410040" cy="799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8097840" y="4295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560" y="121932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fronte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2"/>
            <a:endCxn id="137" idx="0"/>
          </p:cNvCxnSpPr>
          <p:nvPr/>
        </p:nvCxnSpPr>
        <p:spPr>
          <a:xfrm>
            <a:off x="7737120" y="1676520"/>
            <a:ext cx="35640" cy="4579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74B-9FF5-46EB-9932-F8CC22F157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pciones de Fronter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elegimos la tienda entera como la frontera del sistema, el Cajero es un recurso más, y el único actor es el Cli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620120" y="4191120"/>
            <a:ext cx="685800" cy="1143000"/>
            <a:chOff x="7620120" y="4191120"/>
            <a:chExt cx="685800" cy="1143000"/>
          </a:xfrm>
        </p:grpSpPr>
        <p:sp>
          <p:nvSpPr>
            <p:cNvPr id="146" name=""/>
            <p:cNvSpPr/>
            <p:nvPr/>
          </p:nvSpPr>
          <p:spPr>
            <a:xfrm>
              <a:off x="7696080" y="419112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24680" y="4648320"/>
              <a:ext cx="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620120" y="5029560"/>
              <a:ext cx="30456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24680" y="5029560"/>
              <a:ext cx="38124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0120" y="4724640"/>
              <a:ext cx="60948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038480" y="2971800"/>
            <a:ext cx="2438640" cy="304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733920"/>
            <a:ext cx="2133360" cy="761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5105520"/>
            <a:ext cx="2133360" cy="761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Entrega camb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e los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d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480" y="30481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0" idx="0"/>
            <a:endCxn id="152" idx="6"/>
          </p:cNvCxnSpPr>
          <p:nvPr/>
        </p:nvCxnSpPr>
        <p:spPr>
          <a:xfrm flipH="1" flipV="1">
            <a:off x="6323760" y="4114440"/>
            <a:ext cx="1296360" cy="5961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6" name=""/>
          <p:cNvCxnSpPr>
            <a:stCxn id="150" idx="0"/>
            <a:endCxn id="153" idx="6"/>
          </p:cNvCxnSpPr>
          <p:nvPr/>
        </p:nvCxnSpPr>
        <p:spPr>
          <a:xfrm flipH="1">
            <a:off x="6323760" y="4710240"/>
            <a:ext cx="1296360" cy="7768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7468200" y="541008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lient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230-BB78-4A4B-A897-A4FA54C5B2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sos Esenciales y Casos Re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4800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sos Esenciales de Us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sos expandidos que se expresan en forma teórica y con pocos detalles de implement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be el proceso a partir de sus actividades y motivos esencia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onviene usarlos al comenzar a investigar los requerimien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ienen más vida úti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2880" y="2590560"/>
            <a:ext cx="3810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sos Reales de Us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be concretamente el proceso a partir de su diseño concreto actual, con sus tecnologí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usan principalmente durante el diseñ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1600200"/>
            <a:ext cx="6096240" cy="609480"/>
          </a:xfrm>
          <a:prstGeom prst="leftRightArrow">
            <a:avLst>
              <a:gd name="adj1" fmla="val 50519"/>
              <a:gd name="adj2" fmla="val 166706"/>
            </a:avLst>
          </a:prstGeom>
          <a:gradFill rotWithShape="0">
            <a:gsLst>
              <a:gs pos="0">
                <a:srgbClr val="a50021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8360" y="16416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bstra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16765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oncre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CF9-E641-452F-96C7-B9691491D8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mpra de Produc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1. El Cajero registra el identificador y el número de cada producto.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3. Y así sucesivamente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67080" y="2057040"/>
            <a:ext cx="3810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2. Determina el precio del producto y agrega su información a la transacción actual. Aparece el precio y la descripción del producto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4. Y así sucesivamente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3962520"/>
            <a:ext cx="3809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1. En cada producto, el Cajero teclea el código universal del producto (CUP) y el número de cada producto en los campos correspondientes en la ventana 1. Oprime el botón “Introducir Producto” con el ratón o la tecla &lt;Enter&gt;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3. etcétera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3962520"/>
            <a:ext cx="3810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2. Muestra el precio del producto y agrega la información sobre él a la transacción de venta. El precio y la descripción del producto actual se muestran en el cuadro de texto 2 de la ventana 1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4. etcétera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39400" y="137160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Acción de los Act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7040" y="137160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Respuesta del 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981080"/>
            <a:ext cx="7924680" cy="16765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3886200"/>
            <a:ext cx="7924680" cy="22096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7582680" y="254916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aso Esenc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7820280" y="467460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aso Re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AA4-28AB-4D75-A1B6-89BFDC15C0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roceso de Desarrollo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istar las funciones del sistema. Identificar la frontera, los actores y los casos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cribir los casos de uso en formato de alto nive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ibujar el diagrama de casos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cribir en formato esencial expandido los casos de uso más importantes, influyentes y riesgosos, para comprender y estimar mejor la naturaleza y las dimensiones del probl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 veces es necesario incluir casos rea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8C2-D555-4267-BC89-DDE604B0FF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finición de Actor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198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jer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lien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Geren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dministrador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l Sistem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62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gistra los produ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trega el cambi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ompra produ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aga los produ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nic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ierr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ncorpora nuevos usuari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A01-8241-4F0B-A8C3-0FBDB7B97F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sos de Uso de Alto Nive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981080"/>
            <a:ext cx="182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aso de us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Actore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Propósi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Tip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Descripció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198108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Inicio de Operacion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Ger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aptura una venta y su pago en efectiv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imari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 gerente activa el punto de venta a fin de prepararla para que la usen los Cajeros. El Gerente comprueba que la fecha y hora sean correctos; hecho esto, el sistema está listo para que lo utilice el Cajer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9C9-A1EF-46BF-A050-8854DD29F5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agrama de 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38880" y="2362320"/>
            <a:ext cx="533160" cy="761400"/>
            <a:chOff x="7238880" y="2362320"/>
            <a:chExt cx="533160" cy="761400"/>
          </a:xfrm>
        </p:grpSpPr>
        <p:sp>
          <p:nvSpPr>
            <p:cNvPr id="185" name=""/>
            <p:cNvSpPr/>
            <p:nvPr/>
          </p:nvSpPr>
          <p:spPr>
            <a:xfrm>
              <a:off x="7297920" y="236232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75760" y="2666880"/>
              <a:ext cx="0" cy="253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238880" y="2921040"/>
              <a:ext cx="236880" cy="202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75760" y="292104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271764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828800" y="2362320"/>
            <a:ext cx="533160" cy="761400"/>
            <a:chOff x="1828800" y="2362320"/>
            <a:chExt cx="533160" cy="761400"/>
          </a:xfrm>
        </p:grpSpPr>
        <p:sp>
          <p:nvSpPr>
            <p:cNvPr id="191" name=""/>
            <p:cNvSpPr/>
            <p:nvPr/>
          </p:nvSpPr>
          <p:spPr>
            <a:xfrm>
              <a:off x="1887840" y="236232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65680" y="2666880"/>
              <a:ext cx="0" cy="253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828800" y="2921040"/>
              <a:ext cx="236880" cy="202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65680" y="292104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28800" y="271764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657600" y="1447920"/>
            <a:ext cx="2438280" cy="4800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ompra Produc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59092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Registra Da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327672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Entrega cambi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de los produc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omprad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10240" y="14479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240" y="3147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aje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640" y="314784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lie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5" idx="0"/>
            <a:endCxn id="197" idx="2"/>
          </p:cNvCxnSpPr>
          <p:nvPr/>
        </p:nvCxnSpPr>
        <p:spPr>
          <a:xfrm flipV="1">
            <a:off x="2303640" y="2158200"/>
            <a:ext cx="1659600" cy="575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04" name=""/>
          <p:cNvCxnSpPr>
            <a:stCxn id="195" idx="1"/>
            <a:endCxn id="198" idx="2"/>
          </p:cNvCxnSpPr>
          <p:nvPr/>
        </p:nvCxnSpPr>
        <p:spPr>
          <a:xfrm>
            <a:off x="2303640" y="2733840"/>
            <a:ext cx="1659600" cy="111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05" name=""/>
          <p:cNvCxnSpPr>
            <a:stCxn id="195" idx="1"/>
            <a:endCxn id="199" idx="2"/>
          </p:cNvCxnSpPr>
          <p:nvPr/>
        </p:nvCxnSpPr>
        <p:spPr>
          <a:xfrm>
            <a:off x="2303640" y="2733480"/>
            <a:ext cx="1659600" cy="7974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06" name=""/>
          <p:cNvCxnSpPr>
            <a:stCxn id="189" idx="0"/>
            <a:endCxn id="197" idx="6"/>
          </p:cNvCxnSpPr>
          <p:nvPr/>
        </p:nvCxnSpPr>
        <p:spPr>
          <a:xfrm flipH="1" flipV="1">
            <a:off x="5622120" y="2158200"/>
            <a:ext cx="1616760" cy="5454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07" name=""/>
          <p:cNvCxnSpPr>
            <a:stCxn id="189" idx="0"/>
            <a:endCxn id="199" idx="6"/>
          </p:cNvCxnSpPr>
          <p:nvPr/>
        </p:nvCxnSpPr>
        <p:spPr>
          <a:xfrm flipH="1">
            <a:off x="5622120" y="2703240"/>
            <a:ext cx="1616760" cy="827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962520" y="403848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Inici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80060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Administr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los usuari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56272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etcéter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057400" y="4751280"/>
            <a:ext cx="533160" cy="762120"/>
            <a:chOff x="2057400" y="4751280"/>
            <a:chExt cx="533160" cy="762120"/>
          </a:xfrm>
        </p:grpSpPr>
        <p:sp>
          <p:nvSpPr>
            <p:cNvPr id="212" name=""/>
            <p:cNvSpPr/>
            <p:nvPr/>
          </p:nvSpPr>
          <p:spPr>
            <a:xfrm>
              <a:off x="2116440" y="475128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94280" y="5055840"/>
              <a:ext cx="0" cy="254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7400" y="5310360"/>
              <a:ext cx="236880" cy="203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94280" y="531036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57400" y="510696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601280" y="548640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Administrad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del sist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315200" y="4218120"/>
            <a:ext cx="533160" cy="761400"/>
            <a:chOff x="7315200" y="4218120"/>
            <a:chExt cx="533160" cy="761400"/>
          </a:xfrm>
        </p:grpSpPr>
        <p:sp>
          <p:nvSpPr>
            <p:cNvPr id="219" name=""/>
            <p:cNvSpPr/>
            <p:nvPr/>
          </p:nvSpPr>
          <p:spPr>
            <a:xfrm>
              <a:off x="7374240" y="421812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52080" y="4522680"/>
              <a:ext cx="0" cy="253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315200" y="4776840"/>
              <a:ext cx="236880" cy="202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52080" y="477684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15200" y="457344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087320" y="49766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Gere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16" idx="0"/>
            <a:endCxn id="209" idx="2"/>
          </p:cNvCxnSpPr>
          <p:nvPr/>
        </p:nvCxnSpPr>
        <p:spPr>
          <a:xfrm flipV="1">
            <a:off x="2531880" y="5054040"/>
            <a:ext cx="1430640" cy="68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26" name=""/>
          <p:cNvCxnSpPr>
            <a:stCxn id="223" idx="0"/>
            <a:endCxn id="208" idx="6"/>
          </p:cNvCxnSpPr>
          <p:nvPr/>
        </p:nvCxnSpPr>
        <p:spPr>
          <a:xfrm flipH="1" flipV="1">
            <a:off x="5622120" y="4292280"/>
            <a:ext cx="1693080" cy="26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D73-28C9-4F4B-B931-1222269548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Algunos Casos Esenciales Expandid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981080"/>
            <a:ext cx="182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aso de us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Actore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Propósi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Resume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Tip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Referencia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198108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omprar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liente (iniciador), Caje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aptura una venta y su pag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 Cliente llega a la caja registradora con los artículos que comprará. El Cajero registra los artículos y recibe el pago. Al terminar la operación, el Cliente se marcha con los producto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imario y esencial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Funciones: R1.1, R1.2, R1.3, R1.7, R1.9, R2.1, R2.2, R2.3, R2.4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A2D-A3B8-4B41-A151-EF2AD0D3BC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urso Normal de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828800"/>
            <a:ext cx="4114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. El Cliente colunica su información de crédito para pagar con tarjeta.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3. El Servicio de autorización de crédito autoriza el pag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1828800"/>
            <a:ext cx="5105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2. Genera una solicitud de pago con tarjeta de crédito y la envía a un servicio externo de autorización de crédit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4. Recibe una respuesta aprobatoria de crédito del Servicio de autorizació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5. El sistema de cuentas por cobrar registra la información del pago y la aprobació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6. Muestra el mensaje aprobatorio de autorizació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9840" y="13716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Acción del Act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3000" y="13716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Respuesta del Sist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5181480"/>
            <a:ext cx="801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urso alternativo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ínea 4: solicitud negada por el Servicio de autorización.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roponer otra forma de pag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812-2F76-4CE4-84BD-5A8931D9EB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ementos de la Espec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resentación Genera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rear un sistema de terminal para el punto de vent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lien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bjectStore, Inc., detallista multinacional de obje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Meta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ago rápido de los client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nálisis rápido y exacto de las vent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ntrol automático de inventari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unciones del sistem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FB8-6963-4DA3-93DC-321F7B91BF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tegorías de Fun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ahoma"/>
              </a:rPr>
              <a:t>Categoría de la Funció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uperflu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11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ahoma"/>
              </a:rPr>
              <a:t>Significad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be realizarse y el usuario debería saber que se ha realiz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be realizarse, aunque no es visible para los usuari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pcionales; su inclusión no repercute significativamente en el costo ni en otras fun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896-133B-4BAE-A916-012C373C3D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unciones Bás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ferenc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1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2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3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4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5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6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905120" y="15238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unció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gistra la venta en curso: los productos comprad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lcula el total de la venta actual; se incluye el impues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ptura la información sobre el objeto por su código de barras o manualm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duce las cantidades del inventario cuando se realiza una vent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registran las ventas efectuad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cajero debe introducir identificación y contraseña para usar 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1523880"/>
            <a:ext cx="1600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tegorí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5F3-8F0C-4F38-BE62-E3C8CAE852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ás Funciones Bás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438280"/>
            <a:ext cx="182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ferenci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243828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un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frece un mecanismo de almacenamiento persistent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frece mecanismos de comunicación entre los procesos y entre los sistema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uestra la descripción y el precio del producto registrad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2438280"/>
            <a:ext cx="1600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tegorí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1B1-1E3E-4023-BAEA-F3843CBE0D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unciones de Pag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447920"/>
            <a:ext cx="182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ferenci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2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2.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2.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2.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1371600"/>
            <a:ext cx="5791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un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aneja los pagos en efectivo, capturando la cantidad ofrecida y calculando el vuelt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aneja los pagos a crédito, capturando la información de tarjetas de crédito y solicitando autorización externa a través de una conexión por modem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aneja los pagos con cheque, capturando el RUN manualmente y solicitando autorización externa a través de una conexión por modem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gistra los pagos en el sistema de cuentas por cobrar, pues el servicio de autorización de crédito debe a la tienda el monto del pag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1371600"/>
            <a:ext cx="1600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tegorí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60C-B2C5-4433-8B64-D1B19A3B4F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Requerimientos No Funcion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523880"/>
            <a:ext cx="5791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pci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ó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uando se registre un producto vendido, la descripci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ó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 y el precio aparecerán en 2 segundos de tiempo máxim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ventanas y cuadros de diálogo; maximizan la navegaci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ó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 fácil a través del teclado y no con apuntador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be registrar los pagos a crédito autorizados a las cuentas por cobrar en un plazo de 24 horas, aún cuando se produzcan fallas de energía o de equip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icrosoft Windows 98, NT y Linux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29768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querimient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iempo de respues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etáfora de interfaz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olerancia a fall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lataforma del sistema operativ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165-302A-4534-8038-B7FC879714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l caso de uso es un documento narrativo que describe la secuencia de eventos de un actor (agente externo) que utiliza un sistema para realizar un proce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Historias o casos de utilización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No son los requisitos funcionales, sino que ejemplifican e incluyen tácitamente los requisitos en las historias que narra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5029200"/>
            <a:ext cx="29718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r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24A-2C56-49AC-AE4B-3FEA1C33A4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adminsochoa</cp:lastModifiedBy>
  <cp:lastPrinted>2001-08-20T21:23:42Z</cp:lastPrinted>
  <dcterms:modified xsi:type="dcterms:W3CDTF">2004-09-03T16:43:20Z</dcterms:modified>
  <cp:revision>61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