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69C-5DF9-4B3C-9D81-CF673257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A6E-8B60-44E1-A445-96F48FB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352-4352-46B7-BC4E-247520DD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D64-7F44-4E76-8168-AA8AB3C3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BA6-6FCB-4ABF-9DD7-D4F2BE1C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044-01F6-4BE5-9369-D87144E5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B6F-42B3-4605-B441-0C23E7CA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568-2ACB-4B42-8542-8A03BA2B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E04-0532-4A15-85E8-AB1F0C87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8C3-C7F3-4A52-8638-164E6DBD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906-90D6-46F4-A4BB-934E626B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A08-71FD-4968-990F-C3C2277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6AE8-6479-44CA-B6C6-535EC1C7325C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Funcionales: Casos de Uso</a:t>
            </a:r>
            <a:br>
              <a:rPr sz="4400"/>
            </a:b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(UML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ptiembre 200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182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3200" y="21337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, 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cobra el importe. Al terminar la operación, el Cliente se marcha con los productos, una boleta que detalla su comp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F81-DBF3-446F-B35B-AA2299208E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Expandi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 en efec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un pago en efectivo. Al terminar la operación, el Cliente se marcha con los productos, y la boleta que detalla su compr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B27-AF9B-4809-8191-215F836A9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aso de uso comienza cuando un Cliente llega a la caja con productos que desea comprar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El cajero registra el identificador de cada producto. Si hay varios de cada producto, el Cajero introduce la cantidad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Al terminar de introducir el producto, el Cajero indica al sistema que concluyó la captu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El Cajero indica el total a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8360" y="1828800"/>
            <a:ext cx="374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Determina el precio del producto e incorpora la información a la transacción actu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Calcula y presenta el total de l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44360" y="13701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8040" y="137016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4BD-961E-45EF-B0B9-B177E82DB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7. El Cliente paga en efectivo un monto mayor o igual al total de la vent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8. El Cajero registra la cantidad en efectivo recib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0. El Cajero deposita el efectivo recibido y extrae el cambio. El Cajero da al Cliente el cambio y el recibo impres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2. El Cliente se marcha con los artículos comprad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122560"/>
            <a:ext cx="399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9. Muestra al Cliente la diferencia. Genera un recib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1. Registra la venta conclu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7080" y="14461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6640" y="14461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C14-97F7-4A25-A259-29F1F69D0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Alterno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2: introducción de identificador invalido. Indicar erro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 7: el cliente no tenía suficiente dinero. Cancelar la trans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268-5B85-448F-A3FF-E196407CC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son entidades externas que participan en el caso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imula al sistema con entradas o recibe algo de é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con el papel que desempeñ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un caso de uso hay un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 iniciador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y posiblemente otros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es participantes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pueden ser de vari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personas desempeñando distintos pape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sistemas de cómpu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aparatos eléctricos o mecán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91160" y="3809880"/>
            <a:ext cx="914040" cy="1447560"/>
            <a:chOff x="7391160" y="3809880"/>
            <a:chExt cx="914040" cy="1447560"/>
          </a:xfrm>
        </p:grpSpPr>
        <p:sp>
          <p:nvSpPr>
            <p:cNvPr id="90" name=""/>
            <p:cNvSpPr/>
            <p:nvPr/>
          </p:nvSpPr>
          <p:spPr>
            <a:xfrm>
              <a:off x="7492680" y="3809880"/>
              <a:ext cx="609480" cy="5788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7240" y="4388760"/>
              <a:ext cx="0" cy="482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391160" y="4871880"/>
              <a:ext cx="405720" cy="385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97240" y="4871880"/>
              <a:ext cx="507960" cy="289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485600"/>
              <a:ext cx="81252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391160" y="5334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BB5-8ED2-455E-A072-F283CE06AB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Identificación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1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actores relacionados con un sistema o empre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ara cada actor, se identifican los procesos que él inicia o en los que particip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2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eventos externos a los que un sistema ha de respond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relacionan los eventos con los actores y con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D84-9F12-49EC-A7B3-6350646F58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xplican gráficamente un conjunto de casos de uso de un sistema, los actores y la relación entre ésto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casos de uso se muestran como óvalos, los actores como figuras estilizadas, y los flujos de información o estímulos como líne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Identifican los agentes externos de un sistema y la forma en que lo utiliz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00A-21FC-4F62-9382-A10CD22E5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238880" y="3200400"/>
            <a:ext cx="685800" cy="1143000"/>
            <a:chOff x="7238880" y="3200400"/>
            <a:chExt cx="685800" cy="1143000"/>
          </a:xfrm>
        </p:grpSpPr>
        <p:sp>
          <p:nvSpPr>
            <p:cNvPr id="103" name=""/>
            <p:cNvSpPr/>
            <p:nvPr/>
          </p:nvSpPr>
          <p:spPr>
            <a:xfrm>
              <a:off x="7314840" y="3200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43440" y="365760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238880" y="403884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3440" y="403884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8880" y="373392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23880" y="3124080"/>
            <a:ext cx="685800" cy="1143000"/>
            <a:chOff x="1523880" y="3124080"/>
            <a:chExt cx="685800" cy="1143000"/>
          </a:xfrm>
        </p:grpSpPr>
        <p:sp>
          <p:nvSpPr>
            <p:cNvPr id="109" name=""/>
            <p:cNvSpPr/>
            <p:nvPr/>
          </p:nvSpPr>
          <p:spPr>
            <a:xfrm>
              <a:off x="1599840" y="312408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440" y="358128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3880" y="396252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440" y="396252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365760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57600" y="1752480"/>
            <a:ext cx="243828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51460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213372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49568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94400" y="17175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6120" y="4384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240" y="44956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3" idx="0"/>
            <a:endCxn id="115" idx="2"/>
          </p:cNvCxnSpPr>
          <p:nvPr/>
        </p:nvCxnSpPr>
        <p:spPr>
          <a:xfrm flipV="1">
            <a:off x="2133720" y="2894760"/>
            <a:ext cx="1676880" cy="778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2" name=""/>
          <p:cNvCxnSpPr>
            <a:stCxn id="113" idx="1"/>
            <a:endCxn id="116" idx="2"/>
          </p:cNvCxnSpPr>
          <p:nvPr/>
        </p:nvCxnSpPr>
        <p:spPr>
          <a:xfrm>
            <a:off x="2133720" y="3673080"/>
            <a:ext cx="1676880" cy="213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3" name=""/>
          <p:cNvCxnSpPr>
            <a:stCxn id="113" idx="1"/>
            <a:endCxn id="117" idx="2"/>
          </p:cNvCxnSpPr>
          <p:nvPr/>
        </p:nvCxnSpPr>
        <p:spPr>
          <a:xfrm>
            <a:off x="2133720" y="3673080"/>
            <a:ext cx="1676880" cy="1204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4" name=""/>
          <p:cNvCxnSpPr>
            <a:stCxn id="107" idx="0"/>
            <a:endCxn id="115" idx="6"/>
          </p:cNvCxnSpPr>
          <p:nvPr/>
        </p:nvCxnSpPr>
        <p:spPr>
          <a:xfrm flipH="1" flipV="1">
            <a:off x="5943240" y="2894760"/>
            <a:ext cx="1296000" cy="824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5" name=""/>
          <p:cNvCxnSpPr>
            <a:stCxn id="107" idx="0"/>
            <a:endCxn id="117" idx="6"/>
          </p:cNvCxnSpPr>
          <p:nvPr/>
        </p:nvCxnSpPr>
        <p:spPr>
          <a:xfrm flipH="1">
            <a:off x="5943240" y="3719160"/>
            <a:ext cx="1296000" cy="115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FE8-C319-4EA3-85D5-4BDC3A0A6D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ormato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de Alto Ni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un proceso muy brevemente. Es conveniente durante el estado inicial de los requerimientos para establecer la complejidad y funcionalidad del sistema. Son sucintos y vag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Expandi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más detallado que el formato de alto nivel. Tiene una sección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urso normal de event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Este formato se usa durante la especificación de requerimientos para los requerimientos más importantes o de mayor influ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1C2-6F7F-4F70-95E6-2816F15304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 de Estudio: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unto de venta es el terminal de un sistema computarizado donde se registran ventas y se realizan pag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hardware lo componen un computador y una lectora de código de bar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pide desarrollar el software para el punto de ve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614680" cy="18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A2F-1A6E-4D5F-986B-B15AF223E7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ronteras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aso de uso describe la interacción con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fronteras del sistem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frontera hardware/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departamento de una organiz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organización enter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rontera determina qué es interno y externo al sistema, así como las responsabilidade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mbiente externo está representado solamente por los a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53280" y="3505320"/>
            <a:ext cx="533160" cy="761400"/>
            <a:chOff x="8153280" y="3505320"/>
            <a:chExt cx="533160" cy="761400"/>
          </a:xfrm>
        </p:grpSpPr>
        <p:sp>
          <p:nvSpPr>
            <p:cNvPr id="132" name=""/>
            <p:cNvSpPr/>
            <p:nvPr/>
          </p:nvSpPr>
          <p:spPr>
            <a:xfrm>
              <a:off x="8212320" y="3505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90160" y="3809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153280" y="4064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90160" y="4064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3860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781680" y="2133720"/>
            <a:ext cx="198144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467080"/>
            <a:ext cx="1733400" cy="581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so de U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0"/>
            <a:endCxn id="138" idx="4"/>
          </p:cNvCxnSpPr>
          <p:nvPr/>
        </p:nvCxnSpPr>
        <p:spPr>
          <a:xfrm flipH="1" flipV="1">
            <a:off x="7743240" y="3047760"/>
            <a:ext cx="410040" cy="79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8097840" y="4295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560" y="12193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ronte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37" idx="0"/>
          </p:cNvCxnSpPr>
          <p:nvPr/>
        </p:nvCxnSpPr>
        <p:spPr>
          <a:xfrm>
            <a:off x="7737120" y="1676520"/>
            <a:ext cx="35640" cy="4579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744B-832F-432E-9056-2EE7816695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pciones de Fronter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legimos la tienda entera como la frontera del sistema, el Cajero es un recurso más, y el único actor es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0120" y="4191120"/>
            <a:ext cx="685800" cy="1143000"/>
            <a:chOff x="7620120" y="4191120"/>
            <a:chExt cx="685800" cy="1143000"/>
          </a:xfrm>
        </p:grpSpPr>
        <p:sp>
          <p:nvSpPr>
            <p:cNvPr id="146" name=""/>
            <p:cNvSpPr/>
            <p:nvPr/>
          </p:nvSpPr>
          <p:spPr>
            <a:xfrm>
              <a:off x="7696080" y="419112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24680" y="464832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620120" y="502956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4680" y="502956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472464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2971800"/>
            <a:ext cx="2438640" cy="304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7339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1055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480" y="30481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0" idx="0"/>
            <a:endCxn id="152" idx="6"/>
          </p:cNvCxnSpPr>
          <p:nvPr/>
        </p:nvCxnSpPr>
        <p:spPr>
          <a:xfrm flipH="1" flipV="1">
            <a:off x="6323760" y="4114440"/>
            <a:ext cx="1296360" cy="596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0" idx="0"/>
            <a:endCxn id="153" idx="6"/>
          </p:cNvCxnSpPr>
          <p:nvPr/>
        </p:nvCxnSpPr>
        <p:spPr>
          <a:xfrm flipH="1">
            <a:off x="6323760" y="4710240"/>
            <a:ext cx="1296360" cy="77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7468200" y="54100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ent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3AF-A3DD-494E-AD3C-901A33E89A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Esenciales y Casos Re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senci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xpandidos que se expresan en forma teórica y con pocos detalles de implement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el proceso a partir de sus actividades y motivos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nviene usarlos al comenzar a investigar los requerimi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nen más vida út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2880" y="2590560"/>
            <a:ext cx="3810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Re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concretamente el proceso a partir de su diseño concreto actual, con sus tecnologí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usan principalmente durante el dise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600200"/>
            <a:ext cx="6096240" cy="609480"/>
          </a:xfrm>
          <a:prstGeom prst="leftRightArrow">
            <a:avLst>
              <a:gd name="adj1" fmla="val 50519"/>
              <a:gd name="adj2" fmla="val 166706"/>
            </a:avLst>
          </a:prstGeom>
          <a:gradFill rotWithShape="0">
            <a:gsLst>
              <a:gs pos="0">
                <a:srgbClr val="a50021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360" y="1641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bstra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76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oncre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8CD-525D-423C-B9DE-F55032BFB3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ra de Produ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l Cajero registra el identificador y el número de cada producto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67080" y="205704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Determina el precio del producto y agrega su información a la transacción actual. Aparece el precio y la descripción del producto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962520"/>
            <a:ext cx="3809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n cada producto, el Cajero teclea el código universal del producto (CUP) y el número de cada producto en los campos correspondientes en la ventana 1. Oprime el botón “Introducir Producto” con el ratón o la tecla &lt;Enter&gt;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962520"/>
            <a:ext cx="381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Muestra el precio del producto y agrega la información sobre él a la transacción de venta. El precio y la descripción del producto actual se muestran en el cuadro de texto 2 de la ventana 1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9400" y="137160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cción de los Ac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7040" y="13716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981080"/>
            <a:ext cx="792468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886200"/>
            <a:ext cx="792468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7582680" y="254916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Esen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820280" y="46746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Re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BF5-EC50-4355-93A4-57C2C915EC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oceso de Desarroll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istar las funciones del sistema. Identificar la frontera, los actore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los casos de uso en format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bujar el diagrama de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n formato esencial expandido los casos de uso más importantes, influyentes y riesgosos, para comprender y estimar mejor la naturaleza y las dimensiones del probl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 veces es necesario incluir casos re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03C-9851-4960-B1A7-D52D744A98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finición de 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dministrad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2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trega el camb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g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i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ierr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corpora nuevos usu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B4B-12A7-481D-83B3-37B7E257F0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Inicio de Opera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gerente activa el punto de venta a fin de prepararla para que la usen los Cajeros. El Gerente comprueba que la fecha y hora sean correctos; hecho esto, el sistema está listo para que lo utilice el Cajer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3FA-E1A7-434F-BCF0-F36AD9B254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38880" y="2362320"/>
            <a:ext cx="533160" cy="761400"/>
            <a:chOff x="7238880" y="2362320"/>
            <a:chExt cx="533160" cy="761400"/>
          </a:xfrm>
        </p:grpSpPr>
        <p:sp>
          <p:nvSpPr>
            <p:cNvPr id="185" name=""/>
            <p:cNvSpPr/>
            <p:nvPr/>
          </p:nvSpPr>
          <p:spPr>
            <a:xfrm>
              <a:off x="729792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7576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3888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576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28800" y="2362320"/>
            <a:ext cx="533160" cy="761400"/>
            <a:chOff x="1828800" y="2362320"/>
            <a:chExt cx="533160" cy="761400"/>
          </a:xfrm>
        </p:grpSpPr>
        <p:sp>
          <p:nvSpPr>
            <p:cNvPr id="191" name=""/>
            <p:cNvSpPr/>
            <p:nvPr/>
          </p:nvSpPr>
          <p:spPr>
            <a:xfrm>
              <a:off x="188784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568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82880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568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657600" y="1447920"/>
            <a:ext cx="243828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5909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3276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0240" y="1447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240" y="3147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640" y="31478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0"/>
            <a:endCxn id="197" idx="2"/>
          </p:cNvCxnSpPr>
          <p:nvPr/>
        </p:nvCxnSpPr>
        <p:spPr>
          <a:xfrm flipV="1">
            <a:off x="2303640" y="2158200"/>
            <a:ext cx="1659600" cy="57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5" idx="1"/>
            <a:endCxn id="198" idx="2"/>
          </p:cNvCxnSpPr>
          <p:nvPr/>
        </p:nvCxnSpPr>
        <p:spPr>
          <a:xfrm>
            <a:off x="2303640" y="2733840"/>
            <a:ext cx="1659600" cy="111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stCxn id="195" idx="1"/>
            <a:endCxn id="199" idx="2"/>
          </p:cNvCxnSpPr>
          <p:nvPr/>
        </p:nvCxnSpPr>
        <p:spPr>
          <a:xfrm>
            <a:off x="2303640" y="2733480"/>
            <a:ext cx="1659600" cy="797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89" idx="0"/>
            <a:endCxn id="197" idx="6"/>
          </p:cNvCxnSpPr>
          <p:nvPr/>
        </p:nvCxnSpPr>
        <p:spPr>
          <a:xfrm flipH="1" flipV="1">
            <a:off x="5622120" y="2158200"/>
            <a:ext cx="1616760" cy="545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89" idx="0"/>
            <a:endCxn id="199" idx="6"/>
          </p:cNvCxnSpPr>
          <p:nvPr/>
        </p:nvCxnSpPr>
        <p:spPr>
          <a:xfrm flipH="1">
            <a:off x="5622120" y="2703240"/>
            <a:ext cx="161676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962520" y="403848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Inici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80060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los usuari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562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tcéte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57400" y="4751280"/>
            <a:ext cx="533160" cy="762120"/>
            <a:chOff x="2057400" y="4751280"/>
            <a:chExt cx="533160" cy="762120"/>
          </a:xfrm>
        </p:grpSpPr>
        <p:sp>
          <p:nvSpPr>
            <p:cNvPr id="212" name=""/>
            <p:cNvSpPr/>
            <p:nvPr/>
          </p:nvSpPr>
          <p:spPr>
            <a:xfrm>
              <a:off x="2116440" y="475128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94280" y="5055840"/>
              <a:ext cx="0" cy="254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7400" y="5310360"/>
              <a:ext cx="236880" cy="203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4280" y="531036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510696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601280" y="548640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d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315200" y="4218120"/>
            <a:ext cx="533160" cy="761400"/>
            <a:chOff x="7315200" y="4218120"/>
            <a:chExt cx="533160" cy="761400"/>
          </a:xfrm>
        </p:grpSpPr>
        <p:sp>
          <p:nvSpPr>
            <p:cNvPr id="219" name=""/>
            <p:cNvSpPr/>
            <p:nvPr/>
          </p:nvSpPr>
          <p:spPr>
            <a:xfrm>
              <a:off x="7374240" y="42181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2080" y="45226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315200" y="47768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2080" y="47768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5734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087320" y="49766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Ger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6" idx="0"/>
            <a:endCxn id="209" idx="2"/>
          </p:cNvCxnSpPr>
          <p:nvPr/>
        </p:nvCxnSpPr>
        <p:spPr>
          <a:xfrm flipV="1">
            <a:off x="2531880" y="5054040"/>
            <a:ext cx="1430640" cy="68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3" idx="0"/>
            <a:endCxn id="208" idx="6"/>
          </p:cNvCxnSpPr>
          <p:nvPr/>
        </p:nvCxnSpPr>
        <p:spPr>
          <a:xfrm flipH="1" flipV="1">
            <a:off x="5622120" y="4292280"/>
            <a:ext cx="1693080" cy="26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FA4-2689-4416-B654-E0EF7995AE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os Casos Esenciales Expandid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el pago. Al terminar la operación, el Cliente se marcha con los product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, R2.2, R2.3, R2.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10F-E16B-4C7D-96EF-6C3C514029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82880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liente colunica su información de crédito para pagar con tarjeta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El Servicio de autorización de crédito autoriza el pa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828800"/>
            <a:ext cx="5105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Genera una solicitud de pago con tarjeta de crédito y la envía a un servicio externo de autorización de crédi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Recibe una respuesta aprobatoria de crédito del Servic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El sistema de cuentas por cobrar registra la información del pago y la aprob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Muestra el mensaje aprobator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9840" y="13716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3000" y="1371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18148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rso alternativo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ínea 4: solicitud negada por el Servicio de autorización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poner otra forma de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00B-7E9A-49C8-8FAC-362FFC0068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la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esentación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sistema de terminal para el punto de ven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bjectStore, Inc., detallista multinacional de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et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go rápido de los cli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nálisis rápido y exacto de las ven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trol automático de invent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unciones del siste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5EB-E1D4-46BA-9FBA-2CC31284FF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tegorías de Fun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Categoría de la 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uperflu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Significa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 y el usuario debería saber que se ha realiz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, aunque no es visible para los usuar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pcionales; su inclusión no repercute significativamente en el costo ni en otras fu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929-5489-42B8-831B-F1B87B0140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1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2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4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5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05120" y="15238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a venta en curso: los productos compr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lcula el total de la venta actual; se incluye el impues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ptura la información sobre el objeto por su código de barras o manual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duce las cantidades del inventario cuando se realiza un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registran las ventas efectu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cajero debe introducir identificación y contraseña para us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5238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31B-3A96-44B3-B12A-4DE4AFEDFC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4382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un mecanismo de almacenamiento persistent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mecanismos de comunicación entre los procesos y entre los sistem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estra la descripción y el precio del producto registrad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4382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DAB-4E73-4F24-9AE8-7726AE556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de Pag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44792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371600"/>
            <a:ext cx="5791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en efectivo, capturando la cantidad ofrecida y calculando el vuel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a crédito, capturando la información de tarjetas de crédito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con cheque, capturando el RUN manualmente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agos en el sistema de cuentas por cobrar, pues el servicio de autorización de crédito debe a la tienda el monto del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137160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316-CD78-4418-BF80-F794B05F4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Requerimientos No Fun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523880"/>
            <a:ext cx="5791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se registre un producto vendido, la 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y el precio aparecerán en 2 segundos de tiempo máxim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ventanas y cuadros de diálogo; maximizan la navega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fácil a través del teclado y no con apuntador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gistrar los pagos a crédito autorizados a las cuentas por cobrar en un plazo de 24 horas, aún cuando se produzcan fallas de energía o de equip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icrosoft Windows 98, NT y Linux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2976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quer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mpo de respues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etáfora de 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olerancia a fall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lataforma del sistema opera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E82-CE34-431A-9CB9-4E8172C58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l caso de uso es un documento narrativo que describe la secuencia de eventos de un actor (agente externo) que utiliza un sistema para realizar un proce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Historias o casos de utilizac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No son los requisitos funcionales, sino que ejemplifican e incluyen tácitamente los requisitos en las historias que narr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5029200"/>
            <a:ext cx="2971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3CB-00FD-48D5-82DD-7A908ECE4E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8-20T21:23:42Z</cp:lastPrinted>
  <dcterms:modified xsi:type="dcterms:W3CDTF">2004-09-03T16:43:20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