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BB5-B0C4-492B-93CF-00864535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B15-7826-4CA5-8F5E-43C9F9D9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38F-3D2E-4121-86E1-D7900DC1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918-D887-4505-8DC5-36D8A526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D8E0-AD0C-42DC-B6CE-37A8D5A4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1BC-698D-4512-B2D9-B94475F4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CDE-B3ED-4B3D-8C6A-CB6DD20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251-266E-4F74-A1BB-74FEEDE5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106-3DCA-49F1-B50E-B6FE3C34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ED3-B0D2-41DA-A05B-F87F826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0B9-EC14-4B4E-BEFC-7E8F22A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4D2-B127-4962-8CA9-4FBB9395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5316-1062-4CE6-8308-B2F8053FD17E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Funcionales: Casos de Uso</a:t>
            </a:r>
            <a:br>
              <a:rPr sz="4400"/>
            </a:b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(UML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ptiembre 200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182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3200" y="2133720"/>
            <a:ext cx="6019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, 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cobra el importe. Al terminar la operación, el Cliente se marcha con los productos, una boleta que detalla su comp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2D6-B33D-45A8-9346-A76E018238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 de Uso Expandi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 en efec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un pago en efectivo. Al terminar la operación, el Cliente se marcha con los productos, y la boleta que detalla su compr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8E6-7580-40CE-AB16-0C7AF7E70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aso de uso comienza cuando un Cliente llega a la caja con productos que desea comprar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El cajero registra el identificador de cada producto. Si hay varios de cada producto, el Cajero introduce la cantidad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Al terminar de introducir el producto, el Cajero indica al sistema que concluyó la captu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El Cajero indica el total a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48360" y="1828800"/>
            <a:ext cx="374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Determina el precio del producto e incorpora la información a la transacción actu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Calcula y presenta el total de l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44360" y="137016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8040" y="137016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9F1-3A15-40BE-B8CB-3940AA3B7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7. El Cliente paga en efectivo un monto mayor o igual al total de la vent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8. El Cajero registra la cantidad en efectivo recib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0. El Cajero deposita el efectivo recibido y extrae el cambio. El Cajero da al Cliente el cambio y el recibo impres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2. El Cliente se marcha con los artículos comprad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8360" y="2122560"/>
            <a:ext cx="399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9. Muestra al Cliente la diferencia. Genera un recib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1. Registra la venta concluid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17080" y="14461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6640" y="1446120"/>
            <a:ext cx="34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926-747E-40A1-B50E-0BA9AED08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urso Alterno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2: introducción de identificador invalido. Indicar erro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Operac.  7: el cliente no tenía suficiente dinero. Cancelar la trans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59F-0A6F-4EE9-A798-E13A861C3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son entidades externas que participan en el caso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imula al sistema con entradas o recibe algo de é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con el papel que desempeñ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un caso de uso hay un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 iniciador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y posiblemente otros </a:t>
            </a:r>
            <a:r>
              <a:rPr b="1" lang="es-CL" sz="2400" spc="-1" strike="noStrike">
                <a:solidFill>
                  <a:srgbClr val="000066"/>
                </a:solidFill>
                <a:latin typeface="Tahoma"/>
              </a:rPr>
              <a:t>actores participantes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actores pueden ser de vari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personas desempeñando distintos pape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sistemas de cómpu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66"/>
                </a:solidFill>
                <a:latin typeface="Tahoma"/>
              </a:rPr>
              <a:t>aparatos eléctricos o mecánic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91160" y="3809880"/>
            <a:ext cx="914040" cy="1447560"/>
            <a:chOff x="7391160" y="3809880"/>
            <a:chExt cx="914040" cy="1447560"/>
          </a:xfrm>
        </p:grpSpPr>
        <p:sp>
          <p:nvSpPr>
            <p:cNvPr id="90" name=""/>
            <p:cNvSpPr/>
            <p:nvPr/>
          </p:nvSpPr>
          <p:spPr>
            <a:xfrm>
              <a:off x="7492680" y="3809880"/>
              <a:ext cx="609480" cy="5788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7240" y="4388760"/>
              <a:ext cx="0" cy="482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391160" y="4871880"/>
              <a:ext cx="405720" cy="385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97240" y="4871880"/>
              <a:ext cx="507960" cy="289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485600"/>
              <a:ext cx="81252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391160" y="5334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368-1D55-494D-9B0A-C920F18F55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Identificación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1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actores relacionados con un sistema o empre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ara cada actor, se identifican los procesos que él inicia o en los que particip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Método 2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identifican los eventos externos a los que un sistema ha de responde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relacionan los eventos con los actores y con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910-961F-4482-95E0-538E0538DC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xplican gráficamente un conjunto de casos de uso de un sistema, los actores y la relación entre ésto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casos de uso se muestran como óvalos, los actores como figuras estilizadas, y los flujos de información o estímulos como líne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Identifican los agentes externos de un sistema y la forma en que lo utiliz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0DF-F044-4C49-AB5F-B6CA6BD438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238880" y="3200400"/>
            <a:ext cx="685800" cy="1143000"/>
            <a:chOff x="7238880" y="3200400"/>
            <a:chExt cx="685800" cy="1143000"/>
          </a:xfrm>
        </p:grpSpPr>
        <p:sp>
          <p:nvSpPr>
            <p:cNvPr id="103" name=""/>
            <p:cNvSpPr/>
            <p:nvPr/>
          </p:nvSpPr>
          <p:spPr>
            <a:xfrm>
              <a:off x="7314840" y="3200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43440" y="365760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238880" y="403884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3440" y="403884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38880" y="373392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23880" y="3124080"/>
            <a:ext cx="685800" cy="1143000"/>
            <a:chOff x="1523880" y="3124080"/>
            <a:chExt cx="685800" cy="1143000"/>
          </a:xfrm>
        </p:grpSpPr>
        <p:sp>
          <p:nvSpPr>
            <p:cNvPr id="109" name=""/>
            <p:cNvSpPr/>
            <p:nvPr/>
          </p:nvSpPr>
          <p:spPr>
            <a:xfrm>
              <a:off x="1599840" y="312408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440" y="358128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3880" y="396252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440" y="396252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365760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57600" y="1752480"/>
            <a:ext cx="243828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51460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213372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495680"/>
            <a:ext cx="213372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94400" y="171756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6120" y="43848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240" y="44956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3" idx="0"/>
            <a:endCxn id="115" idx="2"/>
          </p:cNvCxnSpPr>
          <p:nvPr/>
        </p:nvCxnSpPr>
        <p:spPr>
          <a:xfrm flipV="1">
            <a:off x="2133720" y="2894760"/>
            <a:ext cx="1676880" cy="778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2" name=""/>
          <p:cNvCxnSpPr>
            <a:stCxn id="113" idx="1"/>
            <a:endCxn id="116" idx="2"/>
          </p:cNvCxnSpPr>
          <p:nvPr/>
        </p:nvCxnSpPr>
        <p:spPr>
          <a:xfrm>
            <a:off x="2133720" y="3673080"/>
            <a:ext cx="1676880" cy="213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3" name=""/>
          <p:cNvCxnSpPr>
            <a:stCxn id="113" idx="1"/>
            <a:endCxn id="117" idx="2"/>
          </p:cNvCxnSpPr>
          <p:nvPr/>
        </p:nvCxnSpPr>
        <p:spPr>
          <a:xfrm>
            <a:off x="2133720" y="3673080"/>
            <a:ext cx="1676880" cy="1204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4" name=""/>
          <p:cNvCxnSpPr>
            <a:stCxn id="107" idx="0"/>
            <a:endCxn id="115" idx="6"/>
          </p:cNvCxnSpPr>
          <p:nvPr/>
        </p:nvCxnSpPr>
        <p:spPr>
          <a:xfrm flipH="1" flipV="1">
            <a:off x="5943240" y="2894760"/>
            <a:ext cx="1296000" cy="824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25" name=""/>
          <p:cNvCxnSpPr>
            <a:stCxn id="107" idx="0"/>
            <a:endCxn id="117" idx="6"/>
          </p:cNvCxnSpPr>
          <p:nvPr/>
        </p:nvCxnSpPr>
        <p:spPr>
          <a:xfrm flipH="1">
            <a:off x="5943240" y="3719160"/>
            <a:ext cx="1296000" cy="1157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876-336C-4232-8484-4BE8B55DB6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ormatos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de Alto Ni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un proceso muy brevemente. Es conveniente durante el estado inicial de los requerimientos para establecer la complejidad y funcionalidad del sistema. Son sucintos y vag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to Expandi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más detallado que el formato de alto nivel. Tiene una sección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urso normal de evento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Este formato se usa durante la especificación de requerimientos para los requerimientos más importantes o de mayor influ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E6C-5859-4619-8890-0957B54D7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 de Estudio: Punto de Ven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unto de venta es el terminal de un sistema computarizado donde se registran ventas y se realizan pag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hardware lo componen un computador y una lectora de código de bar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pide desarrollar el software para el punto de ve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5880" y="1676520"/>
            <a:ext cx="2614680" cy="18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A7A-D049-42F3-9304-A7564C7AB9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ronteras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aso de uso describe la interacción con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fronteras del sistem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frontera hardware/soft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departamento de una organizac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organización enter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rontera determina qué es interno y externo al sistema, así como las responsabilidade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mbiente externo está representado solamente por los a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53280" y="3505320"/>
            <a:ext cx="533160" cy="761400"/>
            <a:chOff x="8153280" y="3505320"/>
            <a:chExt cx="533160" cy="761400"/>
          </a:xfrm>
        </p:grpSpPr>
        <p:sp>
          <p:nvSpPr>
            <p:cNvPr id="132" name=""/>
            <p:cNvSpPr/>
            <p:nvPr/>
          </p:nvSpPr>
          <p:spPr>
            <a:xfrm>
              <a:off x="8212320" y="3505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90160" y="3809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153280" y="4064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90160" y="4064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3860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781680" y="2133720"/>
            <a:ext cx="198144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467080"/>
            <a:ext cx="1733400" cy="581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so de U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0"/>
            <a:endCxn id="138" idx="4"/>
          </p:cNvCxnSpPr>
          <p:nvPr/>
        </p:nvCxnSpPr>
        <p:spPr>
          <a:xfrm flipH="1" flipV="1">
            <a:off x="7743240" y="3047760"/>
            <a:ext cx="410040" cy="79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8097840" y="42958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560" y="12193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ronte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37" idx="0"/>
          </p:cNvCxnSpPr>
          <p:nvPr/>
        </p:nvCxnSpPr>
        <p:spPr>
          <a:xfrm>
            <a:off x="7737120" y="1676520"/>
            <a:ext cx="35640" cy="45792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724-052A-43DC-A80A-E83E74A73F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pciones de Fronter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legimos la tienda entera como la frontera del sistema, el Cajero es un recurso más, y el único actor es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20120" y="4191120"/>
            <a:ext cx="685800" cy="1143000"/>
            <a:chOff x="7620120" y="4191120"/>
            <a:chExt cx="685800" cy="1143000"/>
          </a:xfrm>
        </p:grpSpPr>
        <p:sp>
          <p:nvSpPr>
            <p:cNvPr id="146" name=""/>
            <p:cNvSpPr/>
            <p:nvPr/>
          </p:nvSpPr>
          <p:spPr>
            <a:xfrm>
              <a:off x="7696080" y="419112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24680" y="4648320"/>
              <a:ext cx="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620120" y="5029560"/>
              <a:ext cx="304560" cy="304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4680" y="5029560"/>
              <a:ext cx="381240" cy="228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0120" y="4724640"/>
              <a:ext cx="60948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038480" y="2971800"/>
            <a:ext cx="2438640" cy="3048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7339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1120" y="5105520"/>
            <a:ext cx="2133360" cy="761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480" y="30481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0" idx="0"/>
            <a:endCxn id="152" idx="6"/>
          </p:cNvCxnSpPr>
          <p:nvPr/>
        </p:nvCxnSpPr>
        <p:spPr>
          <a:xfrm flipH="1" flipV="1">
            <a:off x="6323760" y="4114440"/>
            <a:ext cx="1296360" cy="5961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6" name=""/>
          <p:cNvCxnSpPr>
            <a:stCxn id="150" idx="0"/>
            <a:endCxn id="153" idx="6"/>
          </p:cNvCxnSpPr>
          <p:nvPr/>
        </p:nvCxnSpPr>
        <p:spPr>
          <a:xfrm flipH="1">
            <a:off x="6323760" y="4710240"/>
            <a:ext cx="1296360" cy="7768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7468200" y="541008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ent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B72-BF95-49C6-B0D1-BA5B7DD657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Esenciales y Casos Re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senci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expandidos que se expresan en forma teórica y con pocos detalles de implement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el proceso a partir de sus actividades y motivos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nviene usarlos al comenzar a investigar los requerimi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nen más vida út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2880" y="2590560"/>
            <a:ext cx="3810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sos Reales de Us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e concretamente el proceso a partir de su diseño concreto actual, con sus tecnologí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usan principalmente durante el dise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1600200"/>
            <a:ext cx="6096240" cy="609480"/>
          </a:xfrm>
          <a:prstGeom prst="leftRightArrow">
            <a:avLst>
              <a:gd name="adj1" fmla="val 50519"/>
              <a:gd name="adj2" fmla="val 166706"/>
            </a:avLst>
          </a:prstGeom>
          <a:gradFill rotWithShape="0">
            <a:gsLst>
              <a:gs pos="0">
                <a:srgbClr val="a50021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8360" y="1641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bstrac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76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oncre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46C-385E-4711-8F44-F9D01AD20B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ra de Produ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l Cajero registra el identificador y el número de cada producto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67080" y="2057040"/>
            <a:ext cx="3810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Determina el precio del producto y agrega su información a la transacción actual. Aparece el precio y la descripción del producto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Y así sucesivamente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962520"/>
            <a:ext cx="3809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1. En cada producto, el Cajero teclea el código universal del producto (CUP) y el número de cada producto en los campos correspondientes en la ventana 1. Oprime el botón “Introducir Producto” con el ratón o la tecla &lt;Enter&gt;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3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3962520"/>
            <a:ext cx="3810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2. Muestra el precio del producto y agrega la información sobre él a la transacción de venta. El precio y la descripción del producto actual se muestran en el cuadro de texto 2 de la ventana 1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4. etcéter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39400" y="137160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cción de los Ac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7040" y="137160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981080"/>
            <a:ext cx="7924680" cy="16765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3886200"/>
            <a:ext cx="7924680" cy="22096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7582680" y="254916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Esenc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820280" y="467460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aso Re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568-0AE4-4681-9088-F54AC991EF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oceso de Desarroll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istar las funciones del sistema. Identificar la frontera, los actores y los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los casos de uso en format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bujar el diagrama de casos d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ribir en formato esencial expandido los casos de uso más importantes, influyentes y riesgosos, para comprender y estimar mejor la naturaleza y las dimensiones del probl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 veces es necesario incluir casos re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A40-75D3-4FAC-8E6B-BCA9F4E870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finición de Acto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jer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li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dministrad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62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trega el cambi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mpra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ga los produ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i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ierr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corpora nuevos usu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8F9-8374-4971-B55F-9065352AE3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sos de Uso de Alto Nive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Descripció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Inicio de Opera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Ger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 en efectiv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gerente activa el punto de venta a fin de prepararla para que la usen los Cajeros. El Gerente comprueba que la fecha y hora sean correctos; hecho esto, el sistema está listo para que lo utilice el Cajer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39B-7781-4A64-9D61-18E1B5082E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 de 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38880" y="2362320"/>
            <a:ext cx="533160" cy="761400"/>
            <a:chOff x="7238880" y="2362320"/>
            <a:chExt cx="533160" cy="761400"/>
          </a:xfrm>
        </p:grpSpPr>
        <p:sp>
          <p:nvSpPr>
            <p:cNvPr id="185" name=""/>
            <p:cNvSpPr/>
            <p:nvPr/>
          </p:nvSpPr>
          <p:spPr>
            <a:xfrm>
              <a:off x="729792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7576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23888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7576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828800" y="2362320"/>
            <a:ext cx="533160" cy="761400"/>
            <a:chOff x="1828800" y="2362320"/>
            <a:chExt cx="533160" cy="761400"/>
          </a:xfrm>
        </p:grpSpPr>
        <p:sp>
          <p:nvSpPr>
            <p:cNvPr id="191" name=""/>
            <p:cNvSpPr/>
            <p:nvPr/>
          </p:nvSpPr>
          <p:spPr>
            <a:xfrm>
              <a:off x="1887840" y="23623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5680" y="26668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828800" y="29210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5680" y="29210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27176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657600" y="1447920"/>
            <a:ext cx="2438280" cy="4800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5909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Registra Da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3276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ntrega cambi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 los produ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omprad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0240" y="14479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240" y="3147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aj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640" y="314784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5" idx="0"/>
            <a:endCxn id="197" idx="2"/>
          </p:cNvCxnSpPr>
          <p:nvPr/>
        </p:nvCxnSpPr>
        <p:spPr>
          <a:xfrm flipV="1">
            <a:off x="2303640" y="2158200"/>
            <a:ext cx="1659600" cy="57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5" idx="1"/>
            <a:endCxn id="198" idx="2"/>
          </p:cNvCxnSpPr>
          <p:nvPr/>
        </p:nvCxnSpPr>
        <p:spPr>
          <a:xfrm>
            <a:off x="2303640" y="2733840"/>
            <a:ext cx="1659600" cy="111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stCxn id="195" idx="1"/>
            <a:endCxn id="199" idx="2"/>
          </p:cNvCxnSpPr>
          <p:nvPr/>
        </p:nvCxnSpPr>
        <p:spPr>
          <a:xfrm>
            <a:off x="2303640" y="2733480"/>
            <a:ext cx="1659600" cy="797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89" idx="0"/>
            <a:endCxn id="197" idx="6"/>
          </p:cNvCxnSpPr>
          <p:nvPr/>
        </p:nvCxnSpPr>
        <p:spPr>
          <a:xfrm flipH="1" flipV="1">
            <a:off x="5622120" y="2158200"/>
            <a:ext cx="1616760" cy="5454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89" idx="0"/>
            <a:endCxn id="199" idx="6"/>
          </p:cNvCxnSpPr>
          <p:nvPr/>
        </p:nvCxnSpPr>
        <p:spPr>
          <a:xfrm flipH="1">
            <a:off x="5622120" y="2703240"/>
            <a:ext cx="161676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962520" y="403848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Inici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80060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los usuari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562720"/>
            <a:ext cx="166032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etcéte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57400" y="4751280"/>
            <a:ext cx="533160" cy="762120"/>
            <a:chOff x="2057400" y="4751280"/>
            <a:chExt cx="533160" cy="762120"/>
          </a:xfrm>
        </p:grpSpPr>
        <p:sp>
          <p:nvSpPr>
            <p:cNvPr id="212" name=""/>
            <p:cNvSpPr/>
            <p:nvPr/>
          </p:nvSpPr>
          <p:spPr>
            <a:xfrm>
              <a:off x="2116440" y="475128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94280" y="5055840"/>
              <a:ext cx="0" cy="254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2057400" y="5310360"/>
              <a:ext cx="236880" cy="203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94280" y="531036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510696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601280" y="5486400"/>
            <a:ext cx="1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Administrad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315200" y="4218120"/>
            <a:ext cx="533160" cy="761400"/>
            <a:chOff x="7315200" y="4218120"/>
            <a:chExt cx="533160" cy="761400"/>
          </a:xfrm>
        </p:grpSpPr>
        <p:sp>
          <p:nvSpPr>
            <p:cNvPr id="219" name=""/>
            <p:cNvSpPr/>
            <p:nvPr/>
          </p:nvSpPr>
          <p:spPr>
            <a:xfrm>
              <a:off x="7374240" y="4218120"/>
              <a:ext cx="355680" cy="30456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2080" y="4522680"/>
              <a:ext cx="0" cy="253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315200" y="4776840"/>
              <a:ext cx="236880" cy="202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52080" y="4776840"/>
              <a:ext cx="29628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573440"/>
              <a:ext cx="474120" cy="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087320" y="49766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imes New Roman"/>
              </a:rPr>
              <a:t>Ger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6" idx="0"/>
            <a:endCxn id="209" idx="2"/>
          </p:cNvCxnSpPr>
          <p:nvPr/>
        </p:nvCxnSpPr>
        <p:spPr>
          <a:xfrm flipV="1">
            <a:off x="2531880" y="5054040"/>
            <a:ext cx="1430640" cy="687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3" idx="0"/>
            <a:endCxn id="208" idx="6"/>
          </p:cNvCxnSpPr>
          <p:nvPr/>
        </p:nvCxnSpPr>
        <p:spPr>
          <a:xfrm flipH="1" flipV="1">
            <a:off x="5622120" y="4292280"/>
            <a:ext cx="1693080" cy="26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31D-7E87-4F93-BFF8-D6FEBB695C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gunos Casos Esenciales Expandid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981080"/>
            <a:ext cx="182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aso de us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Actore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sume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Tipo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Referenci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198108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Tahoma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liente (iniciador), Caje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ptura una venta y su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 Cliente llega a la caja registradora con los artículos que comprará. El Cajero registra los artículos y recibe el pago. Al terminar la operación, el Cliente se marcha con los producto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imario y esenci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es: R1.1, R1.2, R1.3, R1.7, R1.9, R2.1, R2.2, R2.3, R2.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787-6F7E-4E35-B17A-3B8936DB86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urso Normal de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82880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1. El Cliente colunica su información de crédito para pagar con tarjeta.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3. El Servicio de autorización de crédito autoriza el pag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828800"/>
            <a:ext cx="5105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2. Genera una solicitud de pago con tarjeta de crédito y la envía a un servicio externo de autorización de crédi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4. Recibe una respuesta aprobatoria de crédito del Servic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5. El sistema de cuentas por cobrar registra la información del pago y la aprob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6. Muestra el mensaje aprobatorio de autoriz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9840" y="137160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Acción del Act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3000" y="13716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</a:rPr>
              <a:t>Respuesta del Sist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5181480"/>
            <a:ext cx="801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rso alternativo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ínea 4: solicitud negada por el Servicio de autorización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poner otra forma de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2CA-3495-425C-8391-518CBE7B2F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mentos de la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esentación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sistema de terminal para el punto de ven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l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bjectStore, Inc., detallista multinacional de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eta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ago rápido de los cli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nálisis rápido y exacto de las ven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trol automático de inventari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unciones del siste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C84-08C4-4B9A-86C3-831470551C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tegorías de Fun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Categoría de la 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uperflu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11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Significa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 y el usuario debería saber que se ha realiz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alizarse, aunque no es visible para los usuar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pcionales; su inclusión no repercute significativamente en el costo ni en otras fu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084-6B3F-46C1-8867-9A67D98F22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182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1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2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4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5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05120" y="15238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a venta en curso: los productos compra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lcula el total de la venta actual; se incluye el impues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ptura la información sobre el objeto por su código de barras o manual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duce las cantidades del inventario cuando se realiza una ven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registran las ventas efectu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cajero debe introducir identificación y contraseña para us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5238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FB9-8AF0-4EDD-91B3-EDA758A49E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Funciones Básic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1.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4382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un mecanismo de almacenamiento persistent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frece mecanismos de comunicación entre los procesos y entre los sistema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estra la descripción y el precio del producto registrad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43800" y="243828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E1B-A348-440F-B3DC-E745519AE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unciones de Pag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447920"/>
            <a:ext cx="182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ferenci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2.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371600"/>
            <a:ext cx="5791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un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en efectivo, capturando la cantidad ofrecida y calculando el vuel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a crédito, capturando la información de tarjetas de crédito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neja los pagos con cheque, capturando el RUN manualmente y solicitando autorización externa a través de una conexión por mod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gistra los pagos en el sistema de cuentas por cobrar, pues el servicio de autorización de crédito debe a la tienda el monto del pag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1371600"/>
            <a:ext cx="1600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tegorí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vide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cul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467-08F5-4642-B8B9-A2D1C8603A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Requerimientos No Fun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523880"/>
            <a:ext cx="5791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se registre un producto vendido, la descrip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y el precio aparecerán en 2 segundos de tiempo máxim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ventanas y cuadros de diálogo; maximizan la navegaci</a:t>
            </a: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 fácil a través del teclado y no con apuntador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registrar los pagos a crédito autorizados a las cuentas por cobrar en un plazo de 24 horas, aún cuando se produzcan fallas de energía o de equip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icrosoft Windows 98, NT y Linux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2976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quer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iempo de respues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etáfora de 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olerancia a fall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lataforma del sistema opera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548-2229-4A84-BEC8-7DE315495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asos de Us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l caso de uso es un documento narrativo que describe la secuencia de eventos de un actor (agente externo) que utiliza un sistema para realizar un proce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Historias o casos de utilizac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No son los requisitos funcionales, sino que ejemplifican e incluyen tácitamente los requisitos en las historias que narr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5029200"/>
            <a:ext cx="2971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prar Produc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102-8289-4F50-B3C1-54F184EAE9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8-20T21:23:42Z</cp:lastPrinted>
  <dcterms:modified xsi:type="dcterms:W3CDTF">2004-09-03T16:43:20Z</dcterms:modified>
  <cp:revision>61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