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A08D-BCA0-4A57-B810-D7E4C7ADB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4E45-EEB8-4AA8-A9E5-800FD341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F2D5-B8D7-48F4-BA93-E749EE32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F75C-B4E2-4213-AC24-92ADEE57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145F-6E2D-404F-BDE7-8F87F60CC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F04F-669D-41E1-982B-237E323A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4774-7153-4D5F-9520-15B47850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2E50-6573-4C0F-B179-6CA3B83B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BAAC-4876-4FCA-8A16-5A625547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CD61-1A10-4B1E-BE2D-5226B780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E82B-98F8-41DA-A9EE-2475A65F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2231-A1DA-4312-86F0-75EF99F1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D25B-8F18-4950-A2CE-CBA39D7E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9F81-47A3-494B-A70F-8E47E10E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D425-C990-4EF9-9198-4C7A7302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9DD2-23C4-4144-8F46-40E6975A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03D3-422A-474D-98D9-1B10B9EA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5E3C-5B10-4E18-80FD-56F4AD5A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317A-752F-492B-BD49-C4EA0A5A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41A5-9B9F-41E5-83BB-9BB1AAB3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03E7-9B9D-4656-8711-B241C5D6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3632-AF3E-41EC-9BEC-8ED04A7B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5F47-BC17-4DCE-8583-B7556FF1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491B-19AA-4F4F-9537-39B78F5E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AB09-0D00-4BEB-ACA8-A8399C243FD6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3237-97B6-4068-9F8F-7145E024AB6C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31B – Desarrollo de software de Apl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Estimación de Costos y Tiemp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Parte de este material ha sido cedido por el Prof. Jaime Navón (www.ing.puc.cl/~jnavón)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10 - Versión 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3C8C-E0D0-4C36-B3D4-62D6668A0C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Dominio de Medicion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11000" y="1592280"/>
            <a:ext cx="8011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¿Medir para Mejorar o para Estimar Mejo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1792440" y="2112840"/>
            <a:ext cx="455400" cy="4559400"/>
          </a:xfrm>
          <a:prstGeom prst="rect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81400" y="2160720"/>
            <a:ext cx="57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dir cada fase (Análisis, Diseño, ….) =&gt; Medir para mejor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81400" y="5894280"/>
            <a:ext cx="676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dir a paquete completo (el proyecto como un todo) =&gt; Medir para Estimar mej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72D2-2747-41CE-913D-5DC52662E7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Sistemas de 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30360" y="1620360"/>
            <a:ext cx="8254800" cy="50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Sistemas de Predicción -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jemplo 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Albrecht desarrolló la idea de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Puntos de Función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(FPs) para medir el atributo de funcionalidad percibida por el usuario en los documentos de especific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Validación =&gt; demostrar que S1 &gt; S2 =&gt; FP(S1) &gt; FP(S2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n la práctica nadie ha validado esta medida en esta forma, y los FPs se usan no como medidas sino como parte de un sistema de predicción de costos (alternativo a COCOMO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4F7C-0485-4578-8194-AFEFF69847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Sistemas de 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60240" y="1620720"/>
            <a:ext cx="81122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Validación de un Sistema de Predi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debe establecer empíricamente la precisión de la predicción (comparando el modelo con puntos conocid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nvolucra experimentación y testeo de hipótes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Validación de una Medi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debe asegurar que la medida es una caracterización numérica adecuada del atributo en cuest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No es necesario que sirva para predecir algo o que tenga o no uti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03B2-8B3E-4A70-BF64-97DB6798E5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</a:t>
            </a:r>
            <a:r>
              <a:rPr b="1" lang="es-ES" sz="4400" spc="-1" strike="noStrike">
                <a:solidFill>
                  <a:srgbClr val="660066"/>
                </a:solidFill>
                <a:latin typeface="BodoniMT-UltraBold"/>
              </a:rPr>
              <a:t>Wideband-Delph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3760" y="1560600"/>
            <a:ext cx="81882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Método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Wideband-Delphi: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Originado en Rand Corporation, perfeccionado por B.Boeh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idea fundamental es usar varios expertos que hacen estimaciones independientes y luego hacerlos converger hacia una estimación ún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ada experto recibe las especificaciones del programa y un formulario de estim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reúnen a conversar sobre suposiciones, duda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ada uno lista las tareas y produce una estim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s estimaciones son recogidas por un moderador quien tabula los resultados y los devuelve a los expertos (estimaciones, promedio, mediana, etc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174D-38DB-47F5-80D1-2655C5CF63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</a:t>
            </a:r>
            <a:r>
              <a:rPr b="1" lang="es-ES" sz="4400" spc="-1" strike="noStrike">
                <a:solidFill>
                  <a:srgbClr val="660066"/>
                </a:solidFill>
                <a:latin typeface="BodoniMT-UltraBold"/>
              </a:rPr>
              <a:t>Wideband-Delph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11360" y="1612800"/>
            <a:ext cx="8100720" cy="47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5º. Se reúnen nuevamente y discuten las tarea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80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6º. Se vuelve a la tercera etapa (nueva estimación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La discusión entre los expertos a menudo clarifican aspectos y producen cambios en las estimaciones para la etapa siguien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método produce estimaciones bastante precisa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21D4-91A1-435D-A975-B56752DA1B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con Lógica Difu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544400"/>
            <a:ext cx="80424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Método de Lógica Difusa (Fuzzy-Logic):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sarrollado por Putman, se basa en comparar (en líneas gruesas) con información histórica de productos anterior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nstruye una tabla (escala de tipo logarítmica) con rangos y subrangos de tamaño de proyectos previos. Por ejemplo si el programa más pequeño es de 104 LOC y el más grande de 17.243 LOC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baj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interm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al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uy pequeñ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04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73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88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pequeñ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88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481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80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edian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802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338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23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grande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230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3719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620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uy grande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6202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0341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7243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677D-6FA8-4F3C-BA6C-0DA7D8B9EB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con Lógica Difu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544400"/>
            <a:ext cx="804240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Las filas indican el tamaños (en LOC), y las columnas la complejidad de los programas (o sistemas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estimador selecciona una de las categorías y subcategorías, comparando el nuevo proyecto con los proyectos anteriores dentro del rango considerado</a:t>
            </a:r>
            <a:r>
              <a:rPr b="0" i="1" lang="es-ES" sz="32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Luego toma como referencia (principalmente) aquellos proyectos previos que están en esa categorí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03D8-48A1-424F-9DB4-829C1E2E41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Componentes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590480"/>
            <a:ext cx="80424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l método de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Componentes Estándares: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basa en mantener una base de datos histórica con información de componentes usados en proyectos previos, en varios niveles de abstracción: subsistemas completos, módulos, interfaces de usuario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estima cuántas de cada una de ellas habrá en el nuevo proyecto (estimado, máximo y mínim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mbina esto, ponderando 4 veces el más probable y una vez los máximos y mínimos (4*est + máx + min)/6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C074-B8E7-4A0C-AB29-F77836EB70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Componentes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7720" y="1590480"/>
            <a:ext cx="8153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jemplo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Componente    LOC  min  est  max  prob   LO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ódulo A      932   11   18    22   17.5   1631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ódulo B      543   35   40    44   39.8   2161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...      ...    ...    ...     ...        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...      ...    ...    ...     ...        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                            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Total: 546359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A107-2342-44F2-BF0C-3A7A22EBC1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Puntos de Fun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665360"/>
            <a:ext cx="798696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Puntos de Función: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robablemente el más popular, inventado por Albrecht en IBM en 1979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Se identifican 5 funciones básica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Input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pantallas o formularios usados para captur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Output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pantallas o reportes que la aplicación produ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Consulta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usuario interroga o pide informació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Archiv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Interfaz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archivos compartidos de entrada o salida, parámetros, etc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E813-8AB9-4C7D-8047-595AC34A77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edidas del Softwar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redicc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étodos de Estim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D3B2-5857-47BD-A045-B2A5DA906ED9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Puntos de Fun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560240"/>
            <a:ext cx="77724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Númer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Tip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Pes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Tot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8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Input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2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Output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5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Consulta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2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Archivo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10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Interfaz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7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7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Total Sin Ajustar: 13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Factor de Complejidad: 1.0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Puntos de Función: 143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2AA7-6400-401D-B4F1-F5AE9105A5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l Factor de Complej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98400" y="1574280"/>
            <a:ext cx="830592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Para calcular el factor de complejidad se consideran 14 aspectos, otorgándosele a cada uno, una influencia de 0 a 5, generándose así un 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puntaje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 que va de 0 a 70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factor de complejidad estará dado por</a:t>
            </a:r>
            <a:r>
              <a:rPr b="0" i="1" lang="es-ES" sz="3200" spc="-1" strike="noStrike">
                <a:solidFill>
                  <a:srgbClr val="40458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FC = 0.65 + 0.01 * Puntaj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FC se mueve en el rango de 0.65 hasta 1.35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F24B-F26F-4915-863E-D070D51612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l Factor de Complej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574640"/>
            <a:ext cx="7923240" cy="44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Los factores so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comunicacione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unciones distribuid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objetivos de desempeñ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configuración sobrecarg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tasa de transaccione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entrada de datos on-li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eficiencia para usuario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actualización en líne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proceso complej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reu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instalación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oper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varios sitio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manten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9121-5885-4069-B9EA-B8BA723847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PROB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689120"/>
            <a:ext cx="80568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Método es aplicable en ambientes de OOP (por lo menos el diseño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iseño conceptu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dentificación de principales objetos (tipo, tamaño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lcular proyección de LO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stimar tamañ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lcular intervalo de predi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781520" y="314784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84760" y="412416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84760" y="496404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84760" y="584820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CF2A-425B-434C-B958-FA5841B69C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PROB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69960" y="1574280"/>
            <a:ext cx="8159760" cy="50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Diseño Conceptu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-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Objetos y funcionalidad. No necesariamente diseño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finitivo, sólo para estimación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- Se clasifican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objetos (tipo y tamaño)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.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busca en base de datos histórica información sobre lo más parecido que hemos desarroll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Objeto: Matri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ipo: Data                                    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8.84 LOC/Metho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étodos: 13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114.9 LOC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amaño: media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459240" y="4716360"/>
            <a:ext cx="1440" cy="164808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62480" y="5568840"/>
            <a:ext cx="1481040" cy="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82D2-ABF3-438A-81DE-F68F215787C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77800" y="1523880"/>
            <a:ext cx="837720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Los modelos teóricos sirven, pero tienen muchas limitacion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 pesar que las técnicas de medición, estimación y predicción se conocen desde hace mucho tiempo, es muy común que se acepten deadlines imposibles para el proyecto, desde el principi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Muchas veces el plazo de desarrollo es fijado por gente del área comercial o por ejecutivos sin efectuar ningún tipo de cálculo seri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unque muchas veces es difícil, el Ingeniero Jefe del Proyecto debe ser muy claro desde un principio y defender enérgicamente los tiempos reales obtenidos científicamente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ED7B-234D-4D59-A8CB-79B02DE665B9}" type="slidenum">
              <a:t>25</a:t>
            </a:fld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77800" y="1523520"/>
            <a:ext cx="83772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n muchas ocasiones el encargado del proyecto se pone la soga al cuello sólo sin que nadie realmente lo esté forzando a un schedule tan ajustad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Cualquier comandante que acepta llevar a cabo un plan que el considera defectuoso es culpable; el debe exponer sus razones, insistir en los cambios necesarios y finalmente ofrecer su dimisión antes de ser el instrumento de la derrota de su ejército”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Napoleón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s mejor desarrollar un modelo propio, que use la información histórica de la empres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5F8F-7F31-4D4E-8B9E-F1E33C998709}" type="slidenum">
              <a:t>26</a:t>
            </a:fld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das del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30000" y="1545840"/>
            <a:ext cx="83502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Medidas del Software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Planeación =&gt; estimar tiempos y recursos =&gt; estimar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tamaño del software =&gt; medida del software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40458c"/>
                </a:solidFill>
                <a:latin typeface="Arial"/>
              </a:rPr>
              <a:t>Medida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Proceso por el cual se asignan números o símbolos a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entidades de un set determinado, para describir algún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atributo de ellas. Por ej.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Altura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(Juan, 180) (Julia, 165) (Michael 205)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Peso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[Juan, 75] [Julia, 60) [Michael 95]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Lo importante es que si Michael es más alto que Juan, la medida de la altura debe ser también mayor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D7FA-7977-44CE-AE6C-002F8CEB59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das del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36560" y="1546200"/>
            <a:ext cx="8012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Medida directa, indirecta o predi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edida directa: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se observa la entidad y se aplica el instrumento de medida directamente (peso, estatur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edida indirecta: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mide en forma directa otra entidad (o más de una) y luego se usan relaciones conocidas entre ellas (velocidad= distancia/tiempo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Predicción: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queremos una estimación de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 tamaño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de una entidad que puede no existir en ese mom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014A-765E-4DC8-BC14-39AD9BB549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545840"/>
            <a:ext cx="801216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Similar a medición indirecta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tablecer una conexión entre las entidades medidas directamente y las entidades cuya medida será predich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Refinar la conexión hasta llegar a una o más fórmulas que permitan traducir las medidas directas en medidas aproxim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17928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diferencia clave está en que en la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predicción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no es posible establecer una conexión completa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=&gt; sólo se puede aproximar la medida correc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2D7A-B855-4456-A7EE-BB13D6F400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41520" y="1521000"/>
            <a:ext cx="8208720" cy="53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Similar a medición indirecta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ólo es posible predecir si tenemos buenas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medidas en qué basarnos!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A pesar de lo obvio de esta afirmación muchas veces los administradores muestran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gran interés en estimación, pero no en mediciones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l esfuerzo de desarrollar un software, siempre es una actividad de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PREDICCIO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Una predicción precisa requiere medición cuidadosa de atributos claves en proyectos ya complet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1A3E-F985-40A6-A617-73A41198A7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cione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8800" y="1604520"/>
            <a:ext cx="819144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Razones de baja aceptación en la industri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os administradores no saben qu</a:t>
            </a:r>
            <a:r>
              <a:rPr b="0" lang="es-ES_tradnl" sz="2000" spc="-1" strike="noStrike">
                <a:solidFill>
                  <a:srgbClr val="40458c"/>
                </a:solidFill>
                <a:latin typeface="Arial"/>
              </a:rPr>
              <a:t>é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 hacer con las medicion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a falta de la validación necesaria =&gt; (produce) falta de confianza en las medi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Ejemplo de Estimación: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El modelo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COCOM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 simple relaciona el esfuerzo E (meses-hombre) con el tamaño S (MLOCS) de acuerdo 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E = a*S</a:t>
            </a:r>
            <a:r>
              <a:rPr b="1" i="1" lang="es-ES" sz="2400" spc="-1" strike="noStrike" baseline="30000">
                <a:solidFill>
                  <a:srgbClr val="40458c"/>
                </a:solidFill>
                <a:latin typeface="Arial"/>
              </a:rPr>
              <a:t>b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Donde a y b son parámetros determinados por el tipo de software a ser desarroll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ara usar este modelo para predecir el esfuerzo en la etapa de captura de requ</a:t>
            </a:r>
            <a:r>
              <a:rPr b="0" i="1" lang="es-ES_tradnl" sz="2400" spc="-1" strike="noStrike">
                <a:solidFill>
                  <a:srgbClr val="40458c"/>
                </a:solidFill>
                <a:latin typeface="Arial"/>
              </a:rPr>
              <a:t>isit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s, necesitamos primero determinar (predecir) los parámetros y luego el tamaño del eventual siste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FC9F-B59C-48F2-B008-E4D9E26116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cione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604520"/>
            <a:ext cx="801216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modelo por si solo no es suficiente para efectuar una predic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Un sistema de predicción consiste en un modelo matemático, más un conjunto de procedimientos orientados a obtener variables y parámetr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strictamente, COCOMO es más que un método de estimación de costos, es un sistema de predicción de cost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DA86-7F31-459E-961D-E3368D457A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Qué medir y cómo medir? He aquí el dilema…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604520"/>
            <a:ext cx="801216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Medir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sólo aquellos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aspectos del proceso o del producto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, que son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relevante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para m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Relevantes para qué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?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 proces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s produc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s estimacion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Guardar inform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para todo esto puede ser una tarea demasiado pesada, y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podría entorpecer los desarrollo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Medir y guardar la inform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, sólo si yo soy capaz de confiar en ell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s mediciones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no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berían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entorpecer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el trabajo de la g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81AC-FECC-464E-BE17-4619B396B1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27:28Z</dcterms:created>
  <dc:creator>Sergio Ochoa</dc:creator>
  <dc:description/>
  <dc:language>en-US</dc:language>
  <cp:lastModifiedBy>Sergio F. Ochoa</cp:lastModifiedBy>
  <cp:lastPrinted>1999-09-03T16:31:05Z</cp:lastPrinted>
  <dcterms:modified xsi:type="dcterms:W3CDTF">2005-08-25T18:39:34Z</dcterms:modified>
  <cp:revision>188</cp:revision>
  <dc:subject/>
  <dc:title>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NavBtnPos">
    <vt:r8>3</vt:r8>
  </property>
  <property fmtid="{D5CDD505-2E9C-101B-9397-08002B2CF9AE}" pid="10" name="ScreenSize">
    <vt:r8>3</vt:r8>
  </property>
  <property fmtid="{D5CDD505-2E9C-101B-9397-08002B2CF9AE}" pid="11" name="ScreenUsage">
    <vt:r8>3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