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6884-7875-4137-9A45-AEFAF5141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553D-9124-4B1F-8E54-A4C515F4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DC71-2832-459D-8BBA-2D0354B13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873-FA50-4D71-9DE9-5D4EF971C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055FF-D9E9-4BB8-BF26-CFB70CB7F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878D7-C9A7-4350-8050-1D60D6056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0E1C0-9343-4FC6-B4A7-0A70D5964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FD6FE-46CE-473F-985F-2F94CD50D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62085-44E2-4B27-8583-0AAB53794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19D2-71ED-4412-BBAB-A42000CB8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E359-A001-4E28-9E5C-ED0CA782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14A-140B-4836-89E8-0AE9A37B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AF91-FA54-4E7C-B772-A6F6DAD0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4D48-98A4-4D0C-A533-7D00FC16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522F5-A5E8-4666-BE7B-96AFEB03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728D-C117-4A91-AB3A-7C356CAE3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B561-2327-44A9-AE72-B6F25724E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337E-7EED-490E-9182-3252A0A1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6BB-8669-44EF-BCB9-8D888CC27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3E5-BBA1-4C0D-82BE-A5C2A035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5DF5-64A8-48B0-A0F8-5092FFFF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E2E-6329-44E0-9B5C-A0D4835F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2F3-8C99-48C9-81D2-64E45CF9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765-1190-4B52-AE2C-33913F27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03B1-85DA-41D7-9E93-875FFBB70EA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69298-553C-4D70-AC16-75D0B9F155C5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31B – Desarrollo de software de Aplic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Estimación de Costos y Tiempo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40458c"/>
                </a:solidFill>
                <a:latin typeface="Tahoma"/>
              </a:rPr>
              <a:t>Parte de este material ha sido cedido por el Prof. Jaime Navón (www.ing.puc.cl/~jnavón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10 - Versión 4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23B4-D4AF-40A3-BD45-0B891FB9FC7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Dominio de Medicione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11000" y="1592280"/>
            <a:ext cx="80118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¿Medir para Mejorar o para Estimar Mejor?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"/>
          <p:cNvSpPr/>
          <p:nvPr/>
        </p:nvSpPr>
        <p:spPr>
          <a:xfrm>
            <a:off x="1792440" y="2112840"/>
            <a:ext cx="455400" cy="4559400"/>
          </a:xfrm>
          <a:prstGeom prst="rect">
            <a:avLst/>
          </a:prstGeom>
          <a:solidFill>
            <a:srgbClr val="ecd882"/>
          </a:solidFill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81400" y="2160720"/>
            <a:ext cx="57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cada fase (Análisis, Diseño, ….) =&gt; Medir para mejora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81400" y="5894280"/>
            <a:ext cx="676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edir a paquete completo (el proyecto como un todo) =&gt; Medir para Estimar mejo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3273-71EC-468E-9F44-2B6A056EB3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30360" y="1620360"/>
            <a:ext cx="8254800" cy="50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Sistemas de Predicción -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 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lbrecht desarrolló la idea de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Puntos de Función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(FPs) para medir el atributo de funcionalidad percibida por el usuario en los documentos de especificació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Validación =&gt; demostrar que S1 &gt; S2 =&gt; FP(S1) &gt; FP(S2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n la práctica nadie ha validado esta medida en esta forma, y los FPs se usan no como medidas sino como parte de un sistema de predicción de costos (alternativo a COCOMO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0F722-E651-44E6-9912-715A5B40AD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Sistemas de 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60240" y="1620720"/>
            <a:ext cx="8112240" cy="523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 Sistema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establecer empíricamente la precisión de la predicción (comparando el modelo con puntos conocido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Involucra experimentación y testeo de hipótesi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Validación de una Medid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debe asegurar que la medida es una caracterización numérica adecuada del atributo en cuest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No es necesario que sirva para predecir algo o que tenga o no utilid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2774-DB4E-4BAB-A673-A1C1EBCDE5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53760" y="1560600"/>
            <a:ext cx="8188200" cy="50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El Métod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Wideband-Delphi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riginado en Rand Corporation, perfeccionado por B.Boehm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 idea fundamental es usar varios expertos que hacen estimaciones independientes y luego hacerlos converger hacia una estimación únic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experto recibe las especificaciones del programa y un formulario de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reúnen a conversar sobre suposiciones, dudas, etc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Cada uno lista las tareas y produce una estim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58920" indent="-3589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6f89f7"/>
              </a:buClr>
              <a:buSzPct val="11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estimaciones son recogidas por un moderador quien tabula los resultados y los devuelve a los expertos (estimaciones, promedio, mediana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5178-C026-49FF-99A0-7F26B389DCD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</a:t>
            </a:r>
            <a:r>
              <a:rPr b="1" lang="es-ES" sz="4400" spc="-1" strike="noStrike">
                <a:solidFill>
                  <a:srgbClr val="660066"/>
                </a:solidFill>
                <a:latin typeface="BodoniMT-UltraBold"/>
              </a:rPr>
              <a:t>Wideband-Delph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1360" y="1612800"/>
            <a:ext cx="8100720" cy="47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0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5º. Se reúnen nuevamente y discuten las tare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803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6º. Se vuelve a la tercera etapa (nueva estimación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a discusión entre los expertos a menudo clarifican aspectos y producen cambios en las estimaciones para la etapa siguien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produce estimaciones bastante precisa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90AA-F2E3-454D-9820-0B886300CC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Método de Lógica Difusa (Fuzzy-Logic):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Desarrollado por Putman, se basa en comparar (en líneas gruesas) con información histórica de productos anteriore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nstruye una tabla (escala de tipo logarítmica) con rangos y subrangos de tamaño de proyectos previos. Por ejemplo si el programa más pequeño es de 104 LOC y el más grande de 17.243 LOC 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baj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interm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alt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4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3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pequeñ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88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48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ediano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8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338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2230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3719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muy grande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6202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0341 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000" spc="-1" strike="noStrike">
                <a:solidFill>
                  <a:srgbClr val="40458c"/>
                </a:solidFill>
                <a:latin typeface="Arial"/>
              </a:rPr>
              <a:t>17243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394A-E66F-4181-981A-1D9E882B6E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con Lógica Difus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544400"/>
            <a:ext cx="804240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as filas indican el tamaños (en LOC), y las columnas la complejidad de los programas (o sistemas)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estimador selecciona una de las categorías y subcategorías, comparando el nuevo proyecto con los proyectos anteriores dentro del rango considerado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1199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Luego toma como referencia (principalmente) aquellos proyectos previos que están en esa categoría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A2C-6089-412B-B189-66C599826FE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590480"/>
            <a:ext cx="8042400" cy="496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l método de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mponentes Estándares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asa en mantener una base de datos histórica con información de componentes usados en proyectos previos, en varios niveles de abstracción: subsistemas completos, módulos, interfaces de usuario, et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estima cuántas de cada una de ellas habrá en el nuevo proyecto (estimado, máximo y mín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Se combina esto, ponderando 4 veces el más probable y una vez los máximos y mínimos (4*est + máx + min)/6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3550-0E91-47A2-AFA2-6258359AFC7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Componentes Estándar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7720" y="1590480"/>
            <a:ext cx="81536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Ejemplo: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Componente    LOC  min  est  max  prob  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A      932   11   18    22   17.5   1631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ódulo B      543   35   40    44   39.8   21611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...      ...    ...    ...     ...        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                                                     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Arial"/>
              </a:rPr>
              <a:t>Total: 546359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2AA9-EC82-4095-880F-3B6026D6A8B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665360"/>
            <a:ext cx="7986960" cy="50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Puntos de Fun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robablemente el más popular, inventado por Albrecht en IBM en 1979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e identifican 5 funciones básicas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formularios usados para captur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Output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pantallas o reportes que la aplicación produ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nsulta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usuario interroga o pide información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Archivo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Interfaz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(archivos compartidos de entrada o salida, parámetros, etc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05E6-1344-410E-B210-C030D13E6B2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edidas del Softwar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Predicc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étodos de Estim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spcAft>
                <a:spcPts val="2001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5B77E-04A8-4CA7-9D49-529B661937DD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 Puntos de Fun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560240"/>
            <a:ext cx="7772400" cy="491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Númer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ip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Peso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Tot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8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2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Output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5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Consulta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4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Archivos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10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1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Interfaz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x7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 7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Total Sin Ajustar: 135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Factor de Complejidad: 1.0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untos de Función: 143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12A7-D1C0-4FC6-A4E9-5BABA22E47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98400" y="1574280"/>
            <a:ext cx="8305920" cy="512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Para calcular el factor de complejidad se consideran 14 aspectos, otorgándosele a cada uno, una influencia de 0 a 5, generándose así un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puntaje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 que va de 0 a 70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factor de complejidad estará dado por</a:t>
            </a: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= 0.65 + 0.01 * Puntaje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i="1" lang="es-ES" sz="3200" spc="-1" strike="noStrike">
                <a:solidFill>
                  <a:srgbClr val="40458c"/>
                </a:solidFill>
                <a:latin typeface="Arial"/>
              </a:rPr>
              <a:t>FC se mueve en el rango de 0.65 hasta 1.35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F82B-E24B-43C9-B0C5-1307E55AF5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a través del Factor de Complejid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7720" y="1574640"/>
            <a:ext cx="7923240" cy="444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Los factores son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munica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unciones distribuida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objetivos de desempeñ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configuración sobrecargad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tasa de transaccione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ntrada de datos on-lin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eficiencia para usuario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actualización en líne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proceso complej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reus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instalación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operació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varios sitios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- facilidad de mantenimient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CB01-D1BB-4E5D-BF7D-1BB3C4CC72A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689120"/>
            <a:ext cx="8056800" cy="52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étodo es aplicable en ambientes de OOP (por lo menos el diseño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identificación de principales objetos (tipo, tamañ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proyección de LO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estimar tamañ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calcular intervalo de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781520" y="31478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784760" y="412416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784760" y="496404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84760" y="5848200"/>
            <a:ext cx="0" cy="389160"/>
          </a:xfrm>
          <a:prstGeom prst="line">
            <a:avLst/>
          </a:prstGeom>
          <a:ln w="12600">
            <a:solidFill>
              <a:srgbClr val="40458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E5B-B43A-4077-B6C5-06CBBDA218A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Estimación PROB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69960" y="1574280"/>
            <a:ext cx="8159760" cy="504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0458c"/>
                </a:solidFill>
                <a:latin typeface="Arial"/>
              </a:rPr>
              <a:t>Diseño Conceptu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y funcionalidad. No necesariamente diseño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definitivo, sólo para estimación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- Se clasifican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objetos (tipo y tamaño)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.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busca en base de datos histórica información sobre lo más parecido que hemos desarrollad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Objeto: Matrix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ipo: Data                                    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8.84 LOC/Metho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Métodos: 13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40458c"/>
                </a:solidFill>
                <a:latin typeface="Arial"/>
              </a:rPr>
              <a:t>114.9 LOC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Tamaño: media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459240" y="4716360"/>
            <a:ext cx="1440" cy="1648080"/>
          </a:xfrm>
          <a:prstGeom prst="line">
            <a:avLst/>
          </a:prstGeom>
          <a:ln w="1260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462480" y="5568840"/>
            <a:ext cx="148104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ACAA-A38B-49ED-A7CF-C55D21CB17A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77800" y="1523880"/>
            <a:ext cx="837720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Los modelos teóricos sirven, pero tienen muchas limitacion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 pesar que las técnicas de medición, estimación y predicción se conocen desde hace mucho tiempo, es muy común que se acepten deadlines imposibles para el proyecto, desde el princip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Muchas veces el plazo de desarrollo es fijado por gente del área comercial o por ejecutivos sin efectuar ningún tipo de cálculo se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55320" indent="-355320">
              <a:lnSpc>
                <a:spcPct val="90000"/>
              </a:lnSpc>
              <a:spcBef>
                <a:spcPts val="649"/>
              </a:spcBef>
              <a:spcAft>
                <a:spcPts val="649"/>
              </a:spcAft>
              <a:buSzPct val="1131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Aunque muchas veces es difícil, el Ingeniero Jefe del Proyecto debe ser muy claro desde un principio y defender enérgicamente los tiempos reales obtenidos científicam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D933-58F3-4DC9-BEBC-547BCC367F96}" type="slidenum">
              <a:t>25</a:t>
            </a:fld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77800" y="1523520"/>
            <a:ext cx="837720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n muchas ocasiones el encargado del proyecto se pone la soga al cuello sólo sin que nadie realmente lo esté forzando a un schedule tan ajustad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Cualquier comandante que acepta llevar a cabo un plan que el considera defectuoso es culpable; el debe exponer sus razones, insistir en los cambios necesarios y finalmente ofrecer su dimisión antes de ser el instrumento de la derrota de su ejército”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Napoleón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0" algn="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649"/>
              </a:spcBef>
              <a:buSzPct val="13927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0458c"/>
                </a:solidFill>
                <a:latin typeface="Tahoma"/>
              </a:rPr>
              <a:t>Es mejor desarrollar un modelo propio, que use la información histórica de la empre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EBFD-B75F-4245-960A-5234F87EBF11}" type="slidenum">
              <a:t>26</a:t>
            </a:fld>
          </a:p>
        </p:txBody>
      </p:sp>
    </p:spTree>
  </p:cSld>
  <p:transition>
    <p:dissolv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30000" y="1545840"/>
            <a:ext cx="83502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Medidas del Software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laneación =&gt; estimar tiempos y recursos =&gt; estima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tamaño del software =&gt; medida del software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500" spc="-1" strike="noStrike">
                <a:solidFill>
                  <a:srgbClr val="40458c"/>
                </a:solidFill>
                <a:latin typeface="Arial"/>
              </a:rPr>
              <a:t>Medida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Proceso por el cual se asignan números o símbolos a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entidades de un set determinado, para describir algún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atributo de ellas. Por ej.: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Altura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(Juan, 180) (Julia, 165) (Michael 205)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 </a:t>
            </a:r>
            <a:r>
              <a:rPr b="1" lang="es-ES" sz="2500" spc="-1" strike="noStrike">
                <a:solidFill>
                  <a:srgbClr val="40458c"/>
                </a:solidFill>
                <a:latin typeface="Arial"/>
              </a:rPr>
              <a:t>Peso:</a:t>
            </a:r>
            <a:r>
              <a:rPr b="0" lang="es-ES" sz="2500" spc="-1" strike="noStrike">
                <a:solidFill>
                  <a:srgbClr val="40458c"/>
                </a:solidFill>
                <a:latin typeface="Arial"/>
              </a:rPr>
              <a:t> [Juan, 75] [Julia, 60) [Michael 95]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40458c"/>
                </a:solidFill>
                <a:latin typeface="Arial"/>
              </a:rPr>
              <a:t>Lo importante es que si Michael es más alto que Juan, la medida de la altura debe ser también mayor</a:t>
            </a:r>
            <a:endParaRPr b="0" lang="en-US" sz="25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AAB-21E9-4BCB-A60E-04A3AE3E7EC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das del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736560" y="1546200"/>
            <a:ext cx="8012160" cy="503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40458c"/>
                </a:solidFill>
                <a:latin typeface="Arial"/>
              </a:rPr>
              <a:t>Medida directa, indirecta o predicció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se observa la entidad y se aplica el instrumento de medida directamente (peso, estatura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Medida indirecta: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se mide en forma directa otra entidad (o más de una) y luego se usan relaciones conocidas entre ellas (velocidad= distancia/tiempo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1204920" indent="0">
              <a:lnSpc>
                <a:spcPct val="9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Arial"/>
              </a:rPr>
              <a:t>Predicción: 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queremos una estimación de</a:t>
            </a:r>
            <a:r>
              <a:rPr b="0" lang="es-ES_tradnl" sz="2800" spc="-1" strike="noStrike">
                <a:solidFill>
                  <a:srgbClr val="40458c"/>
                </a:solidFill>
                <a:latin typeface="Arial"/>
              </a:rPr>
              <a:t> tamaño</a:t>
            </a:r>
            <a:r>
              <a:rPr b="0" lang="es-ES" sz="2800" spc="-1" strike="noStrike">
                <a:solidFill>
                  <a:srgbClr val="40458c"/>
                </a:solidFill>
                <a:latin typeface="Arial"/>
              </a:rPr>
              <a:t> de una entidad que puede no existir en ese moment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2C9B-092D-4FA2-BE77-8D98486756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45840"/>
            <a:ext cx="8012160" cy="48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Establecer una conexión entre las entidades medidas directamente y las entidades cuya medida será predich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• </a:t>
            </a:r>
            <a:r>
              <a:rPr b="0" lang="es-ES" sz="2400" spc="-1" strike="noStrike">
                <a:solidFill>
                  <a:srgbClr val="40458c"/>
                </a:solidFill>
                <a:latin typeface="Tahoma"/>
              </a:rPr>
              <a:t>Refinar la conexión hasta llegar a una o más fórmulas que permitan traducir las medidas directas en medidas aproximad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La diferencia clave está en que en la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ón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no es posible establecer una conexión completa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=&gt; sólo se puede aproximar la medida correct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6B45-4BE9-4638-A96D-CF4BC72DE5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Predi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41520" y="1521000"/>
            <a:ext cx="8208720" cy="53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90000"/>
              </a:lnSpc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40458c"/>
                </a:solidFill>
                <a:latin typeface="Tahoma"/>
              </a:rPr>
              <a:t>Similar a medición indirecta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Sólo es posible predecir si tenemos buenas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medidas en qué basarnos!</a:t>
            </a: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A pesar de lo obvio de esta afirmación muchas veces los administradores muestran </a:t>
            </a:r>
            <a:r>
              <a:rPr b="0" i="1" lang="es-ES" sz="2800" spc="-1" strike="noStrike" u="sng">
                <a:solidFill>
                  <a:srgbClr val="40458c"/>
                </a:solidFill>
                <a:uFillTx/>
                <a:latin typeface="Tahoma"/>
              </a:rPr>
              <a:t>gran interés en estimación, pero no en mediciones de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El esfuerzo de desarrollar un software, siempre es una actividad de </a:t>
            </a:r>
            <a:r>
              <a:rPr b="1" lang="es-ES" sz="2800" spc="-1" strike="noStrike">
                <a:solidFill>
                  <a:srgbClr val="40458c"/>
                </a:solidFill>
                <a:latin typeface="Tahoma"/>
              </a:rPr>
              <a:t>PREDICC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579600" indent="-285840">
              <a:lnSpc>
                <a:spcPct val="90000"/>
              </a:lnSpc>
              <a:spcBef>
                <a:spcPts val="700"/>
              </a:spcBef>
              <a:spcAft>
                <a:spcPts val="349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40458c"/>
                </a:solidFill>
                <a:latin typeface="Tahoma"/>
              </a:rPr>
              <a:t>Una predicción precisa requiere medición cuidadosa de atributos claves en proyectos ya completado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C93A-FC26-4E27-AD1F-51B4D49A43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58800" y="1604520"/>
            <a:ext cx="819144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Razones de baja aceptación en la industri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os administradores no saben qu</a:t>
            </a:r>
            <a:r>
              <a:rPr b="0" lang="es-ES_tradnl" sz="2000" spc="-1" strike="noStrike">
                <a:solidFill>
                  <a:srgbClr val="40458c"/>
                </a:solidFill>
                <a:latin typeface="Arial"/>
              </a:rPr>
              <a:t>é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 hacer con las medicione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La falta de la validación necesaria =&gt; (produce) falta de confianza en las medidas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jemplo de Estimación: 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El modelo 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COCOM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 simple relaciona el esfuerzo E (meses-hombre) con el tamaño S (MLOCS) de acuerdo a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E = a*S</a:t>
            </a:r>
            <a:r>
              <a:rPr b="1" i="1" lang="es-ES" sz="2400" spc="-1" strike="noStrike" baseline="30000">
                <a:solidFill>
                  <a:srgbClr val="40458c"/>
                </a:solidFill>
                <a:latin typeface="Arial"/>
              </a:rPr>
              <a:t>b</a:t>
            </a:r>
            <a:r>
              <a:rPr b="1" i="1" lang="es-ES" sz="2400" spc="-1" strike="noStrike">
                <a:solidFill>
                  <a:srgbClr val="40458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Donde a y b son parámetros determinados por el tipo de software a ser desarrollad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Para usar este modelo para predecir el esfuerzo en la etapa de captura de requ</a:t>
            </a:r>
            <a:r>
              <a:rPr b="0" i="1" lang="es-ES_tradnl" sz="2400" spc="-1" strike="noStrike">
                <a:solidFill>
                  <a:srgbClr val="40458c"/>
                </a:solidFill>
                <a:latin typeface="Arial"/>
              </a:rPr>
              <a:t>isito</a:t>
            </a:r>
            <a:r>
              <a:rPr b="0" i="1" lang="es-ES" sz="2400" spc="-1" strike="noStrike">
                <a:solidFill>
                  <a:srgbClr val="40458c"/>
                </a:solidFill>
                <a:latin typeface="Arial"/>
              </a:rPr>
              <a:t>s, necesitamos primero determinar (predecir) los parámetros y luego el tamaño del eventual sist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12F4-F02C-4442-B5CF-395C6A89C9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60066"/>
                </a:solidFill>
                <a:latin typeface="Tahoma"/>
              </a:rPr>
              <a:t>Mediciones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l modelo por si solo no es suficiente para efectuar una predicció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Un sistema de predicción consiste en un modelo matemático, más un conjunto de procedimientos orientados a obtener variables y parámetr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• </a:t>
            </a:r>
            <a:r>
              <a:rPr b="0" lang="es-ES" sz="3200" spc="-1" strike="noStrike">
                <a:solidFill>
                  <a:srgbClr val="40458c"/>
                </a:solidFill>
                <a:latin typeface="Arial"/>
              </a:rPr>
              <a:t>Estrictamente, COCOMO es más que un método de estimación de costos, es un sistema de predicción de costo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1608-F45F-4AE8-A1A3-DA6EC31C75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660066"/>
                </a:solidFill>
                <a:latin typeface="Tahoma"/>
              </a:rPr>
              <a:t>Qué medir y cómo medir? He aquí el dilema…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604520"/>
            <a:ext cx="8012160" cy="503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sólo aquello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aspectos del proceso o del product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que so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mi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Relevantes para qué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?: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 proceso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producto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spcAft>
                <a:spcPts val="876"/>
              </a:spcAft>
              <a:buClr>
                <a:srgbClr val="40458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58c"/>
                </a:solidFill>
                <a:latin typeface="Arial"/>
              </a:rPr>
              <a:t>Mejorar mis estimacione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Guardar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para todo esto puede ser una tarea demasiado pesada, y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podría entorpecer los desarrollos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Medir y guardar la información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, sólo si yo soy capaz de confiar en ella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buClr>
                <a:srgbClr val="40458c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Las mediciones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no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deberían </a:t>
            </a:r>
            <a:r>
              <a:rPr b="1" lang="es-ES" sz="2400" spc="-1" strike="noStrike" u="sng">
                <a:solidFill>
                  <a:srgbClr val="40458c"/>
                </a:solidFill>
                <a:uFillTx/>
                <a:latin typeface="Arial"/>
              </a:rPr>
              <a:t>entorpecer</a:t>
            </a:r>
            <a:r>
              <a:rPr b="0" lang="es-ES" sz="2400" spc="-1" strike="noStrike">
                <a:solidFill>
                  <a:srgbClr val="40458c"/>
                </a:solidFill>
                <a:latin typeface="Arial"/>
              </a:rPr>
              <a:t> el trabajo de la g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BCD-1262-4FC7-AC50-C80C828A04B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27:28Z</dcterms:created>
  <dc:creator>Sergio Ochoa</dc:creator>
  <dc:description/>
  <dc:language>en-US</dc:language>
  <cp:lastModifiedBy>Sergio F. Ochoa</cp:lastModifiedBy>
  <cp:lastPrinted>1999-09-03T16:31:05Z</cp:lastPrinted>
  <dcterms:modified xsi:type="dcterms:W3CDTF">2005-08-25T18:39:34Z</dcterms:modified>
  <cp:revision>188</cp:revision>
  <dc:subject/>
  <dc:title>Introdu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NavBtnPos">
    <vt:r8>3</vt:r8>
  </property>
  <property fmtid="{D5CDD505-2E9C-101B-9397-08002B2CF9AE}" pid="10" name="ScreenSize">
    <vt:r8>3</vt:r8>
  </property>
  <property fmtid="{D5CDD505-2E9C-101B-9397-08002B2CF9AE}" pid="11" name="ScreenUsage">
    <vt:r8>3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