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638-16E2-4323-80D9-081F0427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3C5-ADE8-4356-89C1-236E75D1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E24-1A60-487F-93AC-84BD1074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09E-0859-42BC-A1E5-D855CFE2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EA87-BABB-4527-BC19-D255B18D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F127-4D76-41C8-AF5C-4026D56E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B627-5B06-43A6-BFD3-1E3FD924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E8A2-F223-4C59-91DE-5DB636A8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0B1C-7107-4D4D-A91B-07BC628F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92FF-01A8-4AA5-8020-4C828329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8A55-76E8-43B2-B5B2-4B2FD64D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E22-2446-4366-AAF8-5ED9AF91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0E2B-FE3E-4D8B-B0E0-843B1B46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A17B-AC09-4D37-804E-58140F5F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F501-5A6C-48E9-8594-00E9C29E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E4EA-89B8-4FDB-B901-A414B451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7344-9007-4CB5-9403-25BA5BBD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12D-7EA2-42EE-B60D-D67119AE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D77-C9B7-4AF0-9BE0-5544762C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734-CA92-4CFC-9D80-ADCD4CD5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CE6-86E0-4DA9-A2D5-B115F286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448-7403-491D-96F9-012E495F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0CA-2FD8-4DFD-9CEE-418D6593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EB8-49E8-48CA-8A35-2A7853C7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6131-E297-45E1-B0E6-C11189FFAAD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647A-B0AD-484A-A092-229C16474CA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31B –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0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6C53-3E42-4B77-B8B0-5584A3EEC7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para mejor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para Estimar mej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E4D-1419-444E-BB7E-7A88BD572D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-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573-DF29-48FC-8124-9DB8608C83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913-8DBD-478F-9969-BB9F2E1283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600"/>
            <a:ext cx="81882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084-B248-426D-9371-199C11E9E2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800"/>
            <a:ext cx="810072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5º. Se reúnen nuevamente y discuten las tare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E80-B568-4102-9C56-591DC6B8DA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7B5-1AE2-488E-9263-59BC2737E8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37D-0AE7-44F2-978A-9F50FE5016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C08-AF78-4FAC-8249-8B205DD6D2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F01-276F-4215-BD73-93D3DE08A4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6F0-79CF-43D9-8876-0BBC485037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001-7D0D-4F24-BB6F-06450CF59106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CA8-A976-408B-8232-53A83BE667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3E7-056A-403D-A259-3F136A398D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-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D23-BBD7-44A5-9C21-96AACEEA59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67D-0A26-4B42-90F0-F7FBAD5B71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a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A3A-90BE-46EF-A016-29DDD8F15A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efectu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Ingeniero Jefe del Proyecto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8C8-C569-4496-B1F1-B22DB5E00348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schedule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786-D9FC-442B-B4EE-8DB4ABF9D106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528-0AEB-4F46-A8B2-A32723594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234-2DEA-4A15-8EC1-AFC3C199B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41E-50BA-4D4B-819C-0EEB66B8E2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3EF-72A3-40CF-981C-7466E12128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95C-DF3E-4012-B1E2-AB0384AA34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AE9-227D-49D2-A318-76C8E850A1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806-35A5-4FDB-93E6-B092E56983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5-08-25T18:39:34Z</dcterms:modified>
  <cp:revision>188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