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0"/>
            <a:ext cx="306360" cy="6858000"/>
          </a:xfrm>
          <a:custGeom>
            <a:avLst/>
            <a:gdLst/>
            <a:ahLst/>
            <a:rect l="l" t="t" r="r" b="b"/>
            <a:pathLst>
              <a:path w="849" h="19052">
                <a:moveTo>
                  <a:pt x="0" y="0"/>
                </a:moveTo>
                <a:lnTo>
                  <a:pt x="848" y="0"/>
                </a:lnTo>
                <a:lnTo>
                  <a:pt x="848" y="19051"/>
                </a:lnTo>
                <a:lnTo>
                  <a:pt x="0" y="19051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0"/>
            <a:ext cx="306360" cy="6858000"/>
          </a:xfrm>
          <a:custGeom>
            <a:avLst/>
            <a:gdLst/>
            <a:ahLst/>
            <a:rect l="l" t="t" r="r" b="b"/>
            <a:pathLst>
              <a:path w="849" h="19052">
                <a:moveTo>
                  <a:pt x="0" y="0"/>
                </a:moveTo>
                <a:lnTo>
                  <a:pt x="848" y="0"/>
                </a:lnTo>
                <a:lnTo>
                  <a:pt x="848" y="19051"/>
                </a:lnTo>
                <a:lnTo>
                  <a:pt x="0" y="19051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0"/>
            <a:ext cx="306360" cy="6858000"/>
          </a:xfrm>
          <a:custGeom>
            <a:avLst/>
            <a:gdLst/>
            <a:ahLst/>
            <a:rect l="l" t="t" r="r" b="b"/>
            <a:pathLst>
              <a:path w="849" h="19052">
                <a:moveTo>
                  <a:pt x="0" y="0"/>
                </a:moveTo>
                <a:lnTo>
                  <a:pt x="848" y="0"/>
                </a:lnTo>
                <a:lnTo>
                  <a:pt x="848" y="19051"/>
                </a:lnTo>
                <a:lnTo>
                  <a:pt x="0" y="19051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3333cc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álisis y Especificación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Agosto del 2004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Ingeniería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120" y="1905120"/>
            <a:ext cx="1671480" cy="760320"/>
            <a:chOff x="762120" y="1905120"/>
            <a:chExt cx="1671480" cy="760320"/>
          </a:xfrm>
        </p:grpSpPr>
        <p:sp>
          <p:nvSpPr>
            <p:cNvPr id="92" name=""/>
            <p:cNvSpPr/>
            <p:nvPr/>
          </p:nvSpPr>
          <p:spPr>
            <a:xfrm>
              <a:off x="762120" y="1905120"/>
              <a:ext cx="1671480" cy="760320"/>
            </a:xfrm>
            <a:custGeom>
              <a:avLst/>
              <a:gdLst/>
              <a:ahLst/>
              <a:rect l="l" t="t" r="r" b="b"/>
              <a:pathLst>
                <a:path w="4650" h="2118">
                  <a:moveTo>
                    <a:pt x="0" y="248"/>
                  </a:moveTo>
                  <a:cubicBezTo>
                    <a:pt x="0" y="124"/>
                    <a:pt x="124" y="0"/>
                    <a:pt x="248" y="0"/>
                  </a:cubicBezTo>
                  <a:lnTo>
                    <a:pt x="4400" y="0"/>
                  </a:lnTo>
                  <a:cubicBezTo>
                    <a:pt x="4524" y="0"/>
                    <a:pt x="4649" y="124"/>
                    <a:pt x="4649" y="248"/>
                  </a:cubicBezTo>
                  <a:lnTo>
                    <a:pt x="4649" y="1868"/>
                  </a:lnTo>
                  <a:cubicBezTo>
                    <a:pt x="4649" y="1992"/>
                    <a:pt x="4524" y="2117"/>
                    <a:pt x="4400" y="2117"/>
                  </a:cubicBezTo>
                  <a:lnTo>
                    <a:pt x="248" y="2117"/>
                  </a:lnTo>
                  <a:cubicBezTo>
                    <a:pt x="124" y="2117"/>
                    <a:pt x="0" y="1992"/>
                    <a:pt x="0" y="1868"/>
                  </a:cubicBezTo>
                  <a:lnTo>
                    <a:pt x="0" y="248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0200" y="1933200"/>
              <a:ext cx="1616040" cy="7048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19520" y="1905120"/>
            <a:ext cx="1674720" cy="760320"/>
            <a:chOff x="2819520" y="1905120"/>
            <a:chExt cx="1674720" cy="760320"/>
          </a:xfrm>
        </p:grpSpPr>
        <p:sp>
          <p:nvSpPr>
            <p:cNvPr id="95" name=""/>
            <p:cNvSpPr/>
            <p:nvPr/>
          </p:nvSpPr>
          <p:spPr>
            <a:xfrm>
              <a:off x="2819520" y="1905120"/>
              <a:ext cx="1674720" cy="760320"/>
            </a:xfrm>
            <a:custGeom>
              <a:avLst/>
              <a:gdLst/>
              <a:ahLst/>
              <a:rect l="l" t="t" r="r" b="b"/>
              <a:pathLst>
                <a:path w="4658" h="2118">
                  <a:moveTo>
                    <a:pt x="0" y="248"/>
                  </a:moveTo>
                  <a:cubicBezTo>
                    <a:pt x="0" y="124"/>
                    <a:pt x="124" y="0"/>
                    <a:pt x="248" y="0"/>
                  </a:cubicBezTo>
                  <a:lnTo>
                    <a:pt x="4408" y="0"/>
                  </a:lnTo>
                  <a:cubicBezTo>
                    <a:pt x="4532" y="0"/>
                    <a:pt x="4657" y="124"/>
                    <a:pt x="4657" y="248"/>
                  </a:cubicBezTo>
                  <a:lnTo>
                    <a:pt x="4657" y="1868"/>
                  </a:lnTo>
                  <a:cubicBezTo>
                    <a:pt x="4657" y="1992"/>
                    <a:pt x="4532" y="2117"/>
                    <a:pt x="4408" y="2117"/>
                  </a:cubicBezTo>
                  <a:lnTo>
                    <a:pt x="248" y="2117"/>
                  </a:lnTo>
                  <a:cubicBezTo>
                    <a:pt x="124" y="2117"/>
                    <a:pt x="0" y="1992"/>
                    <a:pt x="0" y="1868"/>
                  </a:cubicBezTo>
                  <a:lnTo>
                    <a:pt x="0" y="248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47600" y="1933200"/>
              <a:ext cx="1619280" cy="7048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29200" y="2895480"/>
            <a:ext cx="1676520" cy="762120"/>
            <a:chOff x="5029200" y="2895480"/>
            <a:chExt cx="1676520" cy="762120"/>
          </a:xfrm>
        </p:grpSpPr>
        <p:sp>
          <p:nvSpPr>
            <p:cNvPr id="98" name=""/>
            <p:cNvSpPr/>
            <p:nvPr/>
          </p:nvSpPr>
          <p:spPr>
            <a:xfrm>
              <a:off x="5029200" y="2895480"/>
              <a:ext cx="1676520" cy="762120"/>
            </a:xfrm>
            <a:custGeom>
              <a:avLst/>
              <a:gdLst/>
              <a:ahLst/>
              <a:rect l="l" t="t" r="r" b="b"/>
              <a:pathLst>
                <a:path w="4659" h="2119">
                  <a:moveTo>
                    <a:pt x="0" y="249"/>
                  </a:moveTo>
                  <a:cubicBezTo>
                    <a:pt x="0" y="124"/>
                    <a:pt x="124" y="0"/>
                    <a:pt x="249" y="0"/>
                  </a:cubicBezTo>
                  <a:lnTo>
                    <a:pt x="4408" y="0"/>
                  </a:lnTo>
                  <a:cubicBezTo>
                    <a:pt x="4533" y="0"/>
                    <a:pt x="4658" y="124"/>
                    <a:pt x="4658" y="249"/>
                  </a:cubicBezTo>
                  <a:lnTo>
                    <a:pt x="4658" y="1868"/>
                  </a:lnTo>
                  <a:cubicBezTo>
                    <a:pt x="4658" y="1993"/>
                    <a:pt x="4533" y="2118"/>
                    <a:pt x="4408" y="2118"/>
                  </a:cubicBezTo>
                  <a:lnTo>
                    <a:pt x="249" y="2118"/>
                  </a:lnTo>
                  <a:cubicBezTo>
                    <a:pt x="124" y="2118"/>
                    <a:pt x="0" y="1993"/>
                    <a:pt x="0" y="1868"/>
                  </a:cubicBezTo>
                  <a:lnTo>
                    <a:pt x="0" y="249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57280" y="2923920"/>
              <a:ext cx="1619640" cy="7048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86600" y="3886200"/>
            <a:ext cx="1806120" cy="762120"/>
            <a:chOff x="7086600" y="3886200"/>
            <a:chExt cx="1806120" cy="762120"/>
          </a:xfrm>
        </p:grpSpPr>
        <p:sp>
          <p:nvSpPr>
            <p:cNvPr id="101" name=""/>
            <p:cNvSpPr/>
            <p:nvPr/>
          </p:nvSpPr>
          <p:spPr>
            <a:xfrm>
              <a:off x="7086600" y="3886200"/>
              <a:ext cx="1806120" cy="762120"/>
            </a:xfrm>
            <a:custGeom>
              <a:avLst/>
              <a:gdLst/>
              <a:ahLst/>
              <a:rect l="l" t="t" r="r" b="b"/>
              <a:pathLst>
                <a:path w="4659" h="2119">
                  <a:moveTo>
                    <a:pt x="0" y="249"/>
                  </a:moveTo>
                  <a:cubicBezTo>
                    <a:pt x="0" y="124"/>
                    <a:pt x="124" y="0"/>
                    <a:pt x="249" y="0"/>
                  </a:cubicBezTo>
                  <a:lnTo>
                    <a:pt x="4408" y="0"/>
                  </a:lnTo>
                  <a:cubicBezTo>
                    <a:pt x="4533" y="0"/>
                    <a:pt x="4658" y="124"/>
                    <a:pt x="4658" y="249"/>
                  </a:cubicBezTo>
                  <a:lnTo>
                    <a:pt x="4658" y="1868"/>
                  </a:lnTo>
                  <a:cubicBezTo>
                    <a:pt x="4658" y="1993"/>
                    <a:pt x="4533" y="2118"/>
                    <a:pt x="4408" y="2118"/>
                  </a:cubicBezTo>
                  <a:lnTo>
                    <a:pt x="249" y="2118"/>
                  </a:lnTo>
                  <a:cubicBezTo>
                    <a:pt x="124" y="2118"/>
                    <a:pt x="0" y="1993"/>
                    <a:pt x="0" y="1868"/>
                  </a:cubicBezTo>
                  <a:lnTo>
                    <a:pt x="0" y="249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7200" y="3914280"/>
              <a:ext cx="1744920" cy="70524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"/>
          <p:cNvCxnSpPr>
            <a:stCxn id="92" idx="0"/>
            <a:endCxn id="95" idx="0"/>
          </p:cNvCxnSpPr>
          <p:nvPr/>
        </p:nvCxnSpPr>
        <p:spPr>
          <a:xfrm>
            <a:off x="2435040" y="2286000"/>
            <a:ext cx="384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1"/>
            <a:endCxn id="98" idx="0"/>
          </p:cNvCxnSpPr>
          <p:nvPr/>
        </p:nvCxnSpPr>
        <p:spPr>
          <a:xfrm>
            <a:off x="3657600" y="2666880"/>
            <a:ext cx="1372320" cy="6105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8" idx="1"/>
            <a:endCxn id="95" idx="2"/>
          </p:cNvCxnSpPr>
          <p:nvPr/>
        </p:nvCxnSpPr>
        <p:spPr>
          <a:xfrm rot="10800000">
            <a:off x="4494960" y="2285280"/>
            <a:ext cx="1372320" cy="61020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8" idx="2"/>
            <a:endCxn id="101" idx="0"/>
          </p:cNvCxnSpPr>
          <p:nvPr/>
        </p:nvCxnSpPr>
        <p:spPr>
          <a:xfrm>
            <a:off x="6616800" y="2895480"/>
            <a:ext cx="567360" cy="991440"/>
          </a:xfrm>
          <a:prstGeom prst="bentConnector3">
            <a:avLst>
              <a:gd name="adj1" fmla="val 49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1"/>
            <a:endCxn id="98" idx="3"/>
          </p:cNvCxnSpPr>
          <p:nvPr/>
        </p:nvCxnSpPr>
        <p:spPr>
          <a:xfrm rot="10800000">
            <a:off x="6706440" y="2985480"/>
            <a:ext cx="380160" cy="99108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762120" y="3733920"/>
            <a:ext cx="1674720" cy="757080"/>
            <a:chOff x="762120" y="3733920"/>
            <a:chExt cx="1674720" cy="757080"/>
          </a:xfrm>
        </p:grpSpPr>
        <p:sp>
          <p:nvSpPr>
            <p:cNvPr id="109" name=""/>
            <p:cNvSpPr/>
            <p:nvPr/>
          </p:nvSpPr>
          <p:spPr>
            <a:xfrm>
              <a:off x="762120" y="3733920"/>
              <a:ext cx="1674720" cy="757080"/>
            </a:xfrm>
            <a:prstGeom prst="roundRect">
              <a:avLst>
                <a:gd name="adj" fmla="val 20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3733920"/>
              <a:ext cx="167472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19520" y="4191120"/>
            <a:ext cx="1674720" cy="757080"/>
            <a:chOff x="2819520" y="4191120"/>
            <a:chExt cx="1674720" cy="757080"/>
          </a:xfrm>
        </p:grpSpPr>
        <p:sp>
          <p:nvSpPr>
            <p:cNvPr id="112" name=""/>
            <p:cNvSpPr/>
            <p:nvPr/>
          </p:nvSpPr>
          <p:spPr>
            <a:xfrm>
              <a:off x="2819520" y="4191120"/>
              <a:ext cx="1674720" cy="757080"/>
            </a:xfrm>
            <a:prstGeom prst="roundRect">
              <a:avLst>
                <a:gd name="adj" fmla="val 20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4191120"/>
              <a:ext cx="167472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19520" y="5257800"/>
            <a:ext cx="1674720" cy="757080"/>
            <a:chOff x="2819520" y="5257800"/>
            <a:chExt cx="1674720" cy="757080"/>
          </a:xfrm>
        </p:grpSpPr>
        <p:sp>
          <p:nvSpPr>
            <p:cNvPr id="115" name=""/>
            <p:cNvSpPr/>
            <p:nvPr/>
          </p:nvSpPr>
          <p:spPr>
            <a:xfrm>
              <a:off x="2819520" y="5257800"/>
              <a:ext cx="1674720" cy="757080"/>
            </a:xfrm>
            <a:prstGeom prst="roundRect">
              <a:avLst>
                <a:gd name="adj" fmla="val 20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5257800"/>
              <a:ext cx="167472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29200" y="4648320"/>
            <a:ext cx="1674720" cy="757080"/>
            <a:chOff x="5029200" y="4648320"/>
            <a:chExt cx="1674720" cy="757080"/>
          </a:xfrm>
        </p:grpSpPr>
        <p:sp>
          <p:nvSpPr>
            <p:cNvPr id="118" name=""/>
            <p:cNvSpPr/>
            <p:nvPr/>
          </p:nvSpPr>
          <p:spPr>
            <a:xfrm>
              <a:off x="5029200" y="4648320"/>
              <a:ext cx="1674720" cy="757080"/>
            </a:xfrm>
            <a:prstGeom prst="roundRect">
              <a:avLst>
                <a:gd name="adj" fmla="val 20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4648320"/>
              <a:ext cx="167472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086600" y="5257800"/>
            <a:ext cx="1877760" cy="757080"/>
            <a:chOff x="7086600" y="5257800"/>
            <a:chExt cx="1877760" cy="757080"/>
          </a:xfrm>
        </p:grpSpPr>
        <p:sp>
          <p:nvSpPr>
            <p:cNvPr id="121" name=""/>
            <p:cNvSpPr/>
            <p:nvPr/>
          </p:nvSpPr>
          <p:spPr>
            <a:xfrm>
              <a:off x="7086600" y="5257800"/>
              <a:ext cx="1877760" cy="757080"/>
            </a:xfrm>
            <a:prstGeom prst="roundRect">
              <a:avLst>
                <a:gd name="adj" fmla="val 20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86600" y="5257800"/>
              <a:ext cx="18777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3" name=""/>
          <p:cNvCxnSpPr>
            <a:stCxn id="92" idx="1"/>
            <a:endCxn id="109" idx="0"/>
          </p:cNvCxnSpPr>
          <p:nvPr/>
        </p:nvCxnSpPr>
        <p:spPr>
          <a:xfrm>
            <a:off x="1598760" y="2666880"/>
            <a:ext cx="2160" cy="10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505320" y="2666880"/>
            <a:ext cx="14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2" idx="2"/>
            <a:endCxn id="115" idx="0"/>
          </p:cNvCxnSpPr>
          <p:nvPr/>
        </p:nvCxnSpPr>
        <p:spPr>
          <a:xfrm>
            <a:off x="3657600" y="4949640"/>
            <a:ext cx="216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715000" y="36576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8" idx="2"/>
            <a:endCxn id="115" idx="3"/>
          </p:cNvCxnSpPr>
          <p:nvPr/>
        </p:nvCxnSpPr>
        <p:spPr>
          <a:xfrm flipV="1" rot="10800000">
            <a:off x="4494960" y="5406840"/>
            <a:ext cx="1372320" cy="2307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4493880" y="5791320"/>
            <a:ext cx="2593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2" idx="2"/>
            <a:endCxn id="121" idx="0"/>
          </p:cNvCxnSpPr>
          <p:nvPr/>
        </p:nvCxnSpPr>
        <p:spPr>
          <a:xfrm>
            <a:off x="7991280" y="4621320"/>
            <a:ext cx="35640" cy="63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Documento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81532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SRS: Software Requirements Specification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3680" indent="-28116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declaración oficial de lo que hará el softwar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Qué es los que el sistema debe hacer?, sin indicar cómo?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Debe ser suficientemente específico como para poder relacionar los requisitos con la funcionalidad del sistema final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98200" y="2098800"/>
            <a:ext cx="1969200" cy="8078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ocu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2840" y="2133720"/>
            <a:ext cx="1851840" cy="8078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efini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8280" y="2133720"/>
            <a:ext cx="2343960" cy="8078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Especific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9680" y="2200320"/>
            <a:ext cx="384120" cy="499680"/>
          </a:xfrm>
          <a:custGeom>
            <a:avLst/>
            <a:gdLst>
              <a:gd name="textAreaLeft" fmla="*/ 360 w 384120"/>
              <a:gd name="textAreaRight" fmla="*/ 383760 w 384120"/>
              <a:gd name="textAreaTop" fmla="*/ 360 h 499680"/>
              <a:gd name="textAreaBottom" fmla="*/ 499320 h 499680"/>
            </a:gdLst>
            <a:ahLst/>
            <a:rect l="textAreaLeft" t="textAreaTop" r="textAreaRight" b="textAreaBottom"/>
            <a:pathLst>
              <a:path w="21600" h="28092">
                <a:moveTo>
                  <a:pt x="88" y="0"/>
                </a:moveTo>
                <a:arcTo wR="88" hR="88" stAng="16200000" swAng="-5400000"/>
                <a:lnTo>
                  <a:pt x="0" y="28004"/>
                </a:lnTo>
                <a:arcTo wR="88" hR="88" stAng="10800000" swAng="-5400000"/>
                <a:lnTo>
                  <a:pt x="21512" y="28092"/>
                </a:lnTo>
                <a:arcTo wR="88" hR="88" stAng="5400000" swAng="-5400000"/>
                <a:lnTo>
                  <a:pt x="21600" y="88"/>
                </a:lnTo>
                <a:arcTo wR="88" hR="8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29200" y="2200320"/>
            <a:ext cx="384120" cy="499680"/>
          </a:xfrm>
          <a:custGeom>
            <a:avLst/>
            <a:gdLst>
              <a:gd name="textAreaLeft" fmla="*/ 360 w 384120"/>
              <a:gd name="textAreaRight" fmla="*/ 383760 w 384120"/>
              <a:gd name="textAreaTop" fmla="*/ 360 h 499680"/>
              <a:gd name="textAreaBottom" fmla="*/ 499320 h 499680"/>
            </a:gdLst>
            <a:ahLst/>
            <a:rect l="textAreaLeft" t="textAreaTop" r="textAreaRight" b="textAreaBottom"/>
            <a:pathLst>
              <a:path w="21600" h="28092">
                <a:moveTo>
                  <a:pt x="88" y="0"/>
                </a:moveTo>
                <a:arcTo wR="88" hR="88" stAng="16200000" swAng="-5400000"/>
                <a:lnTo>
                  <a:pt x="0" y="28004"/>
                </a:lnTo>
                <a:arcTo wR="88" hR="88" stAng="10800000" swAng="-5400000"/>
                <a:lnTo>
                  <a:pt x="21512" y="28092"/>
                </a:lnTo>
                <a:arcTo wR="88" hR="88" stAng="5400000" swAng="-5400000"/>
                <a:lnTo>
                  <a:pt x="21600" y="88"/>
                </a:lnTo>
                <a:arcTo wR="88" hR="8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racterísticas del Documento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l documento debe ser completo y consistent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das las funciones deben ser incluida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debe haber confli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be ser fácilmente modificabl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rrore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olución de los requerimien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racterísticas necesarias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lamente comportamiento externo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stricciones a la implementació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ácilmente modificabl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útil como referencia para los encargados del mantenimiento del sistema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gistro de reflexiones acerca de futura evolució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8920" indent="-2754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spuestas aceptable a eventos inesperad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r Capítul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16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troducció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scripción general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funcionalidad e interacción con otros sistema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nserción en la empresa/ organizació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losari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finición de términ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delos del Sistem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iagramas de relación del sistema con el amb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125360"/>
            <a:ext cx="457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finición de Requisitos Funcion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ervicios del sistema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D, descripción (+ diagramas), prioridad (alta, baja, media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finición de Requisitos No Funcionales (performance, usabilidad, portabilidad, etc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aracterísticas del sistema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D, descripción (+ diagramas), prioridad (alta, baja, media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stricciones (al proceso y al producto)… ID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volución del Sist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ambios que se anticipa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specificación de Requisit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talle de la funcionalidad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Tahoma"/>
              </a:rPr>
              <a:t>funciones, datos, dinámica.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Validación del Documento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El documento de requisitos expresa lo que el cliente realmente necesita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Los errores se propagan al diseño y la implementación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La corrección es más cara cuanto más tarde se detecte el error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3680" indent="-28116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100 veces más caro corregir un error en los requisitos después de entregado el sistema, que corregir el documento de requerimientos en la fase de análisi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37680" indent="-3376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La validación debe hacerse con el cliente/usuario a medida que se construye el documento de requisito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3680" indent="-28116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revisiones y “caminatas”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ualidades del Documento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572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Validez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a funcionalidad especificada es aceptada por todos los usuari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nsistencia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o existen conflictos entre los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mpleto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odas las funciones y restricciones están incluida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Realismo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quisitos realizable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mejoras esperables realista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06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Verificabl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os requisitos pueden ser verificad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mprensibl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laridad de expresió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Rastreabl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rigen de los requisitos (evolución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Adaptable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os cambios no afectan el sistema complet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Evolución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La comprensión del sistema avanza a medida que se analiza la definición de requisito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El tiempo de desarrollo de grandes sistemas puede ser varios año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l ambiente cambia y afecta los requisitos iniciale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lases de requisitos: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duraderos: relativos a actividades esenciales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volátiles: requisitos temporales propensos a cambia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Requisitos Volátil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Mutables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ambios en el ambiente organizaciona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mergentes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a comprensión profunda del sistema trae a la luz nuevos (o cambios en los)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nsecuencias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a implantación del sistema trae nuevos requisitos (por ej. restricciones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mpatibilidad:</a:t>
            </a: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ambios en otros sistemas con los que se interactúa una aplicación, generan nuevos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Actualización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" y="1447920"/>
            <a:ext cx="2055960" cy="608040"/>
            <a:chOff x="457200" y="1447920"/>
            <a:chExt cx="2055960" cy="608040"/>
          </a:xfrm>
        </p:grpSpPr>
        <p:sp>
          <p:nvSpPr>
            <p:cNvPr id="154" name=""/>
            <p:cNvSpPr/>
            <p:nvPr/>
          </p:nvSpPr>
          <p:spPr>
            <a:xfrm>
              <a:off x="457200" y="1447920"/>
              <a:ext cx="205596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447920"/>
              <a:ext cx="20559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cumen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quisito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7200" y="2819520"/>
            <a:ext cx="2055960" cy="608040"/>
            <a:chOff x="457200" y="2819520"/>
            <a:chExt cx="2055960" cy="608040"/>
          </a:xfrm>
        </p:grpSpPr>
        <p:sp>
          <p:nvSpPr>
            <p:cNvPr id="157" name=""/>
            <p:cNvSpPr/>
            <p:nvPr/>
          </p:nvSpPr>
          <p:spPr>
            <a:xfrm>
              <a:off x="457200" y="2819520"/>
              <a:ext cx="205596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2819520"/>
              <a:ext cx="20559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 Sistem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4080" y="2819520"/>
            <a:ext cx="2055960" cy="608040"/>
            <a:chOff x="3124080" y="2819520"/>
            <a:chExt cx="2055960" cy="608040"/>
          </a:xfrm>
        </p:grpSpPr>
        <p:sp>
          <p:nvSpPr>
            <p:cNvPr id="160" name=""/>
            <p:cNvSpPr/>
            <p:nvPr/>
          </p:nvSpPr>
          <p:spPr>
            <a:xfrm>
              <a:off x="3124080" y="2819520"/>
              <a:ext cx="205596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4080" y="2819520"/>
              <a:ext cx="20559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 Sistema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54" idx="2"/>
            <a:endCxn id="157" idx="0"/>
          </p:cNvCxnSpPr>
          <p:nvPr/>
        </p:nvCxnSpPr>
        <p:spPr>
          <a:xfrm>
            <a:off x="1486080" y="2057040"/>
            <a:ext cx="2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7" idx="3"/>
            <a:endCxn id="160" idx="1"/>
          </p:cNvCxnSpPr>
          <p:nvPr/>
        </p:nvCxnSpPr>
        <p:spPr>
          <a:xfrm>
            <a:off x="2514240" y="3123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3268440" y="1752480"/>
            <a:ext cx="1653480" cy="68904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mbio en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60160" y="2286000"/>
            <a:ext cx="84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62520" y="4191120"/>
            <a:ext cx="2055600" cy="608040"/>
            <a:chOff x="3962520" y="4191120"/>
            <a:chExt cx="2055600" cy="608040"/>
          </a:xfrm>
        </p:grpSpPr>
        <p:sp>
          <p:nvSpPr>
            <p:cNvPr id="167" name=""/>
            <p:cNvSpPr/>
            <p:nvPr/>
          </p:nvSpPr>
          <p:spPr>
            <a:xfrm>
              <a:off x="3962520" y="4191120"/>
              <a:ext cx="205560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520" y="4191120"/>
              <a:ext cx="205560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cumen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quisito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962520" y="5562720"/>
            <a:ext cx="2055600" cy="608040"/>
            <a:chOff x="3962520" y="5562720"/>
            <a:chExt cx="2055600" cy="608040"/>
          </a:xfrm>
        </p:grpSpPr>
        <p:sp>
          <p:nvSpPr>
            <p:cNvPr id="170" name=""/>
            <p:cNvSpPr/>
            <p:nvPr/>
          </p:nvSpPr>
          <p:spPr>
            <a:xfrm>
              <a:off x="3962520" y="5562720"/>
              <a:ext cx="205560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5562720"/>
              <a:ext cx="205560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 Sistem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5562720"/>
            <a:ext cx="2055960" cy="608040"/>
            <a:chOff x="6629400" y="5562720"/>
            <a:chExt cx="2055960" cy="608040"/>
          </a:xfrm>
        </p:grpSpPr>
        <p:sp>
          <p:nvSpPr>
            <p:cNvPr id="173" name=""/>
            <p:cNvSpPr/>
            <p:nvPr/>
          </p:nvSpPr>
          <p:spPr>
            <a:xfrm>
              <a:off x="6629400" y="5562720"/>
              <a:ext cx="205596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5562720"/>
              <a:ext cx="20559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 Sistema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5" name=""/>
          <p:cNvCxnSpPr>
            <a:stCxn id="167" idx="2"/>
            <a:endCxn id="170" idx="0"/>
          </p:cNvCxnSpPr>
          <p:nvPr/>
        </p:nvCxnSpPr>
        <p:spPr>
          <a:xfrm>
            <a:off x="4990680" y="4800240"/>
            <a:ext cx="2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0" idx="3"/>
            <a:endCxn id="173" idx="1"/>
          </p:cNvCxnSpPr>
          <p:nvPr/>
        </p:nvCxnSpPr>
        <p:spPr>
          <a:xfrm>
            <a:off x="6019560" y="58669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7" name=""/>
          <p:cNvGrpSpPr/>
          <p:nvPr/>
        </p:nvGrpSpPr>
        <p:grpSpPr>
          <a:xfrm>
            <a:off x="6629400" y="4191120"/>
            <a:ext cx="2055960" cy="608040"/>
            <a:chOff x="6629400" y="4191120"/>
            <a:chExt cx="2055960" cy="608040"/>
          </a:xfrm>
        </p:grpSpPr>
        <p:sp>
          <p:nvSpPr>
            <p:cNvPr id="178" name=""/>
            <p:cNvSpPr/>
            <p:nvPr/>
          </p:nvSpPr>
          <p:spPr>
            <a:xfrm>
              <a:off x="6629400" y="4191120"/>
              <a:ext cx="2055960" cy="608040"/>
            </a:xfrm>
            <a:prstGeom prst="roundRect">
              <a:avLst>
                <a:gd name="adj" fmla="val 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400" y="4191120"/>
              <a:ext cx="20559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cumen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quisito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0" name=""/>
          <p:cNvCxnSpPr>
            <a:stCxn id="167" idx="3"/>
            <a:endCxn id="178" idx="1"/>
          </p:cNvCxnSpPr>
          <p:nvPr/>
        </p:nvCxnSpPr>
        <p:spPr>
          <a:xfrm>
            <a:off x="6019560" y="44953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8" idx="2"/>
            <a:endCxn id="173" idx="0"/>
          </p:cNvCxnSpPr>
          <p:nvPr/>
        </p:nvCxnSpPr>
        <p:spPr>
          <a:xfrm>
            <a:off x="7658280" y="4800240"/>
            <a:ext cx="2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6926040" y="3124080"/>
            <a:ext cx="1653480" cy="68904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mbio en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17760" y="3657600"/>
            <a:ext cx="84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os requisitos son la base del contrato y la base del proceso de desarrollo de softwar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Requisitos incompletos o ambiguos sólo generan problema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Hay que validar los requisitos, ojalá a través de un prototip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i los requisitos no están claros, no puedo ir a ningún lado (ando si rumbo)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os requisitos sirven para demostrarle al cliente que hemos terminado el proyec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os requisitos sirven como herramienta de negociación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Ingeniería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roceso mediante el cual se establecen los servicios que el sistema debe brindar y las restricciones que debe cumplir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s un proceso sistemático para derivar la definición del sistema a ser construid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4495680"/>
            <a:ext cx="2895840" cy="2244600"/>
            <a:chOff x="380880" y="4495680"/>
            <a:chExt cx="2895840" cy="2244600"/>
          </a:xfrm>
        </p:grpSpPr>
        <p:grpSp>
          <p:nvGrpSpPr>
            <p:cNvPr id="48" name=""/>
            <p:cNvGrpSpPr/>
            <p:nvPr/>
          </p:nvGrpSpPr>
          <p:grpSpPr>
            <a:xfrm>
              <a:off x="380880" y="4495680"/>
              <a:ext cx="2895840" cy="2244600"/>
              <a:chOff x="380880" y="4495680"/>
              <a:chExt cx="2895840" cy="2244600"/>
            </a:xfrm>
          </p:grpSpPr>
          <p:sp>
            <p:nvSpPr>
              <p:cNvPr id="49" name=""/>
              <p:cNvSpPr/>
              <p:nvPr/>
            </p:nvSpPr>
            <p:spPr>
              <a:xfrm>
                <a:off x="380880" y="4495680"/>
                <a:ext cx="2895840" cy="1827360"/>
              </a:xfrm>
              <a:custGeom>
                <a:avLst/>
                <a:gdLst/>
                <a:ahLst/>
                <a:rect l="l" t="t" r="r" b="b"/>
                <a:pathLst>
                  <a:path w="8046" h="5082">
                    <a:moveTo>
                      <a:pt x="718" y="1684"/>
                    </a:moveTo>
                    <a:cubicBezTo>
                      <a:pt x="569" y="1056"/>
                      <a:pt x="1266" y="463"/>
                      <a:pt x="1962" y="463"/>
                    </a:cubicBezTo>
                    <a:cubicBezTo>
                      <a:pt x="2182" y="458"/>
                      <a:pt x="2409" y="519"/>
                      <a:pt x="2596" y="611"/>
                    </a:cubicBezTo>
                    <a:cubicBezTo>
                      <a:pt x="2774" y="326"/>
                      <a:pt x="3106" y="152"/>
                      <a:pt x="3478" y="152"/>
                    </a:cubicBezTo>
                    <a:cubicBezTo>
                      <a:pt x="3726" y="162"/>
                      <a:pt x="3988" y="246"/>
                      <a:pt x="4175" y="399"/>
                    </a:cubicBezTo>
                    <a:cubicBezTo>
                      <a:pt x="4309" y="148"/>
                      <a:pt x="4592" y="0"/>
                      <a:pt x="4897" y="0"/>
                    </a:cubicBezTo>
                    <a:cubicBezTo>
                      <a:pt x="5154" y="0"/>
                      <a:pt x="5389" y="108"/>
                      <a:pt x="5538" y="272"/>
                    </a:cubicBezTo>
                    <a:cubicBezTo>
                      <a:pt x="5709" y="103"/>
                      <a:pt x="5966" y="0"/>
                      <a:pt x="6234" y="0"/>
                    </a:cubicBezTo>
                    <a:cubicBezTo>
                      <a:pt x="6670" y="0"/>
                      <a:pt x="7039" y="265"/>
                      <a:pt x="7117" y="637"/>
                    </a:cubicBezTo>
                    <a:cubicBezTo>
                      <a:pt x="7538" y="740"/>
                      <a:pt x="7843" y="1077"/>
                      <a:pt x="7843" y="1463"/>
                    </a:cubicBezTo>
                    <a:cubicBezTo>
                      <a:pt x="7843" y="1580"/>
                      <a:pt x="7821" y="1693"/>
                      <a:pt x="7758" y="1801"/>
                    </a:cubicBezTo>
                    <a:cubicBezTo>
                      <a:pt x="7936" y="1990"/>
                      <a:pt x="8045" y="2222"/>
                      <a:pt x="8045" y="2460"/>
                    </a:cubicBezTo>
                    <a:cubicBezTo>
                      <a:pt x="8045" y="2999"/>
                      <a:pt x="7564" y="3453"/>
                      <a:pt x="6946" y="3530"/>
                    </a:cubicBezTo>
                    <a:cubicBezTo>
                      <a:pt x="6946" y="4045"/>
                      <a:pt x="6469" y="4450"/>
                      <a:pt x="5873" y="4450"/>
                    </a:cubicBezTo>
                    <a:cubicBezTo>
                      <a:pt x="5668" y="4450"/>
                      <a:pt x="5475" y="4401"/>
                      <a:pt x="5303" y="4307"/>
                    </a:cubicBezTo>
                    <a:cubicBezTo>
                      <a:pt x="5147" y="4761"/>
                      <a:pt x="4651" y="5081"/>
                      <a:pt x="4096" y="5081"/>
                    </a:cubicBezTo>
                    <a:cubicBezTo>
                      <a:pt x="3683" y="5081"/>
                      <a:pt x="3292" y="4890"/>
                      <a:pt x="3057" y="4589"/>
                    </a:cubicBezTo>
                    <a:cubicBezTo>
                      <a:pt x="2838" y="4704"/>
                      <a:pt x="2953" y="4772"/>
                      <a:pt x="2324" y="4772"/>
                    </a:cubicBezTo>
                    <a:cubicBezTo>
                      <a:pt x="1806" y="4772"/>
                      <a:pt x="1329" y="4535"/>
                      <a:pt x="1080" y="4149"/>
                    </a:cubicBezTo>
                    <a:cubicBezTo>
                      <a:pt x="484" y="4140"/>
                      <a:pt x="178" y="3834"/>
                      <a:pt x="178" y="3448"/>
                    </a:cubicBezTo>
                    <a:cubicBezTo>
                      <a:pt x="178" y="3269"/>
                      <a:pt x="256" y="3107"/>
                      <a:pt x="398" y="2973"/>
                    </a:cubicBezTo>
                    <a:cubicBezTo>
                      <a:pt x="141" y="2860"/>
                      <a:pt x="0" y="2636"/>
                      <a:pt x="0" y="2380"/>
                    </a:cubicBezTo>
                    <a:cubicBezTo>
                      <a:pt x="0" y="2020"/>
                      <a:pt x="312" y="1724"/>
                      <a:pt x="718" y="1684"/>
                    </a:cubicBezTo>
                    <a:lnTo>
                      <a:pt x="718" y="168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360" y="5101560"/>
                <a:ext cx="21960" cy="6480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0" y="0"/>
                    </a:moveTo>
                    <a:cubicBezTo>
                      <a:pt x="8" y="59"/>
                      <a:pt x="41" y="124"/>
                      <a:pt x="6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15440" y="4714560"/>
                <a:ext cx="93240" cy="59760"/>
              </a:xfrm>
              <a:custGeom>
                <a:avLst/>
                <a:gdLst/>
                <a:ahLst/>
                <a:rect l="l" t="t" r="r" b="b"/>
                <a:pathLst>
                  <a:path w="261" h="168">
                    <a:moveTo>
                      <a:pt x="0" y="0"/>
                    </a:moveTo>
                    <a:cubicBezTo>
                      <a:pt x="85" y="45"/>
                      <a:pt x="189" y="106"/>
                      <a:pt x="26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59400" y="4638240"/>
                <a:ext cx="23400" cy="60120"/>
              </a:xfrm>
              <a:custGeom>
                <a:avLst/>
                <a:gdLst/>
                <a:ahLst/>
                <a:rect l="l" t="t" r="r" b="b"/>
                <a:pathLst>
                  <a:path w="68" h="166">
                    <a:moveTo>
                      <a:pt x="67" y="0"/>
                    </a:moveTo>
                    <a:cubicBezTo>
                      <a:pt x="37" y="50"/>
                      <a:pt x="18" y="109"/>
                      <a:pt x="0" y="1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329200" y="45939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123" y="0"/>
                    </a:moveTo>
                    <a:cubicBezTo>
                      <a:pt x="67" y="57"/>
                      <a:pt x="37" y="132"/>
                      <a:pt x="0" y="2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41920" y="472392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46" h="159">
                    <a:moveTo>
                      <a:pt x="0" y="0"/>
                    </a:moveTo>
                    <a:cubicBezTo>
                      <a:pt x="8" y="42"/>
                      <a:pt x="45" y="136"/>
                      <a:pt x="30" y="15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75120" y="5142960"/>
                <a:ext cx="96480" cy="112320"/>
              </a:xfrm>
              <a:custGeom>
                <a:avLst/>
                <a:gdLst/>
                <a:ahLst/>
                <a:rect l="l" t="t" r="r" b="b"/>
                <a:pathLst>
                  <a:path w="269" h="314">
                    <a:moveTo>
                      <a:pt x="268" y="0"/>
                    </a:moveTo>
                    <a:cubicBezTo>
                      <a:pt x="204" y="120"/>
                      <a:pt x="119" y="226"/>
                      <a:pt x="0" y="31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59320" y="5465160"/>
                <a:ext cx="232920" cy="301320"/>
              </a:xfrm>
              <a:custGeom>
                <a:avLst/>
                <a:gdLst/>
                <a:ahLst/>
                <a:rect l="l" t="t" r="r" b="b"/>
                <a:pathLst>
                  <a:path w="649" h="838">
                    <a:moveTo>
                      <a:pt x="618" y="837"/>
                    </a:moveTo>
                    <a:cubicBezTo>
                      <a:pt x="648" y="647"/>
                      <a:pt x="477" y="176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8160" y="5964840"/>
                <a:ext cx="16920" cy="8064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224"/>
                    </a:moveTo>
                    <a:cubicBezTo>
                      <a:pt x="30" y="146"/>
                      <a:pt x="41" y="75"/>
                      <a:pt x="4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34240" y="6072840"/>
                <a:ext cx="48960" cy="74160"/>
              </a:xfrm>
              <a:custGeom>
                <a:avLst/>
                <a:gdLst/>
                <a:ahLst/>
                <a:rect l="l" t="t" r="r" b="b"/>
                <a:pathLst>
                  <a:path w="135" h="206">
                    <a:moveTo>
                      <a:pt x="134" y="205"/>
                    </a:moveTo>
                    <a:cubicBezTo>
                      <a:pt x="74" y="144"/>
                      <a:pt x="37" y="7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9680" y="5972760"/>
                <a:ext cx="74160" cy="15480"/>
              </a:xfrm>
              <a:custGeom>
                <a:avLst/>
                <a:gdLst/>
                <a:ahLst/>
                <a:rect l="l" t="t" r="r" b="b"/>
                <a:pathLst>
                  <a:path w="209" h="46">
                    <a:moveTo>
                      <a:pt x="0" y="45"/>
                    </a:moveTo>
                    <a:cubicBezTo>
                      <a:pt x="70" y="36"/>
                      <a:pt x="141" y="21"/>
                      <a:pt x="20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23440" y="5564880"/>
                <a:ext cx="169560" cy="41040"/>
              </a:xfrm>
              <a:custGeom>
                <a:avLst/>
                <a:gdLst/>
                <a:ahLst/>
                <a:rect l="l" t="t" r="r" b="b"/>
                <a:pathLst>
                  <a:path w="470" h="116">
                    <a:moveTo>
                      <a:pt x="0" y="0"/>
                    </a:moveTo>
                    <a:cubicBezTo>
                      <a:pt x="123" y="61"/>
                      <a:pt x="264" y="115"/>
                      <a:pt x="469" y="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77520" y="6171120"/>
                <a:ext cx="482400" cy="304560"/>
              </a:xfrm>
              <a:custGeom>
                <a:avLst/>
                <a:gdLst/>
                <a:ahLst/>
                <a:rect l="l" t="t" r="r" b="b"/>
                <a:pathLst>
                  <a:path w="1342" h="848">
                    <a:moveTo>
                      <a:pt x="670" y="0"/>
                    </a:moveTo>
                    <a:cubicBezTo>
                      <a:pt x="1050" y="0"/>
                      <a:pt x="1341" y="183"/>
                      <a:pt x="1341" y="423"/>
                    </a:cubicBezTo>
                    <a:cubicBezTo>
                      <a:pt x="1341" y="663"/>
                      <a:pt x="1050" y="847"/>
                      <a:pt x="670" y="847"/>
                    </a:cubicBezTo>
                    <a:cubicBezTo>
                      <a:pt x="290" y="847"/>
                      <a:pt x="0" y="663"/>
                      <a:pt x="0" y="423"/>
                    </a:cubicBezTo>
                    <a:cubicBezTo>
                      <a:pt x="0" y="183"/>
                      <a:pt x="290" y="0"/>
                      <a:pt x="670" y="0"/>
                    </a:cubicBezTo>
                    <a:lnTo>
                      <a:pt x="670" y="0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7840" y="6446880"/>
                <a:ext cx="321840" cy="203040"/>
              </a:xfrm>
              <a:custGeom>
                <a:avLst/>
                <a:gdLst/>
                <a:ahLst/>
                <a:rect l="l" t="t" r="r" b="b"/>
                <a:pathLst>
                  <a:path w="895" h="566">
                    <a:moveTo>
                      <a:pt x="447" y="0"/>
                    </a:moveTo>
                    <a:cubicBezTo>
                      <a:pt x="700" y="0"/>
                      <a:pt x="894" y="122"/>
                      <a:pt x="894" y="282"/>
                    </a:cubicBezTo>
                    <a:cubicBezTo>
                      <a:pt x="894" y="442"/>
                      <a:pt x="700" y="565"/>
                      <a:pt x="447" y="565"/>
                    </a:cubicBezTo>
                    <a:cubicBezTo>
                      <a:pt x="194" y="565"/>
                      <a:pt x="0" y="442"/>
                      <a:pt x="0" y="282"/>
                    </a:cubicBezTo>
                    <a:cubicBezTo>
                      <a:pt x="0" y="122"/>
                      <a:pt x="194" y="0"/>
                      <a:pt x="447" y="0"/>
                    </a:cubicBezTo>
                    <a:lnTo>
                      <a:pt x="447" y="0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77360" y="6639120"/>
                <a:ext cx="161640" cy="101160"/>
              </a:xfrm>
              <a:custGeom>
                <a:avLst/>
                <a:gdLst/>
                <a:ahLst/>
                <a:rect l="l" t="t" r="r" b="b"/>
                <a:pathLst>
                  <a:path w="448" h="283">
                    <a:moveTo>
                      <a:pt x="223" y="0"/>
                    </a:moveTo>
                    <a:cubicBezTo>
                      <a:pt x="350" y="0"/>
                      <a:pt x="447" y="61"/>
                      <a:pt x="447" y="141"/>
                    </a:cubicBezTo>
                    <a:cubicBezTo>
                      <a:pt x="447" y="221"/>
                      <a:pt x="350" y="282"/>
                      <a:pt x="223" y="282"/>
                    </a:cubicBezTo>
                    <a:cubicBezTo>
                      <a:pt x="96" y="282"/>
                      <a:pt x="0" y="221"/>
                      <a:pt x="0" y="141"/>
                    </a:cubicBezTo>
                    <a:cubicBezTo>
                      <a:pt x="0" y="61"/>
                      <a:pt x="96" y="0"/>
                      <a:pt x="223" y="0"/>
                    </a:cubicBezTo>
                    <a:lnTo>
                      <a:pt x="223" y="0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782640" y="4776840"/>
              <a:ext cx="1892160" cy="118728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 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248520" y="4562640"/>
            <a:ext cx="2369880" cy="1760400"/>
            <a:chOff x="6248520" y="4562640"/>
            <a:chExt cx="2369880" cy="17604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248520" y="4562640"/>
              <a:ext cx="236988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248520" y="4723920"/>
              <a:ext cx="2207880" cy="1598760"/>
            </a:xfrm>
            <a:prstGeom prst="roundRect">
              <a:avLst>
                <a:gd name="adj" fmla="val 9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352680" y="5257800"/>
            <a:ext cx="2743200" cy="534960"/>
          </a:xfrm>
          <a:custGeom>
            <a:avLst/>
            <a:gdLst/>
            <a:ahLst/>
            <a:rect l="l" t="t" r="r" b="b"/>
            <a:pathLst>
              <a:path w="7622" h="1484">
                <a:moveTo>
                  <a:pt x="0" y="370"/>
                </a:moveTo>
                <a:lnTo>
                  <a:pt x="5715" y="370"/>
                </a:lnTo>
                <a:lnTo>
                  <a:pt x="5715" y="0"/>
                </a:lnTo>
                <a:lnTo>
                  <a:pt x="7621" y="741"/>
                </a:lnTo>
                <a:lnTo>
                  <a:pt x="5715" y="1483"/>
                </a:lnTo>
                <a:lnTo>
                  <a:pt x="5715" y="1112"/>
                </a:lnTo>
                <a:lnTo>
                  <a:pt x="0" y="1112"/>
                </a:lnTo>
                <a:lnTo>
                  <a:pt x="0" y="37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68760" y="4572000"/>
            <a:ext cx="1784520" cy="8078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enierí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ontenido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Requisitos Funcionale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servicios o funciones ofrecid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Requisitos No Funcionale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otras cualidades del sistema (performance, usabilidad, etc)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Restricciones al Proceso de Desarrollo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Tiempo y costo principalment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Requisito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efinición abstracta de lo que el sistema debe hacer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efinición matemática y formal de las funciones del sistem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752480"/>
            <a:ext cx="685800" cy="3811680"/>
          </a:xfrm>
          <a:custGeom>
            <a:avLst/>
            <a:gdLst/>
            <a:ahLst/>
            <a:rect l="l" t="t" r="r" b="b"/>
            <a:pathLst>
              <a:path w="1907" h="10586">
                <a:moveTo>
                  <a:pt x="476" y="10585"/>
                </a:moveTo>
                <a:lnTo>
                  <a:pt x="476" y="2646"/>
                </a:lnTo>
                <a:lnTo>
                  <a:pt x="0" y="2646"/>
                </a:lnTo>
                <a:lnTo>
                  <a:pt x="953" y="0"/>
                </a:lnTo>
                <a:lnTo>
                  <a:pt x="1906" y="2646"/>
                </a:lnTo>
                <a:lnTo>
                  <a:pt x="1429" y="2646"/>
                </a:lnTo>
                <a:lnTo>
                  <a:pt x="1429" y="10585"/>
                </a:lnTo>
                <a:lnTo>
                  <a:pt x="476" y="1058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366840" y="3673080"/>
            <a:ext cx="1899000" cy="499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Documento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En la licitación de un gran proyecto de software,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11360" indent="-27252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Debe definir las necesidades en forma suficientemente abstracta para que la solución no esté predefinida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11360" indent="-27252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Los requisitos deben escribirse de modo que varios contratistas puedan competir por el contrato, ofreciendo quizás diferentes formas de lograr los objetivos de la empresa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11360" indent="-27252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Una vez que la licitación es adjudicada, el contratista debe escribir la definición del sistema para el cliente, en más detalle, para que el cliente entienda y pueda validar lo que el software finalmente hará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11360" indent="-27252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Ambos documentos pueden llamarse documento de requisitos del sistem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iferentes Documen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Definición de Requisitos (inicial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ervicios y cualidades que se espera del sistema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stricciones de operació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stricciones sobre la ejecución del proyecto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enguaje natural y diagrama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a información la brinda el cl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14800" y="2133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specificación de Requisit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talle de los servicios, cualidades y restricciones del sistema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lenguaje más formal y preciso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base del contrato entre desarrolladores y cl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specificación del Softwar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scripción abstracta del softwar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base para el diseño y  la implementació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grega detalles técnic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Usuarios de los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4267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Definición de Requisit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erencia del clien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usuarios fin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ngenieros del clien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erencia de desarroll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rquitectos del sistema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specificación de Requisit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usuarios fin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ngenieros del clien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rquitectos del sist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sarrolladore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Especificación del Softwar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ingenieros del clien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rquitectos del sist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iseñadores del sist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sarrolladore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Requisitos Incomple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En sistemas grandes y complejos los requisitos nunca están completos al iniciar el desarrollo del proyecto: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se espera que la nueva solución mejore la situación actual (sistema manual o anticuado); no se sabe bien en qué dirección mejorar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usuarios múltiples y diversos con distintas necesidades y prioridades; el sistema final será un compromiso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26120" indent="-27828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quien paga por el sistema no es habitualmente quien lo va a usar; las restricciones de presupuesto se contraponen a las necesidades de los usuari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646160" y="5715000"/>
            <a:ext cx="439992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arrollo incremental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quisitos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5918040"/>
            <a:ext cx="1752480" cy="382680"/>
          </a:xfrm>
          <a:custGeom>
            <a:avLst/>
            <a:gdLst/>
            <a:ahLst/>
            <a:rect l="l" t="t" r="r" b="b"/>
            <a:pathLst>
              <a:path w="4870" h="1061">
                <a:moveTo>
                  <a:pt x="0" y="265"/>
                </a:moveTo>
                <a:lnTo>
                  <a:pt x="3651" y="265"/>
                </a:lnTo>
                <a:lnTo>
                  <a:pt x="3651" y="0"/>
                </a:lnTo>
                <a:lnTo>
                  <a:pt x="4869" y="530"/>
                </a:lnTo>
                <a:lnTo>
                  <a:pt x="3651" y="1060"/>
                </a:lnTo>
                <a:lnTo>
                  <a:pt x="3651" y="795"/>
                </a:lnTo>
                <a:lnTo>
                  <a:pt x="0" y="795"/>
                </a:lnTo>
                <a:lnTo>
                  <a:pt x="0" y="265"/>
                </a:ln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Ingeniería de Requisi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onjunto de actividades que llevan a la definición y especificación de requisitos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studio de factibilidad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nálisis de requisito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obtener los requisitos observando el sistema actual, discutiendo con usuarios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desarrollo de modelos y prototipos del sistema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finición de requisito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traducción del producto del análisis a un documento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documento orientado a múltiples lectores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specificación de requisito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descripción detallada del sistema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base del contrato entre cliente y desarrolladores,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en paralelo con el diseño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sochoa</cp:lastModifiedBy>
  <dcterms:modified xsi:type="dcterms:W3CDTF">2004-08-19T19:33:17Z</dcterms:modified>
  <cp:revision>3</cp:revision>
  <dc:subject/>
  <dc:title>Análisis y Especificación de Requisitos</dc:title>
</cp:coreProperties>
</file>