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3FF-BDCD-44AE-9F82-11C6C7B9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947-A430-4ECB-8FDC-429D0C36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590-CB79-463B-9FEB-16A539CE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6D4-E133-470A-9BFE-70BBFC7D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16B-F9B3-422B-A738-62F2FF36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B2F-6C15-4DBE-92D6-AD13DAC3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AC5-ED04-4B42-92B4-01724C57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CCE-29E2-46D9-879D-21C8D742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7AC-04D2-4481-B9DA-186A422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6D4-170B-4425-8E75-97C4598E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DB1-F7A6-47C0-9CAC-64044F6B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ABF-B7A3-4CBC-AB5B-FB7598E2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520" y="2286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BBAB-C3D8-4D37-B78D-85CC817AE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0"/>
            <a:ext cx="304920" cy="68580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0"/>
            <a:ext cx="304920" cy="68580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95280" y="0"/>
            <a:ext cx="304920" cy="68580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Administración de Proyectos de softwar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Agosto 2005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338-1CF1-44BF-9422-694D010E1C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Formas de monitoreo 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llevar a cabo reuniones periódicas en las cuales los participantes informan del estado de las tareas, el progreso o los problemas encontrados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determinar si las metas están siendo cumplidas de acuerdo a lo programado (checkpoints)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comparar tiempos planeados contra tiempos reales, para las distintas tareas. Emitir alertas en caso de ser necesario (por ej. Para disparar un plan de contingencia)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5DE-BD81-4828-BB5E-203B12C52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49A-B424-461B-8B2B-4D80E85E80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310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Al detectar problemas con la planificación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signar más recursos al área afectad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Readecuar el personal en gener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ambiar la programación del proyecto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Usar técnicas de “time-box”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Básicamente, es una estrategia de tipo incremental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Al llegar al límite de tiempo de una tarea para ese incremento, esa tarea se detiene y comienza la siguient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Aunque una tarea no esté completa, muchas veces es posible postergar la última parte para el siguiente incremento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ADC-6A07-489A-BAF5-9B5B6CE428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Máximas....</a:t>
            </a: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la mayoría de las veces el administrador del proyecto marca la diferencia entre el éxito o el fracaso de un proyecto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la gestión es tan importante como la parte técnica....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... es difícil encontrar un buen administrador de proyectos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La administración de proyectos es una disciplina que se debe aprender....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 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En un equipo de trabajo, el adm. de proyectos es quien peor la pasa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9FB-31D6-47A6-9F2B-D271D94C8A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Tahoma"/>
              </a:rPr>
              <a:t>¿Cómo Mejorar la Adm. de Proyectos de Software ?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Requiere saber ¿dónde estamos hoy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?. Con exactitud !!!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quiere revis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r/rediseñar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proceso de administración de proyectos actuale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ingeniería de requisi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planificación de proyec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eguimiento y control de proyec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aseguramiento de la calidad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administración de la configuració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970-55C0-49F4-92F5-145AA84504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Malas Noticia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expansión de los sistemas de software en tamaño, complejidad, distribución e importancia empuja los límites de lo que hasta la fecha sabíamos desarrollar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Tratar de avanzar más allá de los sistemas legados, hacia tecnologías más modernas, trae su propio conjunto de problemas técnicos y organizacionale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administración de proyectos de software se hace cada vez más difícil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48B-8F69-459E-B417-922CB79605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Malas Notici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competencia obliga a las empresas de desarrollo a mejorar su productividad, manteniendo o mejorando la calidad de sus productos, realizando además desarrollos más rápidos y económic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Adicionalmente, la velocidad de preparación de personal de desarrollo calificado, es menor que la requerida. 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Además, actualmente el personal tiene competencias adicionales a las tradicionales (por ej. diseño gráfico, diseño de procesos de negocio, etc)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186-5B96-45F8-9295-8880755AC1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Malas Notici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construcción y mantención de software es una tarea difícil y será aún más difícil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Construir software de una cierta calidad, en forma repetible, es una tarea aún más difícil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Todo esto se refleja en la Administración de Proyectos.... Este es el </a:t>
            </a:r>
            <a:r>
              <a:rPr b="0" i="1" lang="es-ES_tradnl" sz="2200" spc="-1" strike="noStrike">
                <a:solidFill>
                  <a:srgbClr val="3333cc"/>
                </a:solidFill>
                <a:latin typeface="Tahoma"/>
              </a:rPr>
              <a:t>por qué?</a:t>
            </a: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 de las máximas antes mencionadas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7E6-9AC2-40C8-9E83-72F2667520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Síntomas Comu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Imprecisión en el entendimiento de las necesidades del usuario final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Falta de habilidad para manejar requisitos cambiantes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D91-FC16-46A3-8931-80F1719AB5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Síntomas Comu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Descubrimiento tardío de fallas seria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Problemas ajenos, como el Y2K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Miembros del equipo en muchas cosas, o ausentes, haciendo imposible reconstruir historia de cambi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Falta (o problemas) de comunicación entre los miembros del equipo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1A9-E278-4F44-8A5C-2EB42E130A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Estructura de la Presentación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752480"/>
            <a:ext cx="746748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CDF-8BA9-46C1-87E2-73CD28CD5E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Deficiencias Comu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Administraci</a:t>
            </a: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ón de requisitos ad-hoc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Comunicación ambigua e imprecis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Responsabilidades y roles difus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Arquitectura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“escabrosas”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jidad muy grande. Falta de segmentación del problema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consistencias no detectadas en requisitos, diseño e implementación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steo insuficiente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F6F-54B4-42DD-828C-DF1D34BB3F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Deficiencias Comu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Evaluación subjetiva del estado del proyect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Incapacidad de los miembros para trabajar en grup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Fallas para analizar y atacar los riesgos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Propagación de cambios no controlada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Automatización insuficiente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449-D043-4289-A41D-384DA8591B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Buenas Prácticas de Softwar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Para construir buen software no basta con ser buen programador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Para ello, hay que conocer, planificar y controlar los procesos y recursos asignados a un proyecto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Existe una nueva ola en ingeniería de software, basada en dichos principios, que permite visualizar el futuro en forma más optimist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029-4DA7-4DFB-A619-3B32FE19E8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Conclusio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a planificación del proyecto provee una definición de cada macro-tarea, junto con estimaciones de tiempos y recursos requerid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a planificación del proyecto provee además un marco de referencia para monitoreo y control de estas tarea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a planificación del proyecto se desarrolla al comienzo pero es continuamente refinada a medida que el trabajo progres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00D-A55A-4283-91B5-9381A5F27D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Conclusio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Hay que controlar (monitorear) todo... pero el monitoreo es un medio, no un fin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Cita clásica…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Es necesario ir comparando las estimaciones iniciales, con las reales, tan pronto como se pued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Hay que reaccionar rápido ante los riesgos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10D-42DF-438D-83B7-7913E6C025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Conclusio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os modelos de estimación de esfuerzo son útiles, pero deben ser usados con cuidado. Modelos no calibrados pueden generar errores de hasta un 500% o má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No hay modelo que pueda captar las características del producto, del equipo de desarrollo, etc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Una buena intuición soportada por experiencia documentada (información histórica) generalmente es más precisa que cualquier modelo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A35-D522-47B6-BAF6-E0E74C94F2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80773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Napole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i no estamos convencidos,.... no podremos administrar nada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administración (o gestión) requiere: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y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contro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601-1677-4CAF-B934-27FF0123C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69960"/>
            <a:ext cx="8126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consiste en establecer los hitos y las actividades para chequear el avance del proyect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del proyecto consiste en redefinir la planificación sobre la marcha. Aportando medidas para palear los desfasajes respecto a la planificación inicia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control (o seguimiento)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3333cc"/>
                </a:solidFill>
                <a:latin typeface="Arial"/>
              </a:rPr>
              <a:t>Para hacer esto hay que seguir una serie de Principios Básicos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E00-913D-4F95-8B79-585AFB8CA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0464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Segmentación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l proyecto debe ser separado en un número manejable de actividades y tarea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Interdependencia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Asignación de tiempo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a cada tarea se le debe asignar un cierto número de unidades de trabajo (personas-días, etc) y fechas de inicio y términ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Validación del esfuerzo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– se debe verificar que la gente afectada a una tarea esté disponible, que la cantidad no esté sobredimensionada, y además que sea suficient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31B-3C6D-45C4-AA3A-F2950FC914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469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imes New Roman"/>
              </a:rPr>
              <a:t>•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Definición de responsabilidades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- cada tarea debe tener un responsable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Salida definida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Definición de metas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- cada grupo de tareas debe estar asociado con una met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525-414D-44C5-BE12-B6C636CB45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lanificación de Tarea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2104560"/>
            <a:ext cx="812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Se pueden usar cosas como PERT o CPM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Cualquiera de estos métodos provee mecanismos para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determinar la ruta crítica (secuencia de tareas que define la duración del proyecto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stablecer estimaciones probables para tareas individual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alcular tiempos límites que definen ventanas de tiempo para las distintas actividad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xisten herramientas de software para ello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13C-867E-4883-8E30-A39D339470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Planificación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1FD-8F44-4234-92F7-8DE944378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Hay que contrastar la realidad contra lo planificado, ... y generar planes de contingencia, en caso de ser necesari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61880" indent="-461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Hay que monitorear (controlar) todo, así me aseguraré de tener “las riendas el proyecto”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61880" indent="-461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Monitorear es un medio.... No un fin...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1BC-3E4E-40AB-BDC5-3CA8A27F83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8:04:03Z</dcterms:created>
  <dc:creator>Cecilia Bastarrica</dc:creator>
  <dc:description/>
  <dc:language>en-US</dc:language>
  <cp:lastModifiedBy>Sergio F. Ochoa</cp:lastModifiedBy>
  <cp:lastPrinted>2001-08-20T21:01:48Z</cp:lastPrinted>
  <dcterms:modified xsi:type="dcterms:W3CDTF">2005-08-18T20:36:09Z</dcterms:modified>
  <cp:revision>61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