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303-8B24-4415-B4DA-17A00EB6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50F-3E7A-4772-AE5C-E0F4951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E69-1A21-4B05-93BE-8D723482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D3F-DA2D-47F7-B5BC-3345EBDB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658-0C6B-4A8F-B28A-CE038344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443-6105-46B3-9C31-02FC488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C2B-1659-47D5-9044-EC37590A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88A-8F9F-4910-A93E-2118BF47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F4C-5204-48AF-A23C-07DDA3BE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361A-6C82-4DC8-858E-3B9C18E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412-579C-424F-B948-1E26B7D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996-4B52-4ABE-9308-3FDA9B2B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520" y="2286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192E-F229-4D27-B47A-6BF3FA7F7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0"/>
            <a:ext cx="304920" cy="68580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dministración de Proyecto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gosto 2005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F93-5030-4559-9A32-A90B765782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Formas de monitoreo 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llevar a cabo reuniones periódicas en las cuales los participantes informan del estado de las tareas, el progreso o los problemas encontrado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determinar si las metas están siendo cumplidas de acuerdo a lo programado (checkpoints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–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comparar tiempos planeados contra tiempos reales, para las distintas tareas. Emitir alertas en caso de ser necesario (por ej. Para disparar un plan de contingencia)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790-9B4D-46D9-B68F-E5DBCB62F1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828800"/>
          <a:ext cx="73915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3915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AD6-B670-40A3-B932-82ED60ACB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310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l detectar problemas con la planificación: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Asignar más recursos al área afectada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Readecuar el personal en general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mbiar la programación del proyect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Usar técnicas de “time-box”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Básicamente, es una estrategia de tipo incremental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Se define la entrega del primer incremento, y luego se reajustan todas las tareas de acuerdo a este incremento.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l llegar al límite de tiempo de una tarea para ese incremento, esa tarea se detiene y comienza la siguiente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Arial"/>
              </a:rPr>
              <a:t>Aunque una tarea no esté completa, muchas veces es posible postergar la última parte para el siguiente incremento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24E-407A-4DFC-A604-5D61F9A2EF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Máximas....</a:t>
            </a: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mayoría de las veces el administrador del proyecto marca la diferencia entre el éxito o el fracaso de un proyecto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gestión es tan importante como la parte técnica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... es difícil encontrar un buen administrador de proyectos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La administración de proyectos es una disciplina que se debe aprender....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“ </a:t>
            </a:r>
            <a:r>
              <a:rPr b="0" lang="es-ES" sz="2200" spc="-1" strike="noStrike">
                <a:solidFill>
                  <a:srgbClr val="3333cc"/>
                </a:solidFill>
                <a:latin typeface="Tahoma"/>
              </a:rPr>
              <a:t>En un equipo de trabajo, el adm. de proyectos es quien peor la pasa”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8AD-4FDA-4764-83E8-DD5C3D45F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ahoma"/>
              </a:rPr>
              <a:t>¿Cómo Mejorar la Adm. de Proyectos de Software ?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Requiere saber ¿dónde estamos hoy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?. Con exactitud !!!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quiere revis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r/rediseñar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proceso de administración de proyectos actuale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ingeniería de requisi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planificación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seguimiento y control de proyecto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El aseguramiento de la calidad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-28548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La administración de la configuración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C23-C44C-431E-B767-7AAD8A8F73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expansión de los sistemas de software en tamaño, complejidad, distribución e importancia empuja los límites de lo que hasta la fecha sabíamos desarrolla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ratar de avanzar más allá de los sistemas legados, hacia tecnologías más modernas, trae su propio conjunto de problemas técnicos y organizacionale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administración de proyectos de software se hace cada vez más difícil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CCC-DED1-464B-ADCF-C702FA4E38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mpetencia obliga a las empresas de desarrollo a mejorar su productividad, manteniendo o mejorando la calidad de sus productos, realizando además desarrollos más rápidos y económic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icionalmente, la velocidad de preparación de personal de desarrollo calificado, es menor que la requerida. 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emás, actualmente el personal tiene competencias adicionales a las tradicionales (por ej. diseño gráfico, diseño de procesos de negocio, etc)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58B-078E-4248-A0BD-E1AB8F5D1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Malas Notici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La construcción y mantención de software es una tarea difícil y será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Construir software de una cierta calidad, en forma repetible, es una tarea aún más difícil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Todo esto se refleja en la Administración de Proyectos.... Este es el </a:t>
            </a:r>
            <a:r>
              <a:rPr b="0" i="1" lang="es-ES_tradnl" sz="2200" spc="-1" strike="noStrike">
                <a:solidFill>
                  <a:srgbClr val="3333cc"/>
                </a:solidFill>
                <a:latin typeface="Tahoma"/>
              </a:rPr>
              <a:t>por qué?</a:t>
            </a: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 de las máximas antes mencionadas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614-C06F-45EE-83F7-353479B3E5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mprecisión en el entendimiento de las necesidades del usuario final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ta de habilidad para manejar requisitos cambiante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Módulos que no calzan...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Software que es difícil de mantener o extender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16A-FA75-4695-B4E0-638E5537B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Síntom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Descubrimiento tardío de fallas seri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roblemas ajenos, como el Y2K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Miembros del equipo en muchas cosas, o ausentes, haciendo imposible reconstruir historia de cambi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Falta (o problemas) de comunicación entre los miembros del equip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949-E556-41BC-9923-D03C30D746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Estructura de la Presentación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752480"/>
            <a:ext cx="746748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incipi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fic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las Noti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íntom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ciencias Com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3F7-C4EC-4B16-A0DA-043E407C1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Administraci</a:t>
            </a: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ón de requisitos ad-ho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Comunicación ambigua e impreci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Responsabilidades y roles difus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Tahoma"/>
              </a:rPr>
              <a:t>Arquitectur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escabrosas”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jidad muy grande. Falta de segmentación del problema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consistencias no detectadas en requisitos, diseño e implementació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eo insuficient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F55-E1ED-4310-9288-F6A0B00A30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Deficiencias Comu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Evaluación subjetiva del estado del proyec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Incapacidad de los miembros para trabajar en grup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Fallas para analizar y atacar los riesgos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Propagación de cambios no controlada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33cc"/>
                </a:solidFill>
                <a:latin typeface="Tahoma"/>
              </a:rPr>
              <a:t>Automatización insuficiente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B17-A6F2-4A61-A5EA-4A55D25D48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Buenas Prácticas de Softwa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construir buen software no basta con ser buen programador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Para ello, hay que conocer, planificar y controlar los procesos y recursos asignados a un proyect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ahoma"/>
              </a:rPr>
              <a:t>Existe una nueva ola en ingeniería de software, basada en dichos principios, que permite visualizar el futuro en forma más optimis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678-2E2F-4456-A6E9-0B5F054397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305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una definición de cada macro-tarea, junto con estimaciones de tiempos y recursos requeri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provee además un marco de referencia para monitoreo y control de estas tarea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a planificación del proyecto se desarrolla al comienzo pero es continuamente refinada a medida que el trabajo progres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alvo raras excepciones, los recursos y tiempos estimados inicialmente, difícilmente son alcanz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A1E-11FF-44EC-A1FA-80ECC25FDE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controlar (monitorear) todo... pero el monitoreo es un medio, no un fin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Si el trabajo no coincide con los tiempos y recursos asignados, debe recortarse la tarea, o aumentarse los tiempos y/o recursos asignado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Cita clásica…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 se incorpora más gente a un proyecto que ya está atrasado, éste se atrasará aún más” (Brooks, 1975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Es necesario ir comparando las estimaciones iniciales, con las reales, tan pronto como se pued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Hay que reaccionar rápido ante los riesg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1D0-EDA5-42CA-8650-ADBB9BBCF9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Conclusione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Los modelos de estimación de esfuerzo son útiles, pero deben ser usados con cuidado. Modelos no calibrados pueden generar errores de hasta un 500% o más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No hay modelo que pueda captar las características del producto, del equipo de desarrollo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Arial"/>
              </a:rPr>
              <a:t>Una buena intuición soportada por experiencia documentada (información histórica) generalmente es más precisa que cualquier modelo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E2A-AA25-4C52-B688-F1FD01E976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276640"/>
            <a:ext cx="80773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ualquier comandante que acepta llevar a cabo un plan que él considera defectuoso es culpable; él debe exponer sus razones, e insistir en los cambios necesarios y finalmente ofrecer su dimisión antes de ser el instrumento de la derrota de su ejército”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Napole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i no estamos convencidos,.... no podremos administrar nada.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administración (o gestión) requiere: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y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distribuir la estimación del esfuerzo a lo largo del proyecto asignan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F41-FF1E-45EF-AEA3-62C005BDB7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469960"/>
            <a:ext cx="8126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consiste en establecer los hitos y las actividades para chequear el avance del proyect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planificación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redefinir la planificación sobre la marcha. Aportando medidas para palear los desfasajes respecto a la planificación inicial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l </a:t>
            </a: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trol (o seguimiento)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 del proyecto consiste en ejecutar las actividades de revisión previstas en la etapa de planificación, y comparar los resultados contra lo planificad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3333cc"/>
                </a:solidFill>
                <a:latin typeface="Arial"/>
              </a:rPr>
              <a:t>Para hacer esto hay que seguir una serie de Principios Básicos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6E4-27D1-41A1-865E-1390CC41C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04640"/>
            <a:ext cx="77724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Segmentación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el proyecto debe ser separado en un número manejable de actividades y tareas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terdependencia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la planificación debe reflejar la segmentación de tareas, y la relaciones entre ellas. Algunas tareas ocurren en secuencia, otras en paralelo, algunas son requisito de otras, etc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signación de tiemp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- a cada tarea se le debe asignar un cierto número de unidades de trabajo (personas-días, etc) y fechas de inicio y términ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Validación del esfuerzo 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– se debe verificar que la gente afectada a una tarea esté disponible, que la cantidad no esté sobredimensionada, y además que sea suficiente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9AE-76EB-4FCA-98B5-0D96EBD21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rincipios Básicos de la Adm. de Proyecto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469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responsabilidade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 responsable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alida definida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tarea debe tener una salida o producto bien definido. Por ejemplo: diseño de un módulo, plan de pruebas, etc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• </a:t>
            </a: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Definición de metas </a:t>
            </a:r>
            <a:r>
              <a:rPr b="0" lang="es-ES" sz="2200" spc="-1" strike="noStrike">
                <a:solidFill>
                  <a:srgbClr val="3333cc"/>
                </a:solidFill>
                <a:latin typeface="Arial"/>
              </a:rPr>
              <a:t>- cada grupo de tareas debe estar asociado con una meta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A82-E9CC-4537-A60E-78EF1AFFA5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Planificación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2104560"/>
            <a:ext cx="8126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Se pueden usar cosas como PERT o CPM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cc"/>
                </a:solidFill>
                <a:latin typeface="Arial"/>
              </a:rPr>
              <a:t>Cualquiera de estos métodos provee mecanismos para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determinar la ruta crítica (secuencia de tareas que define la duración del proyecto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stablecer estimaciones probables para tareas individual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calcular tiempos límites que definen ventanas de tiempo para las distintas actividade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emprano que una actividad puede empezar si todas las precedentes se completan en el mínimo tiemp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2" marL="120492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lo más tarde que puede comenzar una tarea sin aumentar el tiempo mínimo del proyecto</a:t>
            </a:r>
            <a:endParaRPr b="0" lang="en-US" sz="1600" spc="-1" strike="noStrike">
              <a:solidFill>
                <a:srgbClr val="3333cc"/>
              </a:solidFill>
              <a:latin typeface="Tahoma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existen herramientas de software para ello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931-54EA-4125-A556-A216A07E5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Planificación de Tareas (cont...)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1752480"/>
          <a:ext cx="6172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6172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6D5-B583-41EB-B8D5-495CF00FDA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Control de Tareas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contrastar la realidad contra lo planificado, ... y generar planes de contingencia, en caso de ser necesario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Hay que monitorear (controlar) todo, así me aseguraré de tener “las riendas el proyecto”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461880" indent="-461880"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Monitorear es un medio.... No un fin....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2120" y="1676520"/>
          <a:ext cx="7924680" cy="22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9246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DEC-3DE8-4828-83E9-7D9DB26C3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8:04:03Z</dcterms:created>
  <dc:creator>Cecilia Bastarrica</dc:creator>
  <dc:description/>
  <dc:language>en-US</dc:language>
  <cp:lastModifiedBy>Sergio F. Ochoa</cp:lastModifiedBy>
  <cp:lastPrinted>2001-08-20T21:01:48Z</cp:lastPrinted>
  <dcterms:modified xsi:type="dcterms:W3CDTF">2005-08-18T20:36:09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