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D3B-AC32-4D99-8CBE-2F110954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5C3-9B48-46AA-9741-B2FA698C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168-0D94-4E52-8ADE-C2FD47FB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C4F-98DC-4689-8B58-612876BE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136-8D04-430A-BF61-1B1EEAC7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5F8-EFA2-4268-B85F-BC348F26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497-C067-4D4C-B1FB-46DFDB7E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3D5-7EF0-410C-A92A-0850471F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FDE-7873-4589-A7C8-EAAE968F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C8F-6AE2-4C01-894B-4F225F50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A48-FA5C-4DC0-B3B0-5D3DBF98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664-3E14-4F1C-A720-DC699025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305D-15BB-44B2-85E0-7551ACA7F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a50021"/>
                </a:solidFill>
                <a:latin typeface="Arial"/>
              </a:rPr>
              <a:t>¿Qué es un buen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495440" cy="1623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portable si puede ejecutarse en </a:t>
            </a:r>
            <a:br>
              <a:rPr sz="2400"/>
            </a:b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distintos ambientes (hardware, sistemas operativos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or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a forma de lograr portabilidad es suponer la mínima configu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 penaliza los sistemas que podrían ejecutar mejor haciendo uso del ambiente dispon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tra opción es determinar sobre la marcha las disponibilidades del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BBE-3EF0-4208-B479-A0436D0EA4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268280" cy="167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46280" y="1716120"/>
            <a:ext cx="72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es interoperable si puede coexistir y cooperar con otros sist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Interoper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componentes reutilizables son (deben ser) inherentemente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estandarización de las interfaces promueve la interoper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sistemas abiertos son casos típicos de sistemas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E25-E291-4542-ACC8-697836C0AAE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81680" y="396720"/>
            <a:ext cx="2057400" cy="1965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5040" y="179244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La productividad es la eficiencia del proceso de desarrollo del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roductiv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productividad de un equipo de desarrollo es generalmente menor que la suma de las productividades individ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isten métricas para medir la productividad (LOC, puntos de función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automatización y el soporte de software de desarrollo aumenta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818-AF96-42E3-9690-76D0AFC1A4D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229520" y="228600"/>
            <a:ext cx="1533600" cy="175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27160" y="18288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proceso de desarrollo debe obtener su producto en el tiempo plan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 Tiemp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el producto a tiempo da, en general, una mejor oportunidad comercial, y a veces hace que el producto sea útil o in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un producto a tiempo sin confiabilidad o eficiencia tampoco es 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qui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stimación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itos verifi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EED-82F6-4DBB-B9C7-3CF1018B6E9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274760" cy="1370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5040" y="1944720"/>
            <a:ext cx="786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proceso de desarrollo de software es visible si todos sus pasos están claramente documentados, y se puede saber su estado de avance en cada mo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i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eño, testing, codificación e integración pueden suceder simultáneamente, pero deben coordin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isibilidad ayuda a evaluar el impacto de la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es esencial cuando existe rotación en el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314-E2CD-496B-85F8-55B6EC6F009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17524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relación entre las partes de un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hes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incident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no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Lóg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funciones simi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Tempo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jecución simultá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cedu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secuencia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unica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el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Secuen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output de uno es input del o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Fun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partes son necesarias para la fu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Obje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acciones actúan sobre los mismos datos del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D24-8444-4BA1-AED2-CBACC9D925A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Acopl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muy 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variables o información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des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interfaces definidas con listas de paráme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00800" y="1066680"/>
            <a:ext cx="2168280" cy="1810800"/>
            <a:chOff x="6400800" y="1066680"/>
            <a:chExt cx="2168280" cy="1810800"/>
          </a:xfrm>
        </p:grpSpPr>
        <p:sp>
          <p:nvSpPr>
            <p:cNvPr id="113" name=""/>
            <p:cNvSpPr/>
            <p:nvPr/>
          </p:nvSpPr>
          <p:spPr>
            <a:xfrm>
              <a:off x="6400800" y="1066680"/>
              <a:ext cx="2136600" cy="1224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04200" y="10666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1677960"/>
              <a:ext cx="21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65960" y="1542960"/>
              <a:ext cx="276120" cy="747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69200" y="122544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72240" y="12700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69200" y="1882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1828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66000" y="2357280"/>
              <a:ext cx="116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Área de d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compart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410080" y="3429000"/>
            <a:ext cx="3353040" cy="2897640"/>
            <a:chOff x="5410080" y="3429000"/>
            <a:chExt cx="3353040" cy="2897640"/>
          </a:xfrm>
        </p:grpSpPr>
        <p:sp>
          <p:nvSpPr>
            <p:cNvPr id="123" name=""/>
            <p:cNvSpPr/>
            <p:nvPr/>
          </p:nvSpPr>
          <p:spPr>
            <a:xfrm>
              <a:off x="6477120" y="3429000"/>
              <a:ext cx="121896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7712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9400" y="3429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30120" y="3733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008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008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2720" y="44956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3080" y="480060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4380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4380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96080" y="449568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96800" y="480060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0080" y="571500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6019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720" y="5715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3440" y="6019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23" idx="2"/>
              <a:endCxn id="127" idx="0"/>
            </p:cNvCxnSpPr>
            <p:nvPr/>
          </p:nvCxnSpPr>
          <p:spPr>
            <a:xfrm flipH="1">
              <a:off x="6019200" y="4038480"/>
              <a:ext cx="10674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>
              <a:stCxn id="126" idx="2"/>
              <a:endCxn id="131" idx="0"/>
            </p:cNvCxnSpPr>
            <p:nvPr/>
          </p:nvCxnSpPr>
          <p:spPr>
            <a:xfrm>
              <a:off x="7137360" y="4038480"/>
              <a:ext cx="1016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"/>
            <p:cNvCxnSpPr>
              <a:stCxn id="127" idx="2"/>
              <a:endCxn id="135" idx="0"/>
            </p:cNvCxnSpPr>
            <p:nvPr/>
          </p:nvCxnSpPr>
          <p:spPr>
            <a:xfrm>
              <a:off x="6019560" y="5105160"/>
              <a:ext cx="108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interdependencia de distinta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771-FE4F-4AB4-A22B-3AAD71D4EBC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553080" y="2514600"/>
            <a:ext cx="1069920" cy="230184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6629400" y="762120"/>
            <a:ext cx="2209680" cy="1904400"/>
            <a:chOff x="6629400" y="762120"/>
            <a:chExt cx="2209680" cy="1904400"/>
          </a:xfrm>
        </p:grpSpPr>
        <p:sp>
          <p:nvSpPr>
            <p:cNvPr id="145" name=""/>
            <p:cNvSpPr/>
            <p:nvPr/>
          </p:nvSpPr>
          <p:spPr>
            <a:xfrm>
              <a:off x="6629400" y="1066680"/>
              <a:ext cx="30456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34160" y="1218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1680" y="21333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1880" y="2361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38880" y="16761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7621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45" idx="0"/>
              <a:endCxn id="150" idx="1"/>
            </p:cNvCxnSpPr>
            <p:nvPr/>
          </p:nvCxnSpPr>
          <p:spPr>
            <a:xfrm flipH="1" flipV="1" rot="5400000">
              <a:off x="7391160" y="304200"/>
              <a:ext cx="152640" cy="137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45" idx="2"/>
              <a:endCxn id="147" idx="0"/>
            </p:cNvCxnSpPr>
            <p:nvPr/>
          </p:nvCxnSpPr>
          <p:spPr>
            <a:xfrm flipH="1" rot="16200000">
              <a:off x="6476040" y="1675800"/>
              <a:ext cx="762120" cy="153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45" idx="3"/>
              <a:endCxn id="148" idx="0"/>
            </p:cNvCxnSpPr>
            <p:nvPr/>
          </p:nvCxnSpPr>
          <p:spPr>
            <a:xfrm>
              <a:off x="6933600" y="1218960"/>
              <a:ext cx="1600920" cy="1143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9" idx="0"/>
              <a:endCxn id="146" idx="2"/>
            </p:cNvCxnSpPr>
            <p:nvPr/>
          </p:nvCxnSpPr>
          <p:spPr>
            <a:xfrm flipH="1" flipV="1" rot="5400000">
              <a:off x="7962480" y="951480"/>
              <a:ext cx="152640" cy="1296360"/>
            </a:xfrm>
            <a:prstGeom prst="curvedConnector5">
              <a:avLst>
                <a:gd name="adj1" fmla="val 49881"/>
                <a:gd name="adj2" fmla="val 50000"/>
                <a:gd name="adj3" fmla="val 4988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3"/>
              <a:endCxn id="148" idx="1"/>
            </p:cNvCxnSpPr>
            <p:nvPr/>
          </p:nvCxnSpPr>
          <p:spPr>
            <a:xfrm>
              <a:off x="7086600" y="2286000"/>
              <a:ext cx="1296000" cy="228960"/>
            </a:xfrm>
            <a:prstGeom prst="curvedConnector5">
              <a:avLst>
                <a:gd name="adj1" fmla="val 49986"/>
                <a:gd name="adj2" fmla="val 49921"/>
                <a:gd name="adj3" fmla="val 499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stCxn id="149" idx="1"/>
              <a:endCxn id="145" idx="3"/>
            </p:cNvCxnSpPr>
            <p:nvPr/>
          </p:nvCxnSpPr>
          <p:spPr>
            <a:xfrm rot="10800000">
              <a:off x="6933240" y="1218240"/>
              <a:ext cx="30564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"/>
            <p:cNvCxnSpPr>
              <a:stCxn id="149" idx="3"/>
              <a:endCxn id="148" idx="1"/>
            </p:cNvCxnSpPr>
            <p:nvPr/>
          </p:nvCxnSpPr>
          <p:spPr>
            <a:xfrm>
              <a:off x="7543800" y="1828800"/>
              <a:ext cx="838800" cy="686160"/>
            </a:xfrm>
            <a:prstGeom prst="curvedConnector5">
              <a:avLst>
                <a:gd name="adj1" fmla="val 49978"/>
                <a:gd name="adj2" fmla="val 49973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"/>
            <p:cNvCxnSpPr>
              <a:stCxn id="150" idx="2"/>
              <a:endCxn id="147" idx="3"/>
            </p:cNvCxnSpPr>
            <p:nvPr/>
          </p:nvCxnSpPr>
          <p:spPr>
            <a:xfrm rot="5400000">
              <a:off x="7085880" y="1066680"/>
              <a:ext cx="1219680" cy="1219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59" name="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comprensible si es fácil comprender cómo funci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mpren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74284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aracterísticas que afectan la comprensibilidad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ADD-2D97-4282-9DFA-290B8179E3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486080" cy="1501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anten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Tipos de mantenimi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rrectivo (aprox. 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adaptativo (aprox. 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perfectivo (más de 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Software Manteni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reparable: que permite corregir defec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volucionable: facilita la introducción de nuevas funcional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número de componen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acoplamien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comple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comprensib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al dí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uso de componentes están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evolucionabilidad decrece con cada versión del 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mantenible si es fácil modific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909-631C-4CB4-89CC-585D5BA783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rr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nf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u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fic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mig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erific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eu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ort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Interoper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du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 Tiem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esacopl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ren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Manten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127160" cy="1585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D65-7D8A-4723-A238-788C7B8E89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rrec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281952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definición sup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existencia de un especificación de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posibilidad de determinar sin ambigüedad la correspondencia entre la especificación y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titud del software puede comprobarse probándolo o mediante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9907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pecific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819520"/>
            <a:ext cx="381240" cy="1295280"/>
          </a:xfrm>
          <a:prstGeom prst="upDownArrow">
            <a:avLst>
              <a:gd name="adj1" fmla="val 50000"/>
              <a:gd name="adj2" fmla="val 676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41911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828800"/>
            <a:ext cx="647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correcto si se comporta de acuerdo con su espec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9BC3-ABB9-499C-A283-1E70664325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7524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se comporta de acuerdo con lo esperado por el usu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629400" y="533520"/>
            <a:ext cx="2286000" cy="2286000"/>
            <a:chOff x="6629400" y="533520"/>
            <a:chExt cx="2286000" cy="2286000"/>
          </a:xfrm>
        </p:grpSpPr>
        <p:sp>
          <p:nvSpPr>
            <p:cNvPr id="56" name=""/>
            <p:cNvSpPr/>
            <p:nvPr/>
          </p:nvSpPr>
          <p:spPr>
            <a:xfrm>
              <a:off x="6629400" y="533520"/>
              <a:ext cx="2286000" cy="228600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86600" y="914400"/>
              <a:ext cx="1371600" cy="1447920"/>
            </a:xfrm>
            <a:prstGeom prst="ellipse">
              <a:avLst/>
            </a:prstGeom>
            <a:solidFill>
              <a:srgbClr val="49683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cc"/>
                  </a:solidFill>
                  <a:latin typeface="Arial"/>
                </a:rPr>
                <a:t>Corr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4000" y="233208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50440" y="6173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cc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nfi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diferencia de la corrección, la confiabilidad es algo rel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mercado puede admitir algunos errores en el software siempre que en general se comporte en forma esp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 sólo no damos garantías de corrección del software, sino que varios productos incluyen un “disclaim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0D7-3C13-4D6B-B338-1396FB54E0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467480" y="76320"/>
            <a:ext cx="1506600" cy="2819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obus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atos de entrada incorrectos o fallas de hardware son las situaciones más frecu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antidad de código que se dedica a hacer el software robusto depende de la experiencia de los usuarios o lo crítico de su m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i algo se especifica como requisito, cumplirlo es cuestión de corrección; si no está en los requisitos es cuestión de robust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A1D-63A1-45B7-A057-BFC5DBBE3E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7524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de software es eficiente si usa sus recursos en forma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Efici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uy lento </a:t>
            </a:r>
            <a:r>
              <a:rPr b="0" lang="es-AR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baja la productividad de los usu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sa mucho disco </a:t>
            </a:r>
            <a:r>
              <a:rPr b="0" lang="es-AR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puede ser muy caro ejecut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sa mucha memoria </a:t>
            </a:r>
            <a:r>
              <a:rPr b="0" lang="es-AR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puede afectar la performance de otros sist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os criterios de eficiencia varían con la tecnología y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étodos de evaluación de perform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onitore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nális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imu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No es bueno evaluar la performance sólo después que el producto esta li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76520" cy="1647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A129-DB11-4F8D-95A6-6AD3962051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amigable si sus usuarios lo encuentran fácil de uti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mig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interfaz con el usuario es parte esencial del ser amig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pende de los usua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ovicios: mejor largos mensajes explic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xpertos: aprecian los ata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2819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os sistemas insertos son amigables si son fáciles de configu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consistencia de las interfaces es un factor determin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ambién la performance y la confi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15000" y="380880"/>
            <a:ext cx="3138480" cy="1336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2C6-496A-490D-8207-9562981B13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7524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es verificable si sus propiedades pueden ser comprob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erific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971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2E9-DA57-492D-AD66-8B5C1FF4CC0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676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17524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Software ya construido se usa con pocos o ningún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eus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reutilización es más apropiada para componentes que para sistemas comp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s bibliotecas (¿librerías?) científicas FORTRAN son los ejemplos más conocidos. Java APIs son ejemplos más nue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reuso es una cualidad difícil (¿imposible?) de conseguir a posteri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orientación a objetos tiene el potencial para mejorar la reutilización y la ev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ambién los patrones de arquitectura y el desarrollo de familias de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A8E-0759-49AE-810E-D515D02462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Universidad de Chile</cp:lastModifiedBy>
  <cp:lastPrinted>2005-01-28T19:11:18Z</cp:lastPrinted>
  <dcterms:modified xsi:type="dcterms:W3CDTF">2005-01-28T19:51:23Z</dcterms:modified>
  <cp:revision>17</cp:revision>
  <dc:subject/>
  <dc:title>CC31B: Desarrollo de Software de Aplicaciones</dc:title>
</cp:coreProperties>
</file>