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B260-B511-4576-BCF5-1207F610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C2E7-3992-44B6-989C-D689B449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5D47-CC52-4E29-95E8-133B933B8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59C-0E95-47A6-8AE8-69BFC0BA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9086-0558-4FE6-BD3E-42489518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B4E8-9635-4CD9-B2D4-0788B0C4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053C-3511-4040-9E8D-8E88918B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3A63-7F4D-451D-B9D3-1C4661C9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FA74-4592-48B3-8EE2-5B2E91F8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121-4160-4E56-900A-7F6AB849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B6B3-4DC4-4A28-AB92-E12FA801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9C7E-CDC3-4A68-8E0E-57D1B3C6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cc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9803-ED85-435F-ABDB-E05C2C512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ualidades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a50021"/>
                </a:solidFill>
                <a:latin typeface="Arial"/>
              </a:rPr>
              <a:t>¿Qué es un buen softw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495440" cy="1623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3520" y="1752480"/>
            <a:ext cx="8076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portable si puede ejecutarse en </a:t>
            </a:r>
            <a:br>
              <a:rPr sz="2400"/>
            </a:b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distintos ambientes (hardware, sistemas operativos, etc.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Port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Una forma de lograr portabilidad es suponer la mínima configu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to penaliza los sistemas que podrían ejecutar mejor haciendo uso del ambiente dispon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Otra opción es determinar sobre la marcha las disponibilidades del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5065-8F81-4C4D-B678-FD120DDC17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391520" y="304920"/>
            <a:ext cx="1268280" cy="1674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46280" y="1716120"/>
            <a:ext cx="725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istema es interoperable si puede coexistir y cooperar con otros sist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Interoper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s componentes reutilizables son (deben ser) inherentemente interoper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estandarización de las interfaces promueve la interoper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os sistemas abiertos son casos típicos de sistemas interoper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9FE4-DA85-445D-8295-54AC404AD45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781680" y="396720"/>
            <a:ext cx="2057400" cy="1965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65040" y="1792440"/>
            <a:ext cx="679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La productividad es la eficiencia del proceso de desarrollo del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Productiv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productividad de un equipo de desarrollo es generalmente menor que la suma de las productividades individ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xisten métricas para medir la productividad (LOC, puntos de función,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automatización y el soporte de software de desarrollo aumentan la productiv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E4CA-E768-48B8-AB51-7AB2D03CC65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229520" y="228600"/>
            <a:ext cx="1533600" cy="1752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127160" y="1828800"/>
            <a:ext cx="59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El proceso de desarrollo debe obtener su producto en el tiempo plane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A Tiemp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ener el producto a tiempo da, en general, una mejor oportunidad comercial, y a veces hace que el producto sea útil o inút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ener un producto a tiempo sin confiabilidad o eficiencia tampoco es út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Requie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stimación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hitos verific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EF00-DA39-42A5-84A4-C84EA926D89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162920" y="457200"/>
            <a:ext cx="1274760" cy="1370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65040" y="1944720"/>
            <a:ext cx="7864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proceso de desarrollo de software es visible si todos sus pasos están claramente documentados, y se puede saber su estado de avance en cada mo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Visi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iseño, testing, codificación e integración pueden suceder simultáneamente, pero deben coordina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visibilidad ayuda a evaluar el impacto de las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También es esencial cuando existe rotación en el pers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83CF-025B-4988-8D70-AAC6A6E7B60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175248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Medida de la relación entre las partes de una compo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ohes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incident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no relacion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Lóg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funciones simil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Tempor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ejecución simultá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rocedur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secuencia de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municacion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mparten el in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25909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Secuenci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output de uno es input del o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Funciona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todas las partes son necesarias para la fun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Obje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todas las acciones actúan sobre los mismos datos del obj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00C8-CE24-46F3-A4EB-AACE94577CD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Acopl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320004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200" spc="-1" strike="noStrike">
                <a:solidFill>
                  <a:srgbClr val="000000"/>
                </a:solidFill>
                <a:latin typeface="Arial"/>
              </a:rPr>
              <a:t>Sistemas muy acopl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mparten variables o información de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75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200" spc="-1" strike="noStrike">
                <a:solidFill>
                  <a:srgbClr val="000000"/>
                </a:solidFill>
                <a:latin typeface="Arial"/>
              </a:rPr>
              <a:t>Sistemas desacopl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interfaces definidas con listas de paráme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00800" y="1066680"/>
            <a:ext cx="2168280" cy="1810800"/>
            <a:chOff x="6400800" y="1066680"/>
            <a:chExt cx="2168280" cy="1810800"/>
          </a:xfrm>
        </p:grpSpPr>
        <p:sp>
          <p:nvSpPr>
            <p:cNvPr id="113" name=""/>
            <p:cNvSpPr/>
            <p:nvPr/>
          </p:nvSpPr>
          <p:spPr>
            <a:xfrm>
              <a:off x="6400800" y="1066680"/>
              <a:ext cx="2136600" cy="1224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04200" y="106668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00800" y="1677960"/>
              <a:ext cx="213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65960" y="1542960"/>
              <a:ext cx="276120" cy="747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69200" y="122544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72240" y="1270080"/>
              <a:ext cx="93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69200" y="18828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18288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66000" y="2357280"/>
              <a:ext cx="116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400" spc="-1" strike="noStrike">
                  <a:solidFill>
                    <a:srgbClr val="000000"/>
                  </a:solidFill>
                  <a:latin typeface="Times New Roman"/>
                </a:rPr>
                <a:t>Área de da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400" spc="-1" strike="noStrike">
                  <a:solidFill>
                    <a:srgbClr val="000000"/>
                  </a:solidFill>
                  <a:latin typeface="Times New Roman"/>
                </a:rPr>
                <a:t>comparti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410080" y="3429000"/>
            <a:ext cx="3353040" cy="2897640"/>
            <a:chOff x="5410080" y="3429000"/>
            <a:chExt cx="3353040" cy="2897640"/>
          </a:xfrm>
        </p:grpSpPr>
        <p:sp>
          <p:nvSpPr>
            <p:cNvPr id="123" name=""/>
            <p:cNvSpPr/>
            <p:nvPr/>
          </p:nvSpPr>
          <p:spPr>
            <a:xfrm>
              <a:off x="6477120" y="3429000"/>
              <a:ext cx="121896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77120" y="3733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29400" y="34290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30120" y="3733560"/>
              <a:ext cx="10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10080" y="4495680"/>
              <a:ext cx="121932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10080" y="4800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62720" y="4495680"/>
              <a:ext cx="939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63080" y="480060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543800" y="4495680"/>
              <a:ext cx="121932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43800" y="4800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96080" y="449568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96800" y="4800600"/>
              <a:ext cx="10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10080" y="5715000"/>
              <a:ext cx="1219320" cy="6094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10080" y="6019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62720" y="5715000"/>
              <a:ext cx="94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Módulo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63440" y="6019560"/>
              <a:ext cx="101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Times New Roman"/>
                </a:rPr>
                <a:t>Datos de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stCxn id="123" idx="2"/>
              <a:endCxn id="127" idx="0"/>
            </p:cNvCxnSpPr>
            <p:nvPr/>
          </p:nvCxnSpPr>
          <p:spPr>
            <a:xfrm flipH="1">
              <a:off x="6019200" y="4038480"/>
              <a:ext cx="106740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0" name=""/>
            <p:cNvCxnSpPr>
              <a:stCxn id="126" idx="2"/>
              <a:endCxn id="131" idx="0"/>
            </p:cNvCxnSpPr>
            <p:nvPr/>
          </p:nvCxnSpPr>
          <p:spPr>
            <a:xfrm>
              <a:off x="7137360" y="4038480"/>
              <a:ext cx="101664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" name=""/>
            <p:cNvCxnSpPr>
              <a:stCxn id="127" idx="2"/>
              <a:endCxn id="135" idx="0"/>
            </p:cNvCxnSpPr>
            <p:nvPr/>
          </p:nvCxnSpPr>
          <p:spPr>
            <a:xfrm>
              <a:off x="6019560" y="5105160"/>
              <a:ext cx="1080" cy="610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18284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Medida de la interdependencia de distintas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5861-913C-4EF0-9327-107AF29710D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553080" y="2514600"/>
            <a:ext cx="1069920" cy="230184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6629400" y="762120"/>
            <a:ext cx="2209680" cy="1904400"/>
            <a:chOff x="6629400" y="762120"/>
            <a:chExt cx="2209680" cy="1904400"/>
          </a:xfrm>
        </p:grpSpPr>
        <p:sp>
          <p:nvSpPr>
            <p:cNvPr id="145" name=""/>
            <p:cNvSpPr/>
            <p:nvPr/>
          </p:nvSpPr>
          <p:spPr>
            <a:xfrm>
              <a:off x="6629400" y="1066680"/>
              <a:ext cx="30456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534160" y="12189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81680" y="21333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81880" y="23619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238880" y="167616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762120"/>
              <a:ext cx="304920" cy="30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>
              <a:stCxn id="145" idx="0"/>
              <a:endCxn id="150" idx="1"/>
            </p:cNvCxnSpPr>
            <p:nvPr/>
          </p:nvCxnSpPr>
          <p:spPr>
            <a:xfrm flipH="1" flipV="1" rot="5400000">
              <a:off x="7391160" y="304200"/>
              <a:ext cx="152640" cy="1372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" name=""/>
            <p:cNvCxnSpPr>
              <a:stCxn id="145" idx="2"/>
              <a:endCxn id="147" idx="0"/>
            </p:cNvCxnSpPr>
            <p:nvPr/>
          </p:nvCxnSpPr>
          <p:spPr>
            <a:xfrm flipH="1" rot="16200000">
              <a:off x="6476040" y="1675800"/>
              <a:ext cx="762120" cy="1530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45" idx="3"/>
              <a:endCxn id="148" idx="0"/>
            </p:cNvCxnSpPr>
            <p:nvPr/>
          </p:nvCxnSpPr>
          <p:spPr>
            <a:xfrm>
              <a:off x="6933600" y="1218960"/>
              <a:ext cx="1600920" cy="1143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"/>
            <p:cNvCxnSpPr>
              <a:stCxn id="149" idx="0"/>
              <a:endCxn id="146" idx="2"/>
            </p:cNvCxnSpPr>
            <p:nvPr/>
          </p:nvCxnSpPr>
          <p:spPr>
            <a:xfrm flipH="1" flipV="1" rot="5400000">
              <a:off x="7962480" y="951480"/>
              <a:ext cx="152640" cy="1296360"/>
            </a:xfrm>
            <a:prstGeom prst="curvedConnector5">
              <a:avLst>
                <a:gd name="adj1" fmla="val 49881"/>
                <a:gd name="adj2" fmla="val 50000"/>
                <a:gd name="adj3" fmla="val 4988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"/>
            <p:cNvCxnSpPr>
              <a:stCxn id="147" idx="3"/>
              <a:endCxn id="148" idx="1"/>
            </p:cNvCxnSpPr>
            <p:nvPr/>
          </p:nvCxnSpPr>
          <p:spPr>
            <a:xfrm>
              <a:off x="7086600" y="2286000"/>
              <a:ext cx="1296000" cy="228960"/>
            </a:xfrm>
            <a:prstGeom prst="curvedConnector5">
              <a:avLst>
                <a:gd name="adj1" fmla="val 49986"/>
                <a:gd name="adj2" fmla="val 49921"/>
                <a:gd name="adj3" fmla="val 4998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"/>
            <p:cNvCxnSpPr>
              <a:stCxn id="149" idx="1"/>
              <a:endCxn id="145" idx="3"/>
            </p:cNvCxnSpPr>
            <p:nvPr/>
          </p:nvCxnSpPr>
          <p:spPr>
            <a:xfrm rot="10800000">
              <a:off x="6933240" y="1218240"/>
              <a:ext cx="305640" cy="610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" name=""/>
            <p:cNvCxnSpPr>
              <a:stCxn id="149" idx="3"/>
              <a:endCxn id="148" idx="1"/>
            </p:cNvCxnSpPr>
            <p:nvPr/>
          </p:nvCxnSpPr>
          <p:spPr>
            <a:xfrm>
              <a:off x="7543800" y="1828800"/>
              <a:ext cx="838800" cy="686160"/>
            </a:xfrm>
            <a:prstGeom prst="curvedConnector5">
              <a:avLst>
                <a:gd name="adj1" fmla="val 49978"/>
                <a:gd name="adj2" fmla="val 49973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" name=""/>
            <p:cNvCxnSpPr>
              <a:stCxn id="150" idx="2"/>
              <a:endCxn id="147" idx="3"/>
            </p:cNvCxnSpPr>
            <p:nvPr/>
          </p:nvCxnSpPr>
          <p:spPr>
            <a:xfrm rot="5400000">
              <a:off x="7085880" y="1066680"/>
              <a:ext cx="1219680" cy="12196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59" name=""/>
          <p:cNvSpPr/>
          <p:nvPr/>
        </p:nvSpPr>
        <p:spPr>
          <a:xfrm>
            <a:off x="838080" y="182880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Un sistema es comprensible si es fácil comprender cómo funci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omprensi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2742840"/>
            <a:ext cx="6705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aracterísticas que afectan la comprensibilidad del sist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hesión y acop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nom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Si un sistema es comprensible, es también más mantenible y verific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esde el punto de vista del usuario, ser comprensible es ser amigable y robu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D36C-D109-4E1E-BE32-0EC6AA7FDC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086600" y="380880"/>
            <a:ext cx="1486080" cy="15019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Manteni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Tipos de mantenimi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rrectivo (aprox. 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adaptativo (aprox. 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perfectivo (más de 5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Software Mantenib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reparable: que permite corregir defect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evolucionable: facilita la introducción de nuevas funcional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960" y="25146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número de component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acoplamien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docu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complet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comprensibl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al dí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uso de componentes estánd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evolucionabilidad decrece con cada versión del soft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905120"/>
            <a:ext cx="6705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3333cc"/>
                </a:solidFill>
                <a:latin typeface="Arial"/>
              </a:rPr>
              <a:t>Un sistema es mantenible si es fácil modific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1571-B0EE-446A-9D51-7B2F343BA4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Cualidades del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rrec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nfi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obus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fici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Amig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Verific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eus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ort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Interoper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Produc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A Tiem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he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Desacopla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Compren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Manten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96080" y="4343400"/>
            <a:ext cx="1127160" cy="1585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F3F7-6A88-4405-B544-4420F322AE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Correc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2819520"/>
            <a:ext cx="5257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definición sup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existencia de un especificación de requis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posibilidad de determinar sin ambigüedad la correspondencia entre la especificación y el dise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orrectitud del software puede comprobarse probándolo o mediante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10280" y="990720"/>
            <a:ext cx="1752840" cy="17524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specificació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96080" y="2819520"/>
            <a:ext cx="381240" cy="1295280"/>
          </a:xfrm>
          <a:prstGeom prst="upDownArrow">
            <a:avLst>
              <a:gd name="adj1" fmla="val 50000"/>
              <a:gd name="adj2" fmla="val 6763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10280" y="4191120"/>
            <a:ext cx="1752840" cy="17524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828800"/>
            <a:ext cx="6476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correcto si se comporta de acuerdo con su especif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5614-7D26-406F-A839-BB95636768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1752480"/>
            <a:ext cx="6095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El software se comporta de acuerdo con lo esperado por el usu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629400" y="533520"/>
            <a:ext cx="2286000" cy="2286000"/>
            <a:chOff x="6629400" y="533520"/>
            <a:chExt cx="2286000" cy="2286000"/>
          </a:xfrm>
        </p:grpSpPr>
        <p:sp>
          <p:nvSpPr>
            <p:cNvPr id="56" name=""/>
            <p:cNvSpPr/>
            <p:nvPr/>
          </p:nvSpPr>
          <p:spPr>
            <a:xfrm>
              <a:off x="6629400" y="533520"/>
              <a:ext cx="2286000" cy="228600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86600" y="914400"/>
              <a:ext cx="1371600" cy="1447920"/>
            </a:xfrm>
            <a:prstGeom prst="ellipse">
              <a:avLst/>
            </a:prstGeom>
            <a:solidFill>
              <a:srgbClr val="49683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cc"/>
                  </a:solidFill>
                  <a:latin typeface="Arial"/>
                </a:rPr>
                <a:t>Correc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64000" y="2332080"/>
              <a:ext cx="125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Confi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450440" y="6173640"/>
            <a:ext cx="66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Clr>
                <a:srgbClr val="cc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00cc"/>
                </a:solidFill>
                <a:latin typeface="Tahoma"/>
              </a:rPr>
              <a:t>Esta es una señal de la inmadurez del á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Confi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3048120"/>
            <a:ext cx="83822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A diferencia de la corrección, la confiabilidad es algo rel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l mercado puede admitir algunos errores en el software siempre que en general se comporte en forma esper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No sólo no damos garantías de corrección del software, sino que varios productos incluyen un “disclaime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5D72-6A9D-4591-B88B-2E7DBE4DD7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467480" y="76320"/>
            <a:ext cx="1506600" cy="2819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0492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robusto si se comporta en forma razonable aún en situaciones no anticip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Robus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29714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Datos de entrada incorrectos o fallas de hardware son las situaciones más frecu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antidad de código que se dedica a hacer el software robusto depende de la experiencia de los usuarios o lo crítico de su mi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i algo se especifica como requisito, cumplirlo es cuestión de corrección; si no está en los requisitos es cuestión de robuste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5FF-16FB-43E9-B762-9BCE79CA5A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7524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istema de software es eficiente si usa sus recursos en forma econó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Eficienc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uy lento </a:t>
            </a:r>
            <a:r>
              <a:rPr b="0" lang="es-AR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baja la productividad de los usu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Usa mucho disco </a:t>
            </a:r>
            <a:r>
              <a:rPr b="0" lang="es-AR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puede ser muy caro ejecutar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Usa mucha memoria </a:t>
            </a:r>
            <a:r>
              <a:rPr b="0" lang="es-AR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puede afectar la performance de otros siste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96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os criterios de eficiencia varían con la tecnología y el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étodos de evaluación de perform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monitore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nálisi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imu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No es bueno evaluar la performance sólo después que el producto esta lis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1676520" cy="1647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1F3D-9226-498E-B6E8-4C6FC7B39AE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1676520"/>
            <a:ext cx="6019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Un software es amigable si sus usuarios lo encuentran fácil de utiliz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Amig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2819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interfaz con el usuario es parte esencial del ser amig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epende de los usuar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novicios: mejor largos mensajes explica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xpertos: aprecian los ata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960" y="2819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os sistemas insertos son amigables si son fáciles de configur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consistencia de las interfaces es un factor determin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También la performance y la confiabi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715000" y="380880"/>
            <a:ext cx="3138480" cy="1336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6CED-1F9C-4A63-84BC-4C6DCF725AC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080" y="175248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El software es verificable si sus propiedades pueden ser comprob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Verific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2971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corrección y la performance pueden verificarse fáci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La verificación puede hacerse mediante análisis o tes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7960" y="2971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Más verific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onitores en el códi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iseño modul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isciplina en la codificació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enguaje de programación adecu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AD2D-D330-4D63-B03B-C183A4C3DAF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086600" y="304920"/>
            <a:ext cx="1752480" cy="1676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14400" y="1752480"/>
            <a:ext cx="6324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3333cc"/>
                </a:solidFill>
                <a:latin typeface="Arial"/>
              </a:rPr>
              <a:t>Software ya construido se usa con pocos o ningún camb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3333cc"/>
                </a:solidFill>
                <a:latin typeface="Arial"/>
              </a:rPr>
              <a:t>Reus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28951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reutilización es más apropiada para componentes que para sistemas compl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s bibliotecas (¿librerías?) científicas FORTRAN son los ejemplos más conocidos. Java APIs son ejemplos más nue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28951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El reuso es una cualidad difícil (¿imposible?) de conseguir a posteri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La orientación a objetos tiene el potencial para mejorar la reutilización y la evolu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También los patrones de arquitectura y el desarrollo de familias de produ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580C-D3AB-49C6-9B74-7F9E655DC3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Universidad de Chile</cp:lastModifiedBy>
  <cp:lastPrinted>2005-01-28T19:11:18Z</cp:lastPrinted>
  <dcterms:modified xsi:type="dcterms:W3CDTF">2005-01-28T19:51:23Z</dcterms:modified>
  <cp:revision>17</cp:revision>
  <dc:subject/>
  <dc:title>CC31B: Desarrollo de Software de Aplicaciones</dc:title>
</cp:coreProperties>
</file>