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294-965F-4987-B7BA-B324AE93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D4A-EB95-4908-B285-90D56D09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AA8-8C94-4C22-985A-3A6A463F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613-63D2-49B3-8675-D2ED5CD7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408-9152-4B63-832B-BAA8FAA6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7C4-FE13-4E3E-A974-57F9E790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F87-50FF-43C8-8110-A8190D9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1F8-C59F-4C9E-9F75-3F3E2655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753-0AF1-4EFE-8AE7-1820659D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734-0AD4-45E9-89A3-50445C1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61F-956E-44D2-95CE-47979DE6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D29-4D97-4366-A1D6-F3C326F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010-F3E1-4BFC-A8BF-37550525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5BC-B0A4-4B33-842E-7364171D88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824-97DA-4308-B559-B2F1D21F0C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9A8-99A3-4885-A528-B78BC92824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C27-2B5F-4D7D-80C0-6CE5D5D0FFE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F01-19E5-4976-B310-2274785F30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ADC-AF6E-4020-B622-5C1EC6DADA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CB1-360C-4E71-BDE7-C264ABAAF22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902-7DF8-4098-AC7D-4E4A755468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00C-69F5-4270-9EAB-FC463ED33E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3F5-7C45-475A-B6D5-0FA59FB25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E08-EAB8-494C-8895-C1764A22E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A09-9F97-4A4B-814B-243BE2660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E5A-8436-45C7-B3F1-9B2FBCCA91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E03-FB73-4AB1-A5E5-024984C4C92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2819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2E2-27EF-4CC5-8CED-7B1E591B44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9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9D0-88AE-46DA-A9B9-C0EF000729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conocidos. Java APIs son ejemplos más nue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5E4-2A39-44FE-85A8-80BB7FCC98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Universidad de Chile</cp:lastModifiedBy>
  <cp:lastPrinted>2005-01-28T19:11:18Z</cp:lastPrinted>
  <dcterms:modified xsi:type="dcterms:W3CDTF">2005-01-28T19:51:23Z</dcterms:modified>
  <cp:revision>17</cp:revision>
  <dc:subject/>
  <dc:title>CC31B: Desarrollo de Software de Aplicaciones</dc:title>
</cp:coreProperties>
</file>