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488-B0ED-48EB-A2A1-B5105EC1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8E1-F5F0-4B72-9BB1-19F296E6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6CD-6B23-4B46-AA94-AD194D3E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3A8-B021-4024-95B7-605F6600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AE61-050B-40BD-91E5-799F962A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5EA4-C34D-4C40-A55A-C9A3E71D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6544-3206-43A2-BA60-7A721FC9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C80-2B9C-4711-B1EF-C915EDB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0A39-A910-4200-8E62-72D4881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BDE7-9B58-4328-936D-0D71F15C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E61-01DC-4E19-AB34-95E2FD9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272-3785-416F-AABD-9F7ED55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824B-D5BC-4E4E-BDBE-EF82ADD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E88-68A3-4EEB-86F7-631DBAF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FA24-E67F-4D61-808C-BD201C85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4BEC-6019-4E65-8663-7BA3E0D9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CDEA-900A-420C-8A08-5BBFCBC8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600-D9A2-47C1-8C2B-6964A0BD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F5D-185B-4B22-BA66-C02A5B9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5D9-B9C0-4AA5-ADA5-F31F576D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CF1-FC4F-4C18-942C-C7C02B4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98D-DDC2-4B2B-B179-A8E8F49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CBB-4007-4008-9C7B-33BA81A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2F5-A8D7-49C8-9F2E-17B7884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6DA-8A69-4E38-879B-73B48647FB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0FD7-4FF4-4795-82F1-4018B86159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ing.puc.cl" TargetMode="External"/><Relationship Id="rId2" Type="http://schemas.openxmlformats.org/officeDocument/2006/relationships/hyperlink" Target="mailto:acadiz@dcc.uchile.c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31B -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Agosto 200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on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50 % - Controles</a:t>
            </a: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Arial"/>
              </a:rPr>
              <a:t>Podrá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en u-Cursos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r es un síntoma de interés e intelig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 a tiempo .... no dejes todo para el final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rata a los demás como deseas que te trat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cute los problemas con sus compañ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... pero debes ser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 es la piedra angular para el éxito de cualquier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Lunes 01/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van a tomar el curso deben enviar por email al profesor y al auxiliar, un currículum de no más de 1 hoja, que conteng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- Datos Personales (incluir: Nombre completo,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cojan a sus compañeros de equipo, y envíen un correo al auxiliar y al profesor indicando la conformación de cada equip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Ochoa D.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lfredo Cádiz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cadiz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sistente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**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finición de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tenidos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Metodología de Desarrollo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quisitos de Aprob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valu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Familiarizar al alumno con el desarrollo de software de apl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a aplicación como miembro de un equipo de traba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producto que requiere coordinación y negociación con otros grup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1. </a:t>
            </a:r>
            <a:r>
              <a:rPr b="1" lang="es-CL" sz="2800" spc="-1" strike="noStrike">
                <a:solidFill>
                  <a:srgbClr val="40458c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2. Cualidades de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3. El Proceso de Ingenie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4. Especificación de Requerimientos del Software de Apl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5. Diseño de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6. Verificación y Validación de Software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Teóricas (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B211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Mar.-Jue. 14:30-16:00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lumnos (B***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Auxiliares (Vie. 10:15-11:45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lumnos trabajarán en grupos de 2 o 3 personas. Desarrollarán un proyecto (3 tareas) durante el cur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 - Los proyectos serán de tres tipos, y los asignará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º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 finalizar el semestre, cada equipo de trabajo, deberá entregar una versión ejecutable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Para aprobar el curso, se re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la nota del examen también debe ser mayor o igual a 4.0.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5 * PNP + 0.5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50 % - Proyecto</a:t>
            </a: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 corresponde a la nota del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1" i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fes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según la capacidad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promiso mostrado en el desarrollo d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11</cp:lastModifiedBy>
  <dcterms:modified xsi:type="dcterms:W3CDTF">2005-07-28T18:48:56Z</dcterms:modified>
  <cp:revision>60</cp:revision>
  <dc:subject/>
  <dc:title>Ingeniería de Software   </dc:title>
</cp:coreProperties>
</file>