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2E2-058F-4D6D-9472-3B41D344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243-D346-487E-BD8D-F0ADD733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BD1-0638-4846-B1B4-C54DAEAD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0E4-D99C-4E70-A7DE-19BE1912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EA20-8151-4E98-8864-64C7373A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B3EF-C2E2-407A-99E4-028FF261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21E6-0688-4F80-AC82-73551530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39A4-66BC-45FC-9F76-C1C3E7D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79F2-A3E1-4B57-99C6-69920FEA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3DF7-FA5E-4BA8-9777-05AF11D0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331E-9902-4439-9841-72E4A423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3E7-85DC-4239-9A8E-561862D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8421-7439-439E-A0A8-7FC00EAA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548B-5867-4C25-A624-CC7CD2BE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DC82-3B6D-4F63-8C46-D4C9E274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8A78-79FE-4D23-8896-4BA4D3C9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04FA-2395-4BB6-A28E-96A147D8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53E-200E-4D35-8B14-A47F0480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4F2-F0D8-4028-B108-7B66C8F4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050-A561-4E8F-A7DE-B2F263C2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CA8-4ADE-486F-8C5C-7C7D69D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6F0-8EC5-4B9A-A145-0651FF3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9D5-132B-49BE-80C4-429229CF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A76-582D-41F6-9898-2473BA82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CF35-13FD-43F6-9009-72016C41F7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8EC-C620-4EA6-8036-983B1798BFF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choa@ing.puc.cl" TargetMode="External"/><Relationship Id="rId2" Type="http://schemas.openxmlformats.org/officeDocument/2006/relationships/hyperlink" Target="mailto:acadiz@dcc.uchile.c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C31B -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Agosto 200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 - Version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50 % - Controles</a:t>
            </a:r>
            <a:r>
              <a:rPr b="0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2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l examen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5 % corresponde a la nota de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 control 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5 % corresponde a la nota del control 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a nota del examen puede reemplazar a la de uno de los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Arial"/>
              </a:rPr>
              <a:t>Podrá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eximirse del examen aquellos que tengan 5.5 o más en los controles. La nota del examen será el promedio de los controles, y podrá ser usada como reemplazo de la peor nota de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628640"/>
            <a:ext cx="80578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“</a:t>
            </a: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- A  Practitioner’s Approach”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  - Roger S. Pressman. 6</a:t>
            </a: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º Ed. (2002). 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McGraw Hill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“</a:t>
            </a: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”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  - Ian Somerville. 7</a:t>
            </a: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º Ed. (2004). 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Addison Wesley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Institute (SEI), Carnegie Melon University (www.sei.cmu.edu) 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Web-site del curso en u-Cursos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iensa, y luego actúa .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eguntar es un síntoma de interés e intelig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egunta a tiempo .... no dejes todo para el final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rata a los demás como deseas que te trat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iscute los problemas con sus compañe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... pero debes ser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en a clases. Hay muchas cosas que hay que vivirlas para aprenderla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tiende que tu éxito en este curso, sólo puede ser construido por tu equipo de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... Por lo tanto, sé generoso con tus conocimientos, responsable con tu trabajo, y crítico (constructivo) con el trabajo de los demá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Acepta la ayuda o las sugerencias de tus compañeros, ellos están tratando de mejorar el producto final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La comunicación y coordinación entre los miembros del equipo de trabajo es la piedra angular para el éxito de cualquier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los miembros del equipo de trabajo</a:t>
            </a: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... Hay un abismo de diferencia entre la comunicación/coordinación cara a cara versus vía email o inclusive teléfon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comunicación y coordinación, por lo tanto adelántese a esos riesgos y generen planes de contingenci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los plazos nunca son suficientes, por lo tanto adelántese a esos riesgos y generen planes de contingenci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area para el Lunes 01/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están inscritos en el curso y no lo van a tomar, por favor avísenm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no están inscritos y quieren tomar el curso, por favor avísenm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van a tomar el curso deben enviar por email al profesor y al auxiliar, un currículum de no más de 1 hoja, que conteng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- Datos Personales (incluir: Nombre completo, teléfonos, emails y fo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esarrollo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iseño gráfic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enguajes de programación cono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D conoc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cojan a sus compañeros de equipo, y envíen un correo al auxiliar y al profesor indicando la conformación de cada equip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sponsab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Profesor a Cargo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gio Ochoa D.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ocho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678-4364/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Auxiliar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lfredo Cádiz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acadiz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Asistente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***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finición de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tenidos del Cu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Metodología de Desarrollo del Cu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quisitos de Aprob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valu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s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Familiarizar al alumno con el desarrollo de software de aplic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3680" indent="-4636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a aplicación como miembro de un equipo de traba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3680" indent="-463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 producto que requiere coordinación y negociación con otros grup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ontenidos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Times New Roman"/>
              </a:rPr>
              <a:t>1. </a:t>
            </a:r>
            <a:r>
              <a:rPr b="1" lang="es-CL" sz="2800" spc="-1" strike="noStrike">
                <a:solidFill>
                  <a:srgbClr val="40458c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2. Cualidades del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3. El Proceso de Ingenier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4. Especificación de Requerimientos del Software de Apl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5. Diseño de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6. Verificación y Validación de Software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átedr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lases Teóricas (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B211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Mar.-Jue. 14:30-16:00h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lumnos (B***)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lases Auxiliares (Vie. 10:15-11:45h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os alumnos trabajarán en grupos de 2 o 3 personas. Desarrollarán un proyecto (3 tareas) durante el cur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º - Los proyectos serán de tres tipos, y los asignará el profes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3º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l finalizar el semestre, cada equipo de trabajo, deberá entregar una versión ejecutable d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quisitos de Aprob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Arial"/>
              </a:rPr>
              <a:t>Para aprobar el curso, se requi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promedio de notas de los controles debe ser mayor o igual a 4.0 (incluyendo el examen, y el reemplazo de not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promedio de notas del proyecto debe ser mayor o igual a 4.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la nota del examen también debe ser mayor o igual a 4.0.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NF = 0.5 * PNP + 0.5 * PN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NF = Nota F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P = Promedio de Nota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C = Promedio de Notas de Contro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50 % - Proyecto</a:t>
            </a:r>
            <a:r>
              <a:rPr b="0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2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 corresponde a la nota del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1" i="1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ofes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, según la capacidad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mpromiso mostrado en el desarrollo de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ala_B211</cp:lastModifiedBy>
  <dcterms:modified xsi:type="dcterms:W3CDTF">2005-07-28T18:48:56Z</dcterms:modified>
  <cp:revision>60</cp:revision>
  <dc:subject/>
  <dc:title>Ingeniería de Software   </dc:title>
</cp:coreProperties>
</file>