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359-E9E4-4129-99CF-B1E61477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5E5-CC5E-4466-94DA-FC91643D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F1A-843E-4B20-9822-04433EC6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302-D2A8-4A1D-8A43-149446FF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769D-5140-418C-8306-160E21DA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443F-47D4-41AB-A3BB-EC395004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1478-9E4D-4AB6-A401-E4B2885F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0037-181E-4F73-B3E3-989FE378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BB43-4EDA-4D10-AFDE-D7AB1E7D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1565-5B8E-4ED4-96B3-E131E214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460A-B3E9-4248-BFD4-2868F7A0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50D5-6B7D-48E7-AB60-D40FA815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F522-9F19-4DEE-921E-B72BC1E8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C772-2631-43CE-BB2D-5A42E200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E85C-65F8-489B-82DF-73A17721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2D11-09F1-40BC-9AE0-C3BBA705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391B-28DD-4B8C-8499-50EA4A0B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AD3-F896-42A3-A5F8-FFCED88A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173-6B3F-43F0-B51E-8839482C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D4D-235D-4DFF-B84A-DBEC278C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203-5A82-4ED1-8C69-10F0CBDB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025-17BF-4750-BD62-CF544172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86F-DB39-4C2B-8277-5BF10011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BB9-9463-4C6A-B0B0-4B5F1F3E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BC2C-AF8C-4668-8ABB-2DE34FF6C27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D52D-0EC5-45A6-91ED-403A6E4309A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choa@ing.puc.cl" TargetMode="External"/><Relationship Id="rId2" Type="http://schemas.openxmlformats.org/officeDocument/2006/relationships/hyperlink" Target="mailto:acadiz@dcc.uchile.c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C31B - Desarrollo de Software de Apl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Agosto 2004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1 - Version 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 u="sng">
                <a:solidFill>
                  <a:srgbClr val="40458c"/>
                </a:solidFill>
                <a:uFillTx/>
                <a:latin typeface="Tahoma"/>
              </a:rPr>
              <a:t>50 % - Controles</a:t>
            </a:r>
            <a:r>
              <a:rPr b="0" lang="es-MX" sz="3600" spc="-1" strike="noStrike" u="sng">
                <a:solidFill>
                  <a:srgbClr val="40458c"/>
                </a:solidFill>
                <a:uFillTx/>
                <a:latin typeface="Tahoma"/>
              </a:rPr>
              <a:t>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20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l examen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5 % corresponde a la nota de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 control 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5 % corresponde a la nota del control 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a nota del examen puede reemplazar a la de uno de los contro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Arial"/>
              </a:rPr>
              <a:t>Podrá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eximirse del examen aquellos que tengan 5.5 o más en los controles. La nota del examen será el promedio de los controles, y podrá ser usada como reemplazo de la peor nota de contro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Bibliografí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1628640"/>
            <a:ext cx="80578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74"/>
              </a:spcBef>
              <a:spcAft>
                <a:spcPts val="1349"/>
              </a:spcAft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“</a:t>
            </a:r>
            <a:r>
              <a:rPr b="0" i="1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 - A  Practitioner’s Approach”</a:t>
            </a: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  - Roger S. Pressman. 6</a:t>
            </a:r>
            <a:r>
              <a:rPr b="0" lang="es-CL" sz="3100" spc="-1" strike="noStrike">
                <a:solidFill>
                  <a:srgbClr val="40458c"/>
                </a:solidFill>
                <a:latin typeface="Arial"/>
                <a:ea typeface="Arial"/>
              </a:rPr>
              <a:t>º Ed. (2002). </a:t>
            </a: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McGraw Hill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74"/>
              </a:spcBef>
              <a:spcAft>
                <a:spcPts val="1349"/>
              </a:spcAft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“</a:t>
            </a:r>
            <a:r>
              <a:rPr b="0" i="1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”</a:t>
            </a: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  - Ian Somerville. 7</a:t>
            </a:r>
            <a:r>
              <a:rPr b="0" lang="es-CL" sz="3100" spc="-1" strike="noStrike">
                <a:solidFill>
                  <a:srgbClr val="40458c"/>
                </a:solidFill>
                <a:latin typeface="Arial"/>
                <a:ea typeface="Arial"/>
              </a:rPr>
              <a:t>º Ed. (2004). </a:t>
            </a: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Addison Wesley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74"/>
              </a:spcBef>
              <a:spcAft>
                <a:spcPts val="1349"/>
              </a:spcAft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0458c"/>
                </a:solidFill>
                <a:latin typeface="Arial"/>
                <a:ea typeface="Arial"/>
              </a:rPr>
              <a:t>Software Engineering Institute (SEI), Carnegie Melon University (www.sei.cmu.edu) 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74"/>
              </a:spcBef>
              <a:spcAft>
                <a:spcPts val="1349"/>
              </a:spcAft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Arial"/>
                <a:ea typeface="Arial"/>
              </a:rPr>
              <a:t>Web-site del curso en u-Cursos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iensa, y luego actúa .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reguntar es un síntoma de interés e inteligenc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regunta a tiempo .... no dejes todo para el final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rata a los demás como deseas que te trat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Discute los problemas con sus compañe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.... pero debes ser hones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en a clases. Hay muchas cosas que hay que vivirlas para aprenderlas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spcBef>
                <a:spcPts val="601"/>
              </a:spcBef>
              <a:spcAft>
                <a:spcPts val="901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tiende que tu éxito en este curso, sólo puede ser construido por tu equipo de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Guía de Supervivencia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... Por lo tanto, sé generoso con tus conocimientos, responsable con tu trabajo, y crítico (constructivo) con el trabajo de los demá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0458c"/>
                </a:solidFill>
                <a:latin typeface="Tahoma"/>
              </a:rPr>
              <a:t>Acepta la ayuda o las sugerencias de tus compañeros, ellos están tratando de mejorar el producto final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La comunicación y coordinación entre los miembros del equipo de trabajo es la piedra angular para el éxito de cualquier proyect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c51907"/>
                </a:solidFill>
                <a:latin typeface="Tahoma"/>
                <a:ea typeface="Times New Roman"/>
              </a:rPr>
              <a:t>Júntense en forma periódica (1 vez a la semana, 30 minutos), los miembros del equipo de trabajo</a:t>
            </a:r>
            <a:r>
              <a:rPr b="0" lang="es-E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... Hay un abismo de diferencia entre la comunicación/coordinación cara a cara versus vía email o inclusive teléfon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van a tener problemas de comunicación y coordinación, por lo tanto adelántese a esos riesgos y generen planes de contingencia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80000"/>
              </a:lnSpc>
              <a:spcBef>
                <a:spcPts val="524"/>
              </a:spcBef>
              <a:spcAft>
                <a:spcPts val="649"/>
              </a:spcAft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Asuman que los plazos nunca son suficientes, por lo tanto adelántese a esos riesgos y generen planes de contingencia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Tarea para el Lunes 01/8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819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que están inscritos en el curso y no lo van a tomar, por favor avísenm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que no están inscritos y quieren tomar el curso, por favor avísenm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que van a tomar el curso deben enviar por email al profesor y al auxiliar, un currículum de no más de 1 hoja, que conteng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- Datos Personales (incluir: Nombre completo, teléfonos, emails y fo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xperiencia en desarrollo de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xperiencia en diseño gráfic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enguajes de programación conoc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-17316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BD conoc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7316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cojan a sus compañeros de equipo, y envíen un correo al auxiliar y al profesor indicando la conformación de cada equip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esponsable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0458c"/>
                </a:solidFill>
                <a:latin typeface="Tahoma"/>
              </a:rPr>
              <a:t>Profesor a Cargo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rgio Ochoa D.  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sochoa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l: + 678-4364/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0458c"/>
                </a:solidFill>
                <a:latin typeface="Tahoma"/>
              </a:rPr>
              <a:t>Auxiliar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Alfredo Cádiz </a:t>
            </a:r>
            <a:r>
              <a:rPr b="0" lang="es-MX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acadiz@dcc.uchile.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40458c"/>
                </a:solidFill>
                <a:latin typeface="Tahoma"/>
              </a:rPr>
              <a:t>Asistente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****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Definición de Obje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ntenidos del Cur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Metodología de Desarrollo del Cur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Requisitos de Aprob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valu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bjetivos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Familiarizar al alumno con el desarrollo de software de aplic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3680" indent="-4636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sarrollar una aplicación como miembro de un equipo de trabaj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3680" indent="-463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Desarrollar un producto que requiere coordinación y negociación con otros grup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Contenidos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Arial"/>
                <a:ea typeface="Times New Roman"/>
              </a:rPr>
              <a:t>1. </a:t>
            </a:r>
            <a:r>
              <a:rPr b="1" lang="es-CL" sz="2800" spc="-1" strike="noStrike">
                <a:solidFill>
                  <a:srgbClr val="40458c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2. Cualidades del Softw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3. El Proceso de Ingenierí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4. Especificación de Requerimientos del Software de Aplic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5. Diseño de Softwa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816120" indent="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6. Verificación y Validación de Software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átedr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lases Teóricas (</a:t>
            </a: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B211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                         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(Mar.-Jue. 14:30-16:00h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Alumnos (B***)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lases Auxiliares (Vie. 10:15-11:45h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etodología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9880" indent="0" algn="just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1º-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Los alumnos trabajarán en grupos de 2 o 3 personas. Desarrollarán un proyecto (3 tareas) durante el curs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69880" indent="0" algn="just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2º - Los proyectos serán de tres tipos, y los asignará el profes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69880" indent="0" algn="just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3º-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l finalizar el semestre, cada equipo de trabajo, deberá entregar una versión ejecutable del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Requisitos de Aprob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Arial"/>
                <a:ea typeface="Arial"/>
              </a:rPr>
              <a:t>Para aprobar el curso, se requie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- promedio de notas de los controles debe ser mayor o igual a 4.0 (incluyendo el examen, y el reemplazo de not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- promedio de notas del proyecto debe ser mayor o igual a 4.0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  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- la nota del examen también debe ser mayor o igual a 4.0.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NF = 0.5 * PNP + 0.5 * PN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NF = Nota Fi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NP = Promedio de Notas del Proyec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NC = Promedio de Notas de Contro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valuación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40458c"/>
                </a:solidFill>
                <a:uFillTx/>
                <a:latin typeface="Tahoma"/>
              </a:rPr>
              <a:t>50 % - Proyecto</a:t>
            </a:r>
            <a:r>
              <a:rPr b="0" lang="es-MX" sz="3200" spc="-1" strike="noStrike" u="sng">
                <a:solidFill>
                  <a:srgbClr val="40458c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0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 l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area 1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0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 l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area 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 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20 % corresponde 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 la nota de la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area 3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-10 %  corresponde a la nota del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1" i="1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ofes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, según la capacidad 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compromiso mostrado en el desarrollo de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   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ala_B211</cp:lastModifiedBy>
  <dcterms:modified xsi:type="dcterms:W3CDTF">2005-07-28T18:48:56Z</dcterms:modified>
  <cp:revision>60</cp:revision>
  <dc:subject/>
  <dc:title>Ingeniería de Software   </dc:title>
</cp:coreProperties>
</file>