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CEA-0BF4-41AB-B561-AB1520C0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CD07-530D-4DFB-8366-9E00D8BA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7BC-F570-4A19-B8C0-0CB0A0A0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82A6-EC69-4143-B77C-B246215A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4B6-2419-4831-8BA8-C292045F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9AE-D9D7-434C-BBBC-27C99EF3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EA3-F972-4237-9BD4-8524E38B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66E2-1E45-48DE-ADC6-63AE3DC1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A78-03AC-43E8-AF67-26DA9DDD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441-73B3-4BDC-87CA-859A4BDB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F41-CC86-49AF-BE61-250F2CA1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E1E-EB65-4D64-9DA9-234153B5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212B-0DF4-443D-A3DB-E8F969D09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81040" y="519120"/>
          <a:ext cx="814068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19120"/>
                    <a:ext cx="81406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92000" y="457200"/>
          <a:ext cx="8164800" cy="63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457200"/>
                    <a:ext cx="8164800" cy="63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33440" y="420840"/>
          <a:ext cx="853452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20840"/>
                    <a:ext cx="853452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28720" y="581040"/>
          <a:ext cx="785484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81040"/>
                    <a:ext cx="78548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19120" y="668160"/>
          <a:ext cx="8362800" cy="560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668160"/>
                    <a:ext cx="8362800" cy="56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19120" y="544680"/>
          <a:ext cx="842472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44680"/>
                    <a:ext cx="842472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81040" y="544680"/>
          <a:ext cx="828828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44680"/>
                    <a:ext cx="828828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84120" y="606600"/>
          <a:ext cx="865836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606600"/>
                    <a:ext cx="865836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557280"/>
          <a:ext cx="815184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57280"/>
                    <a:ext cx="815184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06600" y="568440"/>
          <a:ext cx="826272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68440"/>
                    <a:ext cx="826272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19120" y="531720"/>
          <a:ext cx="8474040" cy="690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31720"/>
                    <a:ext cx="8474040" cy="690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92280" y="531720"/>
          <a:ext cx="814068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31720"/>
                    <a:ext cx="814068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17480" y="495360"/>
          <a:ext cx="804060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495360"/>
                    <a:ext cx="804060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57280" y="544680"/>
          <a:ext cx="843588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44680"/>
                    <a:ext cx="843588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469800" y="482760"/>
          <a:ext cx="859788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9788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82760" y="469800"/>
          <a:ext cx="8474040" cy="72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69800"/>
                    <a:ext cx="8474040" cy="72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19200" y="581040"/>
          <a:ext cx="8076960" cy="58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81040"/>
                    <a:ext cx="8076960" cy="58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19200" y="433440"/>
          <a:ext cx="832464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33440"/>
                    <a:ext cx="832464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1040" y="433440"/>
          <a:ext cx="831384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33440"/>
                    <a:ext cx="831384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39680" y="630360"/>
          <a:ext cx="7793280" cy="608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30360"/>
                    <a:ext cx="779328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482760"/>
          <a:ext cx="8572680" cy="73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572680" cy="73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95360" y="506520"/>
          <a:ext cx="8312040" cy="635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506520"/>
                    <a:ext cx="8312040" cy="63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3:03:05Z</dcterms:created>
  <dc:creator>jalvarez</dc:creator>
  <dc:description/>
  <dc:language>en-US</dc:language>
  <cp:lastModifiedBy>jalvarez</cp:lastModifiedBy>
  <cp:lastPrinted>2005-10-25T14:24:58Z</cp:lastPrinted>
  <dcterms:modified xsi:type="dcterms:W3CDTF">2005-10-25T15:59:20Z</dcterms:modified>
  <cp:revision>4</cp:revision>
  <dc:subject/>
  <dc:title>Sin título de diapositiva</dc:title>
</cp:coreProperties>
</file>