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E14-FA01-4B11-B457-FA61627A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95C-91AB-4C52-8C1D-CD2C31AD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661-7ACD-44D6-AAB3-F163D095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1A1-03A6-436D-9319-097C2A87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D22-7346-4957-A06A-11445253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5BE-9C83-42DE-BB5A-0C71D06B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546-BE1C-4976-9D85-16614069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2A2-31A5-43AA-AF46-2027395D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F35-79EB-46D0-A864-DD860E06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49B-AE34-4414-A7C4-CD678F65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CAE-08D4-4379-8EF9-49FCCD2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3D0-7724-4973-B148-E16B0720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4DAD-1ABB-4D8F-A2B4-32EAC0070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1040" y="519120"/>
          <a:ext cx="81406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19120"/>
                    <a:ext cx="8140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2000" y="457200"/>
          <a:ext cx="8164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457200"/>
                    <a:ext cx="8164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3440" y="420840"/>
          <a:ext cx="853452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20840"/>
                    <a:ext cx="853452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81040"/>
          <a:ext cx="78548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81040"/>
                    <a:ext cx="78548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19120" y="668160"/>
          <a:ext cx="8362800" cy="560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68160"/>
                    <a:ext cx="83628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19120" y="544680"/>
          <a:ext cx="8424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44680"/>
                    <a:ext cx="8424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1040" y="544680"/>
          <a:ext cx="828828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44680"/>
                    <a:ext cx="828828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84120" y="606600"/>
          <a:ext cx="8658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06600"/>
                    <a:ext cx="8658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57280"/>
          <a:ext cx="81518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57280"/>
                    <a:ext cx="81518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6600" y="568440"/>
          <a:ext cx="8262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262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19120" y="531720"/>
          <a:ext cx="84740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740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17480" y="495360"/>
          <a:ext cx="804060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95360"/>
                    <a:ext cx="804060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57280" y="544680"/>
          <a:ext cx="843588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44680"/>
                    <a:ext cx="843588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69800" y="482760"/>
          <a:ext cx="859788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9788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82760" y="469800"/>
          <a:ext cx="8474040" cy="72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69800"/>
                    <a:ext cx="8474040" cy="72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19200" y="581040"/>
          <a:ext cx="8076960" cy="58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07696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9200" y="433440"/>
          <a:ext cx="832464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33440"/>
                    <a:ext cx="832464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1040" y="433440"/>
          <a:ext cx="831384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33440"/>
                    <a:ext cx="831384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39680" y="630360"/>
          <a:ext cx="779328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30360"/>
                    <a:ext cx="779328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482760"/>
          <a:ext cx="8572680" cy="73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572680" cy="73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95360" y="506520"/>
          <a:ext cx="8312040" cy="635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06520"/>
                    <a:ext cx="831204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3:03:05Z</dcterms:created>
  <dc:creator>jalvarez</dc:creator>
  <dc:description/>
  <dc:language>en-US</dc:language>
  <cp:lastModifiedBy>jalvarez</cp:lastModifiedBy>
  <cp:lastPrinted>2005-10-25T14:24:58Z</cp:lastPrinted>
  <dcterms:modified xsi:type="dcterms:W3CDTF">2005-10-25T15:59:20Z</dcterms:modified>
  <cp:revision>4</cp:revision>
  <dc:subject/>
  <dc:title>Sin título de diapositiva</dc:title>
</cp:coreProperties>
</file>