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383-947E-4A26-B108-775542D3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1C5-B995-454C-85F7-903DE7CC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CA9-43C4-4224-A2B1-C4898D80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F26-AA60-4B3D-93A7-A1420964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37A1-1ABB-44F4-83F3-D1D74121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CA3-6995-4C7E-B477-55D78B1C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590A-FFAB-477B-B8E0-254AE90E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203-57A0-4DB5-8D4A-4D2BD102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280-8BE7-4F85-A477-400868B9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5F8-D5EE-4E38-A76D-D895D782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C3D-F0F5-44DB-85CB-CCB1C919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CCE-D962-49D3-9786-8A2E6BFC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3B58-EA38-4642-AE5D-01204FEF2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81040" y="519120"/>
          <a:ext cx="81406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19120"/>
                    <a:ext cx="81406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2000" y="457200"/>
          <a:ext cx="8164800" cy="63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457200"/>
                    <a:ext cx="8164800" cy="63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33440" y="420840"/>
          <a:ext cx="853452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20840"/>
                    <a:ext cx="853452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581040"/>
          <a:ext cx="785484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81040"/>
                    <a:ext cx="78548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19120" y="668160"/>
          <a:ext cx="8362800" cy="560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68160"/>
                    <a:ext cx="8362800" cy="56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19120" y="544680"/>
          <a:ext cx="842472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44680"/>
                    <a:ext cx="842472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81040" y="544680"/>
          <a:ext cx="828828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44680"/>
                    <a:ext cx="828828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84120" y="606600"/>
          <a:ext cx="8658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606600"/>
                    <a:ext cx="8658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557280"/>
          <a:ext cx="815184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57280"/>
                    <a:ext cx="815184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06600" y="568440"/>
          <a:ext cx="826272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68440"/>
                    <a:ext cx="826272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19120" y="531720"/>
          <a:ext cx="8474040" cy="690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31720"/>
                    <a:ext cx="8474040" cy="69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92280" y="531720"/>
          <a:ext cx="814068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31720"/>
                    <a:ext cx="814068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17480" y="495360"/>
          <a:ext cx="804060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495360"/>
                    <a:ext cx="804060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57280" y="544680"/>
          <a:ext cx="843588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44680"/>
                    <a:ext cx="843588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69800" y="482760"/>
          <a:ext cx="859788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9788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82760" y="469800"/>
          <a:ext cx="8474040" cy="72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69800"/>
                    <a:ext cx="8474040" cy="72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19200" y="581040"/>
          <a:ext cx="8076960" cy="58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81040"/>
                    <a:ext cx="8076960" cy="58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9200" y="433440"/>
          <a:ext cx="832464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33440"/>
                    <a:ext cx="832464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1040" y="433440"/>
          <a:ext cx="831384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33440"/>
                    <a:ext cx="831384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39680" y="630360"/>
          <a:ext cx="7793280" cy="608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30360"/>
                    <a:ext cx="779328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482760"/>
          <a:ext cx="8572680" cy="73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572680" cy="73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95360" y="506520"/>
          <a:ext cx="8312040" cy="635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506520"/>
                    <a:ext cx="831204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3:03:05Z</dcterms:created>
  <dc:creator>jalvarez</dc:creator>
  <dc:description/>
  <dc:language>en-US</dc:language>
  <cp:lastModifiedBy>jalvarez</cp:lastModifiedBy>
  <cp:lastPrinted>2005-10-25T14:24:58Z</cp:lastPrinted>
  <dcterms:modified xsi:type="dcterms:W3CDTF">2005-10-25T15:59:20Z</dcterms:modified>
  <cp:revision>4</cp:revision>
  <dc:subject/>
  <dc:title>Sin título de diapositiva</dc:title>
</cp:coreProperties>
</file>