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B7F-3C75-4F5A-B77A-ED4C5748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C26-2AC8-4920-8775-A8E1E125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F77-8A52-4687-A1BB-66FF790E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5CC-0156-4B7D-91A7-0545D3FB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047-A4B1-475C-88F9-99F53DFA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83E-65A8-4121-B017-FB6B6BF3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CE5-F21B-4D82-8480-028039B1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CD4-A48E-4731-A948-1495BB6A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A20-3D5A-49DD-82F1-8DBE13C2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2D7-C50B-4987-8A20-C434A8D2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1E8-B660-4138-AC37-ABE12211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0BDB-FD0E-4FE2-82CE-A9D8E8E2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67D2-01B9-4453-A3AC-9CB89D5F0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18-25/ 08.2005 y 01.09.200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:3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3-20-27.10.2005 14:3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9.12.2005 (Aproximadament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Patrocinante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66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1 de Agosto 14:30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intolesi Ang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cuaciones Diferenciales lineales  aplicadas a regulación génic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rales Gabri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eterminación de las poblaciones microbianas en procesos de biolixiviación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ubilar Osval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Discreto para la integración de redes de regulación génica y flujos metaból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IAVERINI VARGAS, OSCAR ANDRES  (Indust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un extremo polipeptídico para la purificación de proteín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MPOS MANRIQUEZ, DANIELA P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plicación de técnicas moleculares en la operación de plantas de  tratamiento de aguas resid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8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ESPEDES VIÑUELA, GABRIELA 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odologías para el manejo de riego en la industri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ARAH GONZALEZ, MARIA LU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valuación técnica y económica de una nueva tecnología para el desaguado de lodos biológic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ALDIVIA AVILEZ, BARBAR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undamentos de una Tecnología de Tratamiento de Metales Pesados por Biosor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DINA RAMOS, JAVIERA ISAB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oxicidad de Metales Pesados en algas de alto valor en l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dustria alimenti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25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PUENTE FUENTES, CARMINA LOR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AZ GAJARDO, CRISTIAN GONZA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la Generación y Distribución de Vapor en la Planta Productiva de Härting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NTES LOPEZ, HECTOR OSV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seño de requerimientos de energía para calefacción hospitalar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OQUE VARGAS, ANDRES FEL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studio de las dificultades operativas de reactores experimentales de lodos activa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 de Septiembre 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RQUEZ LEHRMANN, CRISTIAN I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eterminación de compuestos reducidos de azufre en soluciones de biolixiviación con microorganismos mesófi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ARRA PIZARRO, ALEJANDRA LOR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fecto de la temperatura y del caudal de circulación sobre la corrosión de ánodos de plomo en electro-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CART BRUGERE, FELIPE ESTEB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fluencia de la concentración de soluciones lixiviantes sobre la difusión de ión cúpr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6:53:31Z</dcterms:modified>
  <cp:revision>119</cp:revision>
  <dc:subject/>
  <dc:title>El ingeniero, etica y sociedad</dc:title>
</cp:coreProperties>
</file>