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C6CE-70CB-4755-86CB-58E4B416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42F-CE8C-4FC0-9BCB-4F353375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A1B-DA6D-4833-A995-A888F6FD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F0B-1019-40F0-810B-1968FD32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ACE-2F62-4C77-B632-1363B4B4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86D4-BFBD-49CA-B9F1-16A12951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551-1902-473B-AD08-9F126C8E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0F5-753A-45C3-9DDB-520807E7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010-AD3F-4658-98CB-59D7CA61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85B-35F6-4FB1-B131-A877B45C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177-6A00-4544-AD36-4BC14A73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6F2-A0F3-47EE-A14A-05247192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6DAE-EA3E-420C-BE34-ED9101DEA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18-25/ 08.2005 y 01.09.200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:3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3-20-27.10.2005 14:3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9.12.2005 (Aproximadament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Patrocinante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66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1 de Agosto 14:30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intolesi Ang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cuaciones Diferenciales lineales  aplicadas a regulación génic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rales Gabri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eterminación de las poblaciones microbianas en procesos de biolixiviación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ubilar Osval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Discreto para la integración de redes de regulación génica y flujos metaból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GIAVERINI VARGAS, OSCAR ANDRES  (Indust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un extremo polipeptídico para la purificación de proteín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AMPOS MANRIQUEZ, DANIELA P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plicación de técnicas moleculares en la operación de plantas de  tratamiento de aguas residu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8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ESPEDES VIÑUELA, GABRIELA 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todologías para el manejo de riego en la industri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ARAH GONZALEZ, MARIA LU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valuación técnica y económica de una nueva tecnología para el desaguado de lodos biológic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ALDIVIA AVILEZ, BARBAR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undamentos de una Tecnología de Tratamiento de Metales Pesados por Biosor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DINA RAMOS, JAVIERA ISAB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oxicidad de Metales Pesados en algas de alto valor en l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dustria alimenti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25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PUENTE FUENTES, CARMINA LOR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AZ GAJARDO, CRISTIAN GONZA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la Generación y Distribución de Vapor en la Planta Productiva de Härting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NTES LOPEZ, HECTOR OSV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seño de requerimientos de energía para calefacción hospitalar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OQUE VARGAS, ANDRES FEL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studio de las dificultades operativas de reactores experimentales de lodos activa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 de Septiembre 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RQUEZ LEHRMANN, CRISTIAN I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eterminación de compuestos reducidos de azufre en soluciones de biolixiviación con microorganismos mesófi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ARRA PIZARRO, ALEJANDRA LORE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fecto de la temperatura y del caudal de circulación sobre la corrosión de ánodos de plomo en electro-obtención de cobr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CART BRUGERE, FELIPE ESTEB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fluencia de la concentración de soluciones lixiviantes sobre la difusión de ión cúpr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7-28T16:53:31Z</dcterms:modified>
  <cp:revision>119</cp:revision>
  <dc:subject/>
  <dc:title>El ingeniero, etica y sociedad</dc:title>
</cp:coreProperties>
</file>