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B0D-14FD-41E0-89DA-128B61BB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DEC-96DD-48C3-BE57-5F4789A2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0CD-2BB3-4BB6-A5BA-B85AD9AA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337-1C29-4358-B29B-0721CB23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808-4256-4491-9DE4-3D9F819C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A04-3993-49C9-98D8-C1FE2EC4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374-16E0-4B77-B9A9-DFD7BA81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6B1-36AA-4595-88D7-CCB5E6C0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374-95F5-4BBD-B949-221A5F91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69E-4E23-44E6-A34C-0779728D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C97-8748-4F22-8DE2-44C59EE2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B0B-5209-42CD-A49C-F706DACB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FB31-94B4-454F-B9D0-D592510E9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S02064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73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76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79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87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88" name="BD04897_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unes 12/8 10:15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¿Cómo encontrar artículos de revistas  en línea?</a:t>
            </a: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9 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/10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10 semana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11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(Fin de semestr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" Como hacer un buen CV y dar una entrevista de trabajo" Prof. Ames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E01846_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E01496_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200"/>
            </a:br>
            <a:r>
              <a:rPr b="0" lang="es-ES_tradnl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Jesus Casas (email jecasas@ing.uchile.cl)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.- Determinación de la especiación del hierro en soluciones procedentes de circuitos hidrometalúrgicos mediante experimentación y la aplicación de modelos geoquímicos.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2.- Estudio del proceso de precipitación hidrotermal del hierro a escala de laboratorio. Análisis de experimentos y formulación de modelos fenomenológicos.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Luis Cifuentes  (Dpto. Ingeniería de Minas)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3.- Modelación matemática de celdas de EO de cobre con cátodos particulado y de malla.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4.- Estudio de la calidad de electro depósitos de cobre sobre cátodos de malla.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5. - Efecto de la densidad de corriente de celda sobre la corrosión de anodos de Pb-Ca-Sn en electro 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Tomas Vargas V.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6.- Rol de aditivos en la electrocristalización de cobre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7.- Cinética de disolución de minerales oxidados de cobre con soluciones lixiviantes con alta concentración iónica.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8.- Influencia de la concentración iónica de soluciones lixiviantes sobre la eficiencia de la extracción por solventes de cobre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9.- Determinación de la actividad catalítica de bacterias en circuit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de lixiviación industrial mediante métodos biooelectroquímic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0.- Lixiviación bacteriana de minerales sulfurados de cobre con bacterias termófilas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M.Elena Lienqueo - Oriana Salazar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1.- Efecto de la distribución de aminoácidos superficiales en el comportamiento cromatográfico de las proteínas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Leandro Herrera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2.- Optimización de una Planta de Tratamiento de Aguas Servidas sujeta a sobrecarga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3.- Energías alternativas: Impacto ambiental del reemplazo de combustibles fósiles por hidrógeno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4.- Residuos Industriales Líquidos: Tratamientos bioquímic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5.- Emisiones de Anhídrido Sulfuroso: Su conversión a productos valiosos.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a Guía: Blanca Escobar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6.- </a:t>
            </a: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Cuantificacion de microorganismos en procesos de biolixiviacion mediante CMP-PCR. </a:t>
            </a:r>
            <a:br>
              <a:rPr sz="2200"/>
            </a:b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Oriana Salazar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7. Caracterización de sistemas celulasa de bacterias de origen antártic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8. Clonamiento de genes que codifican para celulasas psicrofílicas de origen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antártic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9. Optimización de las condiciones de cultivo de bacterias psicrofílicas de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origen antártico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Juan Asenjo y B. Andrews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Interesados visitar líneas de investigación en: www.cibyb.uchile.cl </a:t>
            </a:r>
            <a:br>
              <a:rPr sz="2200"/>
            </a:b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R.Badilla y J. Asenj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Interesados en temas de Biotecnología aplicada a la minería con disponibilidad de tiempo completo desde este semestre contactarse con rbadilla@biosigma.c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81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Septiembre 14:30-18: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-IQ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ALVARADO, FELIPE AND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jas Kat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nsue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ellen 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7:08:14Z</dcterms:modified>
  <cp:revision>92</cp:revision>
  <dc:subject/>
  <dc:title>El ingeniero, etica y sociedad</dc:title>
</cp:coreProperties>
</file>