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2.png" ContentType="image/png"/>
  <Override PartName="/ppt/media/image19.jpeg" ContentType="image/jpeg"/>
  <Override PartName="/ppt/media/image4.wmf" ContentType="image/x-wmf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png" ContentType="image/png"/>
  <Override PartName="/ppt/media/image3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29C-38D7-4697-8E99-E8E8F2DB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1D7-29E7-4ABA-A9D6-84F9B7F0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B78-0DA8-4991-B1A3-DC9B98E7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1C7-5106-4332-B3C5-731A93D3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AD0-58F9-48E9-9266-78ED4318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217-BA52-42EA-B123-87EFB255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38D-600B-4252-8227-D4E20FAC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CD0-A05D-4497-9037-496248E1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0AF-0793-42D5-884C-E4C35039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ADB-357F-40FB-9242-CAA2E989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B6A-548A-4E2A-8ADB-DEE48E8C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BB0-5A22-4E8D-800D-2C4454DC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8343-F416-4595-88D9-C7047A629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0160" y="4067280"/>
            <a:ext cx="2263680" cy="1954080"/>
          </a:xfrm>
          <a:prstGeom prst="rect">
            <a:avLst/>
          </a:prstGeom>
          <a:ln w="0">
            <a:noFill/>
          </a:ln>
        </p:spPr>
      </p:pic>
      <p:pic>
        <p:nvPicPr>
          <p:cNvPr id="43" name="polvo" descr=""/>
          <p:cNvPicPr/>
          <p:nvPr/>
        </p:nvPicPr>
        <p:blipFill>
          <a:blip r:embed="rId2"/>
          <a:stretch/>
        </p:blipFill>
        <p:spPr>
          <a:xfrm>
            <a:off x="6553080" y="403848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cristal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2319120" cy="2438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76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3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6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Se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olvo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3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195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48320" y="1676520"/>
          <a:ext cx="243828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24382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143000" y="1676520"/>
          <a:ext cx="3124080" cy="23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312408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615840" y="10018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160020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de refrig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33526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0" y="236232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 Conge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350532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cas calefa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6248160" y="3352320"/>
            <a:ext cx="53316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400440" y="2666880"/>
            <a:ext cx="6858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2286000" y="3843360"/>
            <a:ext cx="4068720" cy="301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40160" y="4067280"/>
            <a:ext cx="2263680" cy="1954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ris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ristal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ristal" descr=""/>
          <p:cNvPicPr/>
          <p:nvPr/>
        </p:nvPicPr>
        <p:blipFill>
          <a:blip r:embed="rId1"/>
          <a:stretch/>
        </p:blipFill>
        <p:spPr>
          <a:xfrm>
            <a:off x="1752480" y="4572000"/>
            <a:ext cx="1968480" cy="2070000"/>
          </a:xfrm>
          <a:prstGeom prst="rect">
            <a:avLst/>
          </a:prstGeom>
          <a:ln w="0">
            <a:noFill/>
          </a:ln>
        </p:spPr>
      </p:pic>
      <p:pic>
        <p:nvPicPr>
          <p:cNvPr id="54" name="polvo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158256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7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 C.</cp:lastModifiedBy>
  <dcterms:modified xsi:type="dcterms:W3CDTF">2005-11-10T16:01:03Z</dcterms:modified>
  <cp:revision>3</cp:revision>
  <dc:subject/>
  <dc:title>Operaciones de Refinamiento Final</dc:title>
</cp:coreProperties>
</file>