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2.png" ContentType="image/png"/>
  <Override PartName="/ppt/media/image19.jpeg" ContentType="image/jpeg"/>
  <Override PartName="/ppt/media/image4.wmf" ContentType="image/x-wmf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png" ContentType="image/png"/>
  <Override PartName="/ppt/media/image3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5E8-7AA5-44EF-8F4C-C92AB5D5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472-5430-4B95-B221-E57D5810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FC1-653F-4023-AB06-4F20F117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2E3-BC64-4A6E-AFBC-019ADFFD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94E-9CCF-49A7-8F7A-E033EAC4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B9D-C64D-4638-BFAC-26D41978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A59-A502-463C-9499-BF9A0B04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E6E-B1B9-441B-A35E-68D2B17B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A17-34F1-4B3E-893D-6CC91416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59E-6CAD-4061-B850-CC128133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974-EEBC-41C5-9484-BA3C5A40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E12-212C-436F-AEDA-BCCB44FB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D6EB-65A7-4B93-8C79-57EB3E2DF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0160" y="4067280"/>
            <a:ext cx="2263680" cy="1954080"/>
          </a:xfrm>
          <a:prstGeom prst="rect">
            <a:avLst/>
          </a:prstGeom>
          <a:ln w="0">
            <a:noFill/>
          </a:ln>
        </p:spPr>
      </p:pic>
      <p:pic>
        <p:nvPicPr>
          <p:cNvPr id="43" name="polvo" descr=""/>
          <p:cNvPicPr/>
          <p:nvPr/>
        </p:nvPicPr>
        <p:blipFill>
          <a:blip r:embed="rId2"/>
          <a:stretch/>
        </p:blipFill>
        <p:spPr>
          <a:xfrm>
            <a:off x="6553080" y="4038480"/>
            <a:ext cx="158292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cristal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2319120" cy="2438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76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23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6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6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Se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olvo" descr=""/>
          <p:cNvPicPr/>
          <p:nvPr/>
        </p:nvPicPr>
        <p:blipFill>
          <a:blip r:embed="rId1"/>
          <a:stretch/>
        </p:blipFill>
        <p:spPr>
          <a:xfrm>
            <a:off x="7151760" y="4495680"/>
            <a:ext cx="14238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43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195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648320" y="1676520"/>
          <a:ext cx="243828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243828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143000" y="1676520"/>
          <a:ext cx="3124080" cy="23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312408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3615840" y="100188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1600200"/>
            <a:ext cx="1904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 de refrig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33526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0" y="236232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 Conge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3505320"/>
            <a:ext cx="1904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cas calefact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6248160" y="3352320"/>
            <a:ext cx="53316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400440" y="2666880"/>
            <a:ext cx="68580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2286000" y="3843360"/>
            <a:ext cx="4068720" cy="301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40160" y="4067280"/>
            <a:ext cx="2263680" cy="1954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ris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cristal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ristal" descr=""/>
          <p:cNvPicPr/>
          <p:nvPr/>
        </p:nvPicPr>
        <p:blipFill>
          <a:blip r:embed="rId1"/>
          <a:stretch/>
        </p:blipFill>
        <p:spPr>
          <a:xfrm>
            <a:off x="1752480" y="4572000"/>
            <a:ext cx="1968480" cy="2070000"/>
          </a:xfrm>
          <a:prstGeom prst="rect">
            <a:avLst/>
          </a:prstGeom>
          <a:ln w="0">
            <a:noFill/>
          </a:ln>
        </p:spPr>
      </p:pic>
      <p:pic>
        <p:nvPicPr>
          <p:cNvPr id="54" name="polvo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158256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7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 C.</cp:lastModifiedBy>
  <dcterms:modified xsi:type="dcterms:W3CDTF">2005-11-10T16:01:03Z</dcterms:modified>
  <cp:revision>3</cp:revision>
  <dc:subject/>
  <dc:title>Operaciones de Refinamiento Final</dc:title>
</cp:coreProperties>
</file>