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19.jpeg" ContentType="image/jpeg"/>
  <Override PartName="/ppt/media/image4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70B-3566-4A41-8DC5-59E85C4C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93A-5933-4048-8632-32E9BBB1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370-6E5F-4A7A-8EFB-2E8C8104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B6E-36DD-4AF1-9743-9D03FBB3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72E-BFB1-4CA9-BA46-F5F6902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49D-8BBD-44E1-B261-516D4F9C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6B2-69A9-45D0-9374-B94ADA3D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87E-9848-421B-BD42-721B1FCA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626-0EB5-4ECA-A5A3-B9EFDE8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5E0-E893-48A0-9EE5-DD83748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838-609E-4545-A46F-103E945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FDA-6D7F-4B1C-8150-AC4DB952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1D84-493E-4737-9E13-D3B90454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  <p:pic>
        <p:nvPicPr>
          <p:cNvPr id="43" name="polvo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cristal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319120" cy="2438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6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3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6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olvo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3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95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ristal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ristal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1968480" cy="2070000"/>
          </a:xfrm>
          <a:prstGeom prst="rect">
            <a:avLst/>
          </a:prstGeom>
          <a:ln w="0">
            <a:noFill/>
          </a:ln>
        </p:spPr>
      </p:pic>
      <p:pic>
        <p:nvPicPr>
          <p:cNvPr id="54" name="polvo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1582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7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5-11-10T16:01:03Z</dcterms:modified>
  <cp:revision>3</cp:revision>
  <dc:subject/>
  <dc:title>Operaciones de Refinamiento Final</dc:title>
</cp:coreProperties>
</file>