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png" ContentType="image/png"/>
  <Override PartName="/ppt/media/image21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9.png" ContentType="image/png"/>
  <Override PartName="/ppt/media/image22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5C6-99E4-4643-98EE-84106A4D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D54-E0C4-411E-8006-58AD8C33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26A-917F-446F-99B2-A7763301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D0D-7CD2-48A0-ADBF-587F23C6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F7E-B419-4887-8D85-1766239F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4F2-4347-4C60-A423-5909A2E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519-EA5A-41A4-8CE1-E6AE6A39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4FD-5DF5-4401-A886-6026AB3B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697-7475-45A9-BA96-0DE542B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449-86B7-4136-A1BF-BFA6B53A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E33-C238-4BF8-83EE-90AC5F1E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222-0FDA-49DF-85E2-842569E0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AF10-2316-417C-B5AA-01461A5738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Electrof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Purific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803920" cy="311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67280" y="4368960"/>
            <a:ext cx="3022560" cy="248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880"/>
            <a:ext cx="830592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rotein fractionation in multi-well device using Off-gel  isoelectric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elveticaNeue-Light"/>
              </a:rPr>
              <a:t>P. Michel, F. Reymond, DiagnoSwiss SA, Monthey/CH;I. Arnaud, J. Josserand, H. Girault, Ecole Polytechnique Fédérale de Lausanne/CH; J.S. Rossier, DiagnoSwiss SA, Monthey/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raccionamiento inicial p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0"/>
            <a:ext cx="556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 y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344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371600"/>
          <a:ext cx="7391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91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9480" y="1905120"/>
          <a:ext cx="3934080" cy="30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905120"/>
                    <a:ext cx="393408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 automáticos</a:t>
            </a:r>
            <a:br>
              <a:rPr sz="4400"/>
            </a:br>
            <a:br>
              <a:rPr sz="4400"/>
            </a:br>
            <a:r>
              <a:rPr b="1" lang="es-ES" sz="2400" spc="-1" strike="noStrike">
                <a:solidFill>
                  <a:srgbClr val="000000"/>
                </a:solidFill>
                <a:latin typeface="HelveticaNeue-Bold"/>
              </a:rPr>
              <a:t>Laboratory system based on a plastic chip for 2D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A. Griebel, S. Rund, W. Dörner, R. Konrad, Institut für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Mikrotechnik Mainz GmbH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5867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año de una tarjeta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360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747960" y="304920"/>
          <a:ext cx="539604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960" y="304920"/>
                    <a:ext cx="53960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137160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tradicionales de electroforesis analí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80880"/>
            <a:ext cx="4952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Horizontal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prepa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metodología de geles en un soporte sólido pueden llegar a ser tediosos, dado que se debe cortar el gel y luego eluir la proteína, motivo por el cual se han desarrollado otras metodologías com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rabajar en medio líquido de películas muy delgadas o mediante membra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s tecnologías más utilizada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 más recirculación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hay recirculación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tancias pequeñas de migración o estabilización rot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elículas De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rriente continua y puntual de muestra sobre el buffer que se mueve en forma vertical entre 2 capas. En la parte lateral están los electrodos, hay un enfriamiento por refriger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o para la separación 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artículas sub-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ponent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85920" y="847800"/>
            <a:ext cx="6572160" cy="5162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927680" cy="581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08720" y="476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quema de un equipo de electroforesis de flujo continuo en una celda de electrofo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lectroforesis an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lindro externo gira hasta 150 rpm (lento) para neutralizar los efectos convectivos radiales.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76520" y="1295280"/>
          <a:ext cx="579096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90960" cy="52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eldas tipo tam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esenta compartimientos separados por discos de membranas de poliéster con poros de 10 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, opera con gradiente de pH, la descarga es por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lícula delgada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realizan ciclos de la muestra que ingresa en diferentes canales como un isoelectroenfo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Electrofor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4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una de las técnicas más poderosas para la purificación de moléculas biológ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ransporte de partículas cargadas a través de un campo eléctrico. Basada en la migración diferencial de las partículas carg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3640" y="4105440"/>
          <a:ext cx="319068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105440"/>
                    <a:ext cx="319068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00400" y="3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0" y="0"/>
          <a:ext cx="5118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118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Procesos Integrado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 Cromatografía de Lecho expandido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Cromatografía Anular Pla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052640"/>
            <a:ext cx="7345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ceso consiste esencialmente de 6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tiene el lecho almace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tabiliza el lecho expandido a un determinad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quilibrio el lecho con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arga el caldo directo de la fer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lav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uye y regener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249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217800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16072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221436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472428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estabilización 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724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carga del c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s Continuas: Cromatografía Anul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19428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14800" cy="400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990720"/>
            <a:ext cx="4800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Inyectar continuament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yectar continuamente la muestra, reemplaza a los carruseles de colum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350532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5053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29000" y="4114800"/>
            <a:ext cx="6858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419720"/>
            <a:ext cx="458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luente Libre de células y productos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1447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 1 se carga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44197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uye sólo la proteína de interes que estaba adsorbida en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1295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 2 se eluye la proteína adsor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752480"/>
          <a:ext cx="302904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302904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048120" y="4038480"/>
            <a:ext cx="7617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819520"/>
            <a:ext cx="0" cy="7617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utilizar tanto en esc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alítica ( más conoc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spectos que afectas  la separación: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arga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amaño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orma de la proteína</a:t>
            </a:r>
            <a:r>
              <a:rPr b="1" lang="es-ES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95480" y="3886200"/>
          <a:ext cx="54104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86200"/>
                    <a:ext cx="54104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ioreactor%20filter%20DrIng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380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un sistema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495680" y="4572000"/>
          <a:ext cx="449604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572000"/>
                    <a:ext cx="4496040" cy="1700280"/>
                  </a:xfrm>
                  <a:prstGeom prst="rect">
                    <a:avLst/>
                  </a:prstGeom>
                  <a:ln w="1260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8006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ados de la Integ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1433520"/>
            <a:ext cx="7848720" cy="424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43280" y="640080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astilho LR, Anspach FB, Deckwer WD (2002), </a:t>
            </a: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An integrated process for mammalian cell perfusion </a:t>
            </a:r>
            <a:br>
              <a:rPr sz="1400"/>
            </a:b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cultivation and product purification using a dynamic filter.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Biotechnol. Prog., 18, 776-7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ción de los niveles de recu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" y="562464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9920" y="16765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estra des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 Bio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579132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flujos altos pues la membrana es r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Comic Sans MS"/>
              </a:rPr>
              <a:t>Electro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84360" y="2133720"/>
          <a:ext cx="49183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133720"/>
                    <a:ext cx="49183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066680" y="10666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 a la que se le aplica un campo eléctrico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torta se minimiza y el proceso es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609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ectro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Tecnología de purificación magnética para proteínas inmovi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523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dea consiste en inmovilizar la proteína a partículas que tengan propiedades magné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2514600"/>
          <a:ext cx="715320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153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457200"/>
            <a:ext cx="7239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teriormente, las partículas magnéticas son atrapadas en un campo eléctrico, quedando solo ellas retenidas y el resto de las especies de la mezcla son elimin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ultimo, se desorben las proteínas desde las partícula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Diagra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agnetos4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10840" cy="553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Nuevos Materiales Cromatográficos</a:t>
            </a:r>
            <a:br>
              <a:rPr sz="4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Monolith Separation Technology</a:t>
            </a:r>
            <a:br>
              <a:rPr sz="2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http://www.monoliths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770280" cy="295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4120" y="2819520"/>
            <a:ext cx="3200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porte Monol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les son una sola pieza, altamente interconectada con grandes y pequeños ca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352320" y="4191120"/>
            <a:ext cx="1981800" cy="2057400"/>
            <a:chOff x="3352320" y="4191120"/>
            <a:chExt cx="1981800" cy="2057400"/>
          </a:xfrm>
        </p:grpSpPr>
        <p:sp>
          <p:nvSpPr>
            <p:cNvPr id="170" name=""/>
            <p:cNvSpPr/>
            <p:nvPr/>
          </p:nvSpPr>
          <p:spPr>
            <a:xfrm>
              <a:off x="3733920" y="4876920"/>
              <a:ext cx="990360" cy="13716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1120" y="4191120"/>
              <a:ext cx="0" cy="121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571500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571500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533520"/>
            <a:ext cx="7620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cortos de 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os activos fácilmente acc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s capacidades para molécula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s tipo de cromatografía: Intercambio Iónico,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as,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ración por G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rmalmente se trabajan a flujos &lt; 1.0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evos materiales  Flujos = 5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Fund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icialmente se desarrollaba electroforesis en medio líquido, pero se producía dispersión, se requirió de medios que proporcionarán mayor resistencia mecánica, tal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elul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oliacril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chos medios resulta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ás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tamente hidra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0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sminuyen los efectos de calor gen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do el sistema sumido en un electrolito que sirve como buffer.</a:t>
            </a: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partícula al estar cargada genera capas de iones que la rod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19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380880"/>
          <a:ext cx="445788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445788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componente se mueve a diferente velocidad, entonces se logra separar la mezcla. Dicha velocidad de movilidad, velocidad de la partícula (v) por unidad de campo eléctrico (E),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vilidad = v/E = k (pH-pI)/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a pH = p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roteínas se demoran más en migrar, las grandes o las pequeñ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se aplico un campo eléctrico muy gra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ectroforesis se puede utilizar para determin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de proteínas por medi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nativos (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denaturantes (SDS-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unto isoléctrico por geles de 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de titulación por geles de isoelectroenfoque en dos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y pI por geles en 2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ctividad de enzimas por zimogra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8800" y="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SDS-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masa molecular,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1066680"/>
          <a:ext cx="47037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66680"/>
                    <a:ext cx="47037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74320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52480" y="1676520"/>
          <a:ext cx="548640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548640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05120" y="533520"/>
            <a:ext cx="556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20:29:52Z</dcterms:created>
  <dc:creator>Maria Elena Lienqueo C.</dc:creator>
  <dc:description/>
  <dc:language>en-US</dc:language>
  <cp:lastModifiedBy>Maria Elena Lienqueo C.</cp:lastModifiedBy>
  <dcterms:modified xsi:type="dcterms:W3CDTF">2005-10-19T16:08:24Z</dcterms:modified>
  <cp:revision>63</cp:revision>
  <dc:subject/>
  <dc:title>Cromatografía en Lecho Fijo</dc:title>
</cp:coreProperties>
</file>