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4BD-F519-4139-BF12-AD08B528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E39-CE06-43EC-A6A8-45993C9B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299-26D0-46A1-BD73-8325C3FD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588-61B6-4C9A-942C-B76D675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276-4EB3-4E6F-9A04-8272433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118-A92C-4D34-ADB7-2EBEAF6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E69-8354-444B-AEAA-60DB1D0B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A87-A745-4DDE-8079-DE0E05B4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D8D-DEDA-48B1-8FE0-3540845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7A4-F234-45A1-BDEB-C4C6028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419-6465-4467-80FE-240BAB0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F28-F6D3-4247-86C0-74A6023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3BF-3411-4F91-A729-294CB50E9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0200" y="2725560"/>
                <a:ext cx="3992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3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6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-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8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235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7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243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49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271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313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319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320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2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7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328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85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5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59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0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6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6094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88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9-29T19:57:41Z</dcterms:modified>
  <cp:revision>168</cp:revision>
  <dc:subject/>
  <dc:title>Separación Sólido-Líquido</dc:title>
</cp:coreProperties>
</file>