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33B-B902-4928-B75C-D33B0B9C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2E2-148A-407B-BE49-0D2344DC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51E-B833-41E3-B079-02DC15BB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DA6-3EC3-490E-8833-28F06277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2A7-DC14-4438-8EAF-39F77C96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7D8-C628-4905-81DA-FF8AB891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575-53CF-49F1-B5B1-33E9EBC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E18-6BA5-43E1-8194-4EB0E45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5CE-AB5B-421F-9ED0-4CDBE203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25B-F515-4FB8-9BC3-FDAB2EE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5D4-B926-4629-91C6-A170A120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C84-9BF4-4B8E-9F9C-1EFC5CD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228-5D58-4662-8F2D-4383D25F6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0200" y="2725560"/>
                <a:ext cx="3992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k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3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6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00200" y="2362320"/>
                <a:ext cx="4881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52480" y="4648320"/>
                <a:ext cx="3962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457200"/>
            <a:ext cx="53337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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: graficando (-[t/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-1]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/2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versus  ln(y/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867280" y="914400"/>
                <a:ext cx="28576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066680" y="3276720"/>
          <a:ext cx="541044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541044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228600"/>
            <a:ext cx="822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18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533520" y="3124080"/>
            <a:ext cx="8610480" cy="3738600"/>
            <a:chOff x="533520" y="3124080"/>
            <a:chExt cx="8610480" cy="373860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09480" y="510552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4038480" y="4979880"/>
              <a:ext cx="5105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Las constantes A, B y C incluyen los efectos de transferencia de material líquido sólido, la dispersión axial hacia delante y atrás y la distribución no lineal del líquido  a través del relle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312408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235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37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243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49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271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0880" y="3809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313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319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320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2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7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328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85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5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59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iempo de retención del peak, to, es 93 minutos y la desviación estándar, s, es de 0,129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0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6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6094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88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9-29T19:57:41Z</dcterms:modified>
  <cp:revision>168</cp:revision>
  <dc:subject/>
  <dc:title>Separación Sólido-Líquido</dc:title>
</cp:coreProperties>
</file>