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87D-2CB7-4357-8725-A52A1493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AF4-41E1-41DA-8492-CA7E607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A9E-32D6-46A8-9EFC-AEAE4DA3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0B7-48FD-4682-8BB2-63CFCC10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235-DE76-487A-9018-A9B1751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B7B-C164-4238-BF7E-941BDC7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0A7-BA6F-4625-A91D-1B58282E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00B-02C0-4135-B01A-8D622B56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7C8-162D-4AA0-957B-D56715A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14F-4907-4133-97C9-4BEE203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8BB-C3E9-40E3-8B22-D25E5A8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051-E7CB-431D-8458-B173B51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AAFA-DD9E-43BD-B2F6-439B2096B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0200" y="2725560"/>
                <a:ext cx="3992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k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3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6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00200" y="2362320"/>
                <a:ext cx="4881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52480" y="4648320"/>
                <a:ext cx="3962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457200"/>
            <a:ext cx="53337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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: graficando (-[t/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-1]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/2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versus  ln(y/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867280" y="914400"/>
                <a:ext cx="28576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066680" y="3276720"/>
          <a:ext cx="541044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541044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228600"/>
            <a:ext cx="822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18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533520" y="3124080"/>
            <a:ext cx="8610480" cy="3738600"/>
            <a:chOff x="533520" y="3124080"/>
            <a:chExt cx="8610480" cy="373860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09480" y="510552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4038480" y="4979880"/>
              <a:ext cx="5105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Las constantes A, B y C incluyen los efectos de transferencia de material líquido sólido, la dispersión axial hacia delante y atrás y la distribución no lineal del líquido  a través del relle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312408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235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37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243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49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271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0880" y="3809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313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319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320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2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7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328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85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5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59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iempo de retención del peak, to, es 93 minutos y la desviación estándar, s, es de 0,129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0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6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6094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88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9-29T19:57:41Z</dcterms:modified>
  <cp:revision>168</cp:revision>
  <dc:subject/>
  <dc:title>Separación Sólido-Líquido</dc:title>
</cp:coreProperties>
</file>