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6F5-14F5-4EDB-85A5-A0EA96A0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B91-CCFF-4B53-B262-4C69677D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5942-691E-41FA-B2E4-3843A0B6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5B2-F58C-4D27-93A7-6B476433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CE5-A1B3-4B95-BC84-E9849361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1A7-EC60-4F4E-947C-54C57738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CBA-9DDD-46AA-8BBD-1FCC1D41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8690-5854-4A72-BA6A-FAE60D35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177-4BFA-4A67-8B6D-8A411B23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9B1-6F7B-4A56-9476-282A4CDE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6FA-44E6-41C4-A20A-54C692D7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726-7FC6-45F5-A597-1F45E05A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634D-791E-4F50-B036-F49CDDAAE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609480"/>
            <a:ext cx="7696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odelos para predecir los perfiles cromat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pl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0200" y="2725560"/>
                <a:ext cx="399240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*k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153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55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156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8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00200" y="2362320"/>
                <a:ext cx="488160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52480" y="4648320"/>
                <a:ext cx="396252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457200"/>
            <a:ext cx="533376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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: graficando (-[t/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-1]</a:t>
            </a:r>
            <a:r>
              <a:rPr b="0" lang="es-ES_tradnl" sz="20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)/2</a:t>
            </a:r>
            <a:r>
              <a:rPr b="0" lang="es-ES_tradnl" sz="20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versus  ln(y/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867280" y="914400"/>
                <a:ext cx="285768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1" name=""/>
          <p:cNvGraphicFramePr/>
          <p:nvPr/>
        </p:nvGraphicFramePr>
        <p:xfrm>
          <a:off x="1066680" y="3276720"/>
          <a:ext cx="541044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76720"/>
                    <a:ext cx="541044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228600"/>
            <a:ext cx="8226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18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"/>
          <p:cNvGrpSpPr/>
          <p:nvPr/>
        </p:nvGrpSpPr>
        <p:grpSpPr>
          <a:xfrm>
            <a:off x="533520" y="3124080"/>
            <a:ext cx="8610480" cy="3738600"/>
            <a:chOff x="533520" y="3124080"/>
            <a:chExt cx="8610480" cy="373860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609480" y="510552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4038480" y="4979880"/>
              <a:ext cx="510552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Las constantes A, B y C incluyen los efectos de transferencia de material líquido sólido, la dispersión axial hacia delante y atrás y la distribución no lineal del líquido  a través del rellen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520" y="312408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235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37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umen o tiempo necesario para transportar al soluto a través de una columna hasta que sale su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876920" y="2133720"/>
          <a:ext cx="352404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133720"/>
                    <a:ext cx="3524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2" name=""/>
          <p:cNvGrpSpPr/>
          <p:nvPr/>
        </p:nvGrpSpPr>
        <p:grpSpPr>
          <a:xfrm>
            <a:off x="380880" y="4114800"/>
            <a:ext cx="8458200" cy="2422080"/>
            <a:chOff x="380880" y="4114800"/>
            <a:chExt cx="8458200" cy="2422080"/>
          </a:xfrm>
        </p:grpSpPr>
        <p:sp>
          <p:nvSpPr>
            <p:cNvPr id="243" name=""/>
            <p:cNvSpPr/>
            <p:nvPr/>
          </p:nvSpPr>
          <p:spPr>
            <a:xfrm>
              <a:off x="380880" y="4114800"/>
              <a:ext cx="4419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2.Factor de Capac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1447920" y="4788000"/>
                  <a:ext cx="173484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45" name=""/>
            <p:cNvSpPr/>
            <p:nvPr/>
          </p:nvSpPr>
          <p:spPr>
            <a:xfrm>
              <a:off x="3505320" y="5486400"/>
              <a:ext cx="533376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V</a:t>
              </a:r>
              <a:r>
                <a:rPr b="0" lang="es-CL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H</a:t>
              </a: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: Volumen de huecos, ie, el volumen de líquido existente en la columna que no se encuentra en el interior de las partíc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0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49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09480" y="3581280"/>
                <a:ext cx="809172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de Tablas de Integ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72000" y="320040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33520" y="1752480"/>
            <a:ext cx="8610480" cy="1685880"/>
            <a:chOff x="533520" y="1752480"/>
            <a:chExt cx="8610480" cy="1685880"/>
          </a:xfrm>
        </p:grpSpPr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4572000" y="1752480"/>
                  <a:ext cx="4572000" cy="16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ield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"/>
            <p:cNvSpPr/>
            <p:nvPr/>
          </p:nvSpPr>
          <p:spPr>
            <a:xfrm>
              <a:off x="533520" y="2209680"/>
              <a:ext cx="807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t</a:t>
              </a:r>
              <a:r>
                <a:rPr b="0" lang="es-CL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1</a:t>
              </a: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4" name=""/>
          <p:cNvGraphicFramePr/>
          <p:nvPr/>
        </p:nvGraphicFramePr>
        <p:xfrm>
          <a:off x="533520" y="2971800"/>
          <a:ext cx="472428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4724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271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0880" y="380988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313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5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319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320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2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2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7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328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7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85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55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59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533520" y="457200"/>
            <a:ext cx="426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724280" y="914400"/>
          <a:ext cx="4419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914400"/>
                    <a:ext cx="4419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457200" y="3657600"/>
            <a:ext cx="3962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67280" y="533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na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2286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4191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33520" y="0"/>
            <a:ext cx="80769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t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V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) Vc/F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Vc/F = L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33520" y="457200"/>
            <a:ext cx="8076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iempo de retención del peak, to, es 93 minutos y la desviación estándar, s, es de 0,129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0"/>
            <a:ext cx="79246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52480" y="1143000"/>
          <a:ext cx="5639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43000"/>
                    <a:ext cx="5639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304920" y="1371600"/>
          <a:ext cx="8458200" cy="5497560"/>
        </p:xfrm>
        <a:graphic>
          <a:graphicData uri="http://schemas.openxmlformats.org/drawingml/2006/table">
            <a:tbl>
              <a:tblPr/>
              <a:tblGrid>
                <a:gridCol w="1447560"/>
                <a:gridCol w="666720"/>
                <a:gridCol w="1057320"/>
                <a:gridCol w="1057320"/>
                <a:gridCol w="974880"/>
                <a:gridCol w="1139760"/>
                <a:gridCol w="1057320"/>
                <a:gridCol w="1057320"/>
              </a:tblGrid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70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76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-60948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676520"/>
            <a:ext cx="4953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72280" y="144792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44792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88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5-09-29T19:57:41Z</dcterms:modified>
  <cp:revision>168</cp:revision>
  <dc:subject/>
  <dc:title>Separación Sólido-Líquido</dc:title>
</cp:coreProperties>
</file>