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6A1B-21C0-4CDD-96C0-60C2F010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3BF6-805A-4EB2-91F8-A5E1558F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71A-90F1-415F-A444-3D723EA5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2B8-FC20-4597-A1A7-03F56511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F6E-3F4B-4C37-86C7-6EDFD535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95F7-71B5-42B3-998E-530D1FD5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E3F9-51CA-4CCF-BCCE-9BDBBC60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4521-7F94-497C-B243-EAA26FE9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87B-BEFC-4C4C-AEAB-DC1D8338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BBDF-D259-43C0-B653-F6F0D84D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3A3-C6BB-4E26-B581-1196814B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15B4-B98A-4FE3-BBB4-48CFC5F7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59AE-5129-4133-A4E1-42E659EBC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Comic Sans MS"/>
              </a:rPr>
              <a:t>Tratamiento de desech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80880"/>
            <a:ext cx="2971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antidad de proteína  40  a 50 % del total de polipéptidos que forman estas agreg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es de de separar de otros desechos celulares y componentes solubles de la célula por medio de centrifugación moder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091040" y="228600"/>
          <a:ext cx="5052960" cy="652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1040" y="228600"/>
                    <a:ext cx="5052960" cy="65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33520"/>
            <a:ext cx="830592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ost tratamiento (Renatur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los cuerpos incl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tamiento con  Hidrocloruro de guanidina (GdmC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s proteínas contienen cisteína se debe agregar un agente reductor como D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proteína contiene enlaces disulfuro el DTT debe ser eliminado por medio de di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olding (Re-enrol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do de proteínas deben ser diluidas a una concentración muy bajas (5 - 20 mg/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icionar buffer fosfato con una solución de glutathione reducido y glutathione oxid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828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Separación de desechos celulares</a:t>
            </a:r>
            <a:br>
              <a:rPr sz="3600"/>
            </a:b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Clarificación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amaño de los desechos celulare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debris)</a:t>
            </a:r>
            <a:br>
              <a:rPr sz="3200"/>
            </a:b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Viscosidad del extrac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9520" y="4724280"/>
            <a:ext cx="83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Esta etapa resulta ser u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de las etapas más difíciles y costos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Operaciones unitarias 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1828800"/>
            <a:ext cx="76197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entrifug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Micro o Ultrafil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Extracción en dos fases acuosa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utilizando un sistema de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olietilenglicol (PEG) -dextr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Adsorción en lechos expandido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Expanded bed adsorp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Comic Sans MS"/>
              </a:rPr>
              <a:t>Tipos de dese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2286000"/>
            <a:ext cx="685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Ácidos nucle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rotea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rozos de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Organelos celula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uerpos Inclu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Protea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057400"/>
            <a:ext cx="7620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presencia de enzimas proteolíticas puede producir alteraciones en el producto por este motivo se puede reducir este tipo de actividad enzi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Inhibidor de proteasas:  Agregando Floruro de feni-metil-sulfonil (PMSF) en EDTA u otro inhibidor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Trabajar a bajas temper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justar el pH quím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Ácidos Nucle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057400"/>
            <a:ext cx="815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l DNA aumenta la viscosidad del extracto, por otra parte si el producto es de uso terapéutico e inyectable todos los ácidos nucleicos deben ser removi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s alternativa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recipitar el DNA formando agregados con macromoléculas policationicas, tales como sulfato de protam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Utilizar DNA-asa para reducir la viscosidad, pero se deber en cuenta que al agregar productos al extracto se dificultan las etapas siguientes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Trozo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0574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Los trozos de membrana se pueden separar utilizado las operaciones de separación sólido-líquido ya mencionadas como son microfiltración, centrifugación o extracción líquido-líqu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Organel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057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ara cada organelo, ya se sea mitocondria, cloroplasto, núcleo, etc. existen procedimientos especí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V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arris and Angel (1989) “ Protein purification methods: a practical approach”, IRL Press, pp 97-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ocesamiento de proteínas agregadas </a:t>
            </a:r>
            <a:br>
              <a:rPr sz="2800"/>
            </a:b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Inclusion bod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3716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modificadas genéticamente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roteínas recombinantes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cuerpos inc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n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solu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ción beneficiosa: Agregaciones no son degradadas significativamente por proteasas, ya que los sitios sensible a la actividad de proteasas se encuentran inaccesi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867280" y="2514600"/>
          <a:ext cx="25718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514600"/>
                    <a:ext cx="25718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17:17:19Z</dcterms:created>
  <dc:creator>li</dc:creator>
  <dc:description/>
  <dc:language>en-US</dc:language>
  <cp:lastModifiedBy>Maria Elena Lienqueo C.</cp:lastModifiedBy>
  <dcterms:modified xsi:type="dcterms:W3CDTF">2002-08-30T23:03:35Z</dcterms:modified>
  <cp:revision>11</cp:revision>
  <dc:subject/>
  <dc:title>Tratamiento de desechos celulares</dc:title>
</cp:coreProperties>
</file>