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2EC-3AF8-4AAD-927A-CD4D3AF7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0CC-8372-455B-B4E4-A622556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13D-9AA6-435E-B529-8F7444CF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13E-F541-499F-9C5D-76E28E25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0F2-6887-440A-854C-9E0CAACF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47D-C9D2-4110-8EB2-ABE94D7F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98D-8739-44D6-926D-3EBE32EC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C35-B72C-4BA1-9C7E-3AEAB16F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E00-7DD8-4FD5-9CD8-8C27D4C8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3E2-DF7C-4FF6-AF97-22EC27D4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C74-9BB5-4A79-859D-F3CF2521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F78-34A2-476A-9CAB-5095D7AA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B0C3-2740-47CF-B3A6-EE9F4A0B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7:17:19Z</dcterms:created>
  <dc:creator>li</dc:creator>
  <dc:description/>
  <dc:language>en-US</dc:language>
  <cp:lastModifiedBy>Maria Elena Lienqueo C.</cp:lastModifiedBy>
  <dcterms:modified xsi:type="dcterms:W3CDTF">2002-08-30T23:03:35Z</dcterms:modified>
  <cp:revision>11</cp:revision>
  <dc:subject/>
  <dc:title>Tratamiento de desechos celulares</dc:title>
</cp:coreProperties>
</file>