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5E3-0574-4AA3-9D8C-767ADA5C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3A5-D4FD-4F1B-B283-99EDCC55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9159-3B8D-43F3-ACB8-DB8006B9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132-4FB7-44B4-B56D-2637281FF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F4D-081A-4E21-A6C0-2908E8C8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7D5-4A2B-4DEB-A5A6-3E314426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D41-DDB4-4E56-B125-82E507D9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7CB-A85E-4F4F-A4CA-645D8FF5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EE3-7D89-461D-BE5C-89EFB5F5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D18-1EB5-41D8-81CD-12BCD3C7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4BB-8939-42A2-9764-1EB800DC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71A2-CD4F-47B7-AB8C-CBAE58E1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6637-1D3C-410D-BAB8-B2D80E255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Comic Sans MS"/>
              </a:rPr>
              <a:t>Tratamiento de desech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380880"/>
            <a:ext cx="2971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antidad de proteína  40  a 50 % del total de polipéptidos que forman estas agreg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áciles de de separar de otros desechos celulares y componentes solubles de la célula por medio de centrifugación mode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091040" y="228600"/>
          <a:ext cx="5052960" cy="652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1040" y="228600"/>
                    <a:ext cx="5052960" cy="652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33520"/>
            <a:ext cx="830592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ost tratamiento (Renatur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r los cuerpos inc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tamiento con  Hidrocloruro de guanidina (GdmC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s proteínas contienen cisteína se debe agregar un agente reductor como DT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proteína contiene enlaces disulfuro el DTT debe ser eliminado por medio de di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olding (Re-enroll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olubilizado de proteínas deben ser diluidas a una concentración muy bajas (5 - 20 mg/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icionar buffer fosfato con una solución de glutathione reducido y glutathione oxid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Separación de desechos celulares</a:t>
            </a:r>
            <a:br>
              <a:rPr sz="3600"/>
            </a:b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Rompimiento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Clarificación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amaño de los desechos celulare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debris)</a:t>
            </a: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Viscosidad del extrac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9520" y="472428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Esta etapa resulta ser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990033"/>
                </a:solidFill>
                <a:latin typeface="Comic Sans MS"/>
              </a:rPr>
              <a:t>de las etapas más difíciles y costos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3333cc"/>
                </a:solidFill>
                <a:uFillTx/>
                <a:latin typeface="Comic Sans MS"/>
              </a:rPr>
              <a:t>Operaciones unitarias </a:t>
            </a:r>
            <a:br>
              <a:rPr sz="3600"/>
            </a:br>
            <a:r>
              <a:rPr b="0" lang="es-ES" sz="36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828800"/>
            <a:ext cx="76197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entrifug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Micro o Ultrafil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Extracción en dos fases acuosa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utilizando un sistema de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olietilenglicol (PEG) -dextr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Adsorción en lechos expandidos 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(Expanded bed adsorp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Comic Sans MS"/>
              </a:rPr>
              <a:t>Tipos de desech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228600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Ácidos nucle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Protea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Trozos de membr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Organelos celula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Comic Sans MS"/>
              </a:rPr>
              <a:t>Cuerpos Inclu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Proteas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057400"/>
            <a:ext cx="7620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presencia de enzimas proteolíticas puede producir alteraciones en el producto por este motivo se puede reducir este tipo de actividad enzim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Inhibidor de proteasas:  Agregando Floruro de feni-metil-sulfonil (PMSF) en EDTA u otro inhibidor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bajar a bajas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justar el pH químic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3333cc"/>
                </a:solidFill>
                <a:uFillTx/>
                <a:latin typeface="Comic Sans MS"/>
              </a:rPr>
              <a:t>Remoción de Ácidos Nucle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0574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l DNA aumenta la viscosidad del extracto, por otra parte si el producto es de uso terapéutico e inyectable todos los ácidos nucleicos deben ser removi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s alternativa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recipitar el DNA formando agregados con macromoléculas policationicas, tales como sulfato de protam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Utilizar DNA-asa para reducir la viscosidad, pero se deber en cuenta que al agregar productos al extracto se dificultan las etapas siguientes de pur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Trozos de membr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0574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</a:rPr>
              <a:t>Los trozos de membrana se pueden separar utilizado las operaciones de separación sólido-líquido ya mencionadas como son microfiltración, centrifugación o extracción líquido-líqu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3333cc"/>
                </a:solidFill>
                <a:uFillTx/>
                <a:latin typeface="Comic Sans MS"/>
              </a:rPr>
              <a:t>Organelos celu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057400"/>
            <a:ext cx="815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ara cada organelo, ya se sea mitocondria, cloroplasto, núcleo, etc. existen procedimientos específ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V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Harris and Angel (1989) “ Protein purification methods: a practical approach”, IRL Press, pp 97-1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ocesamiento de proteínas agregadas </a:t>
            </a:r>
            <a:br>
              <a:rPr sz="2800"/>
            </a:br>
            <a:r>
              <a:rPr b="1" lang="es-ES" sz="2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Inclusion bod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5909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371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modificadas genéticamente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roteínas recombinantes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cuerpos inc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n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solu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a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V</a:t>
            </a:r>
            <a:r>
              <a:rPr b="0" lang="es-ES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ormación beneficiosa: Agregaciones no son degradadas significativamente por proteasas, ya que los sitios sensible a la actividad de proteasas se encuentran inaccesi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867280" y="2514600"/>
          <a:ext cx="25718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514600"/>
                    <a:ext cx="25718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30T17:17:19Z</dcterms:created>
  <dc:creator>li</dc:creator>
  <dc:description/>
  <dc:language>en-US</dc:language>
  <cp:lastModifiedBy>Maria Elena Lienqueo C.</cp:lastModifiedBy>
  <dcterms:modified xsi:type="dcterms:W3CDTF">2002-08-30T23:03:35Z</dcterms:modified>
  <cp:revision>11</cp:revision>
  <dc:subject/>
  <dc:title>Tratamiento de desechos celulares</dc:title>
</cp:coreProperties>
</file>