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34.jpeg" ContentType="image/jpeg"/>
  <Override PartName="/ppt/media/image10.wmf" ContentType="image/x-wmf"/>
  <Override PartName="/ppt/media/image25.png" ContentType="image/png"/>
  <Override PartName="/ppt/media/image11.png" ContentType="image/png"/>
  <Override PartName="/ppt/media/image9.jpeg" ContentType="image/jpeg"/>
  <Override PartName="/ppt/media/image30.png" ContentType="image/png"/>
  <Override PartName="/ppt/media/image35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31.wmf" ContentType="image/x-wmf"/>
  <Override PartName="/ppt/media/image28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36.wmf" ContentType="image/x-wmf"/>
  <Override PartName="/ppt/media/image37.wmf" ContentType="image/x-wmf"/>
  <Override PartName="/ppt/media/image18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28BB-BA37-4988-B2F1-451A443E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146D-AA88-4DDD-80DB-292AE157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1F56-1C69-4D19-8219-4CC51382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89C1-CEE8-4CA1-BD56-D38384CE8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87A8-C4B5-4B79-8866-A4A58355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57EB-D34E-430C-A1F9-65BB1016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6300-C81B-49CA-AD12-68003A79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C778-CF5B-4071-AAC2-8E1453D2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30EB-845A-437A-98BB-2CD18D00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4799-DE04-469E-9B87-A72D4BC3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F225-D1CD-4942-980B-C46E5F40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A176-0B18-44F2-8F5A-883FFE97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D02E-8213-4F8E-8258-149A06B924C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peraciones de membr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60948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W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ltros y membranas se caracterizan por un tamaño de corte según la masa molecular en base a solutos solubles (NMWC, Nominal Molecular Weight Cut-Off ) que es retenido en un 90% por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WMC varía entre 500-1.000.000 Da o 1-10.000 n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j. PM-5 o XM-10 (KDa)   ¿ Cuántos gramos es un 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962520"/>
            <a:ext cx="71629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33"/>
                </a:solidFill>
                <a:uFillTx/>
                <a:latin typeface="Comic Sans MS"/>
                <a:ea typeface="Times New Roman"/>
              </a:rPr>
              <a:t>Materiales de construcción de las membr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Esteres de celul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Ny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Cloruro de vini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Acrilonitratos</a:t>
            </a: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40" y="-684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404640"/>
            <a:ext cx="8915040" cy="6705720"/>
            <a:chOff x="0" y="404640"/>
            <a:chExt cx="8915040" cy="6705720"/>
          </a:xfrm>
        </p:grpSpPr>
        <p:grpSp>
          <p:nvGrpSpPr>
            <p:cNvPr id="77" name=""/>
            <p:cNvGrpSpPr/>
            <p:nvPr/>
          </p:nvGrpSpPr>
          <p:grpSpPr>
            <a:xfrm>
              <a:off x="5400" y="408600"/>
              <a:ext cx="8903520" cy="6697080"/>
              <a:chOff x="5400" y="408600"/>
              <a:chExt cx="8903520" cy="669708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5400" y="408600"/>
                <a:ext cx="1529640" cy="564840"/>
                <a:chOff x="5400" y="408600"/>
                <a:chExt cx="1529640" cy="5648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7240" y="408600"/>
                  <a:ext cx="142596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ariab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400" y="408600"/>
                  <a:ext cx="152964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1535400" y="408600"/>
                <a:ext cx="1900800" cy="564840"/>
                <a:chOff x="1535400" y="408600"/>
                <a:chExt cx="1900800" cy="5648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587600" y="4086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filt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535400" y="4086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3436560" y="408600"/>
                <a:ext cx="1900800" cy="564840"/>
                <a:chOff x="3436560" y="408600"/>
                <a:chExt cx="1900800" cy="5648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3488760" y="4086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Ultrafilt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436560" y="4086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5338080" y="408600"/>
                <a:ext cx="2322360" cy="564840"/>
                <a:chOff x="5338080" y="408600"/>
                <a:chExt cx="2322360" cy="5648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390280" y="408600"/>
                  <a:ext cx="22176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Osmosis Invers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338080" y="408600"/>
                  <a:ext cx="232236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7660800" y="408600"/>
                <a:ext cx="1248120" cy="564840"/>
                <a:chOff x="7660800" y="408600"/>
                <a:chExt cx="1248120" cy="5648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712640" y="408600"/>
                  <a:ext cx="114444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iális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660800" y="408600"/>
                  <a:ext cx="124812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5400" y="973440"/>
                <a:ext cx="1529640" cy="726120"/>
                <a:chOff x="5400" y="973440"/>
                <a:chExt cx="1529640" cy="7261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7240" y="973440"/>
                  <a:ext cx="142596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uerza Impulsor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400" y="973440"/>
                  <a:ext cx="152964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1535400" y="973440"/>
                <a:ext cx="1900800" cy="726120"/>
                <a:chOff x="1535400" y="973440"/>
                <a:chExt cx="1900800" cy="7261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1587600" y="973440"/>
                  <a:ext cx="17964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535400" y="973440"/>
                  <a:ext cx="190080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436560" y="973440"/>
                <a:ext cx="1900800" cy="726120"/>
                <a:chOff x="3436560" y="973440"/>
                <a:chExt cx="1900800" cy="7261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3488760" y="973440"/>
                  <a:ext cx="17964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436560" y="973440"/>
                  <a:ext cx="190080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5338080" y="973440"/>
                <a:ext cx="2322360" cy="726120"/>
                <a:chOff x="5338080" y="973440"/>
                <a:chExt cx="2322360" cy="7261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390280" y="973440"/>
                  <a:ext cx="22176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338080" y="973440"/>
                  <a:ext cx="232236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7660800" y="973440"/>
                <a:ext cx="1248120" cy="726120"/>
                <a:chOff x="7660800" y="973440"/>
                <a:chExt cx="1248120" cy="7261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7712640" y="973440"/>
                  <a:ext cx="114444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660800" y="973440"/>
                  <a:ext cx="124812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5400" y="1699920"/>
                <a:ext cx="1529640" cy="887760"/>
                <a:chOff x="5400" y="1699920"/>
                <a:chExt cx="1529640" cy="8877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57240" y="1699920"/>
                  <a:ext cx="142596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esión de Operación [Kpa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400" y="1699920"/>
                  <a:ext cx="152964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1535400" y="1699920"/>
                <a:ext cx="1900800" cy="887760"/>
                <a:chOff x="1535400" y="1699920"/>
                <a:chExt cx="1900800" cy="8877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587600" y="169992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0-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535400" y="169992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3436560" y="1699920"/>
                <a:ext cx="1900800" cy="887760"/>
                <a:chOff x="3436560" y="1699920"/>
                <a:chExt cx="1900800" cy="8877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488760" y="169992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0-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6560" y="169992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338080" y="1699920"/>
                <a:ext cx="2322360" cy="887760"/>
                <a:chOff x="5338080" y="1699920"/>
                <a:chExt cx="2322360" cy="8877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5390280" y="1699920"/>
                  <a:ext cx="22176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700-2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338080" y="1699920"/>
                  <a:ext cx="232236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7660800" y="1699920"/>
                <a:ext cx="1248120" cy="887760"/>
                <a:chOff x="7660800" y="1699920"/>
                <a:chExt cx="1248120" cy="8877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7712640" y="1699920"/>
                  <a:ext cx="114444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660800" y="1699920"/>
                  <a:ext cx="124812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400" y="2587680"/>
                <a:ext cx="1529640" cy="887400"/>
                <a:chOff x="5400" y="2587680"/>
                <a:chExt cx="1529640" cy="8874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7240" y="2587680"/>
                  <a:ext cx="142596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Tipo de Membran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400" y="2587680"/>
                  <a:ext cx="152964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1535400" y="2587680"/>
                <a:ext cx="1900800" cy="887400"/>
                <a:chOff x="1535400" y="2587680"/>
                <a:chExt cx="1900800" cy="8874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587600" y="2587680"/>
                  <a:ext cx="17964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porosa Simétrica o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535400" y="2587680"/>
                  <a:ext cx="190080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436560" y="2587680"/>
                <a:ext cx="1900800" cy="887400"/>
                <a:chOff x="3436560" y="2587680"/>
                <a:chExt cx="1900800" cy="8874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488760" y="2587680"/>
                  <a:ext cx="17964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porosa Simétrica o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36560" y="2587680"/>
                  <a:ext cx="190080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338080" y="2587680"/>
                <a:ext cx="2322360" cy="887400"/>
                <a:chOff x="5338080" y="2587680"/>
                <a:chExt cx="2322360" cy="8874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390280" y="2587680"/>
                  <a:ext cx="22176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emipermeable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338080" y="2587680"/>
                  <a:ext cx="232236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660800" y="2587680"/>
                <a:ext cx="1248120" cy="887400"/>
                <a:chOff x="7660800" y="2587680"/>
                <a:chExt cx="1248120" cy="8874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712640" y="2587680"/>
                  <a:ext cx="114444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iálisis Simétric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660800" y="2587680"/>
                  <a:ext cx="124812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5400" y="3475080"/>
                <a:ext cx="1529640" cy="887760"/>
                <a:chOff x="5400" y="3475080"/>
                <a:chExt cx="1529640" cy="8877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57240" y="3475080"/>
                  <a:ext cx="142596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Tamaño de partículas [cm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400" y="3475080"/>
                  <a:ext cx="152964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535400" y="3475080"/>
                <a:ext cx="1900800" cy="887760"/>
                <a:chOff x="1535400" y="3475080"/>
                <a:chExt cx="1900800" cy="8877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587600" y="347508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5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7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535400" y="347508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3436560" y="3475080"/>
                <a:ext cx="1900800" cy="887760"/>
                <a:chOff x="3436560" y="3475080"/>
                <a:chExt cx="1900800" cy="8877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488760" y="347508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6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436560" y="347508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5338080" y="3475080"/>
                <a:ext cx="2322360" cy="887760"/>
                <a:chOff x="5338080" y="3475080"/>
                <a:chExt cx="2322360" cy="8877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5390280" y="3475080"/>
                  <a:ext cx="22176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7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2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338080" y="3475080"/>
                  <a:ext cx="232236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7660800" y="3475080"/>
                <a:ext cx="1248120" cy="887760"/>
                <a:chOff x="7660800" y="3475080"/>
                <a:chExt cx="1248120" cy="8877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7712640" y="3475080"/>
                  <a:ext cx="114444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60800" y="3475080"/>
                  <a:ext cx="124812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5400" y="4363200"/>
                <a:ext cx="1529640" cy="564840"/>
                <a:chOff x="5400" y="4363200"/>
                <a:chExt cx="1529640" cy="5648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57240" y="4363200"/>
                  <a:ext cx="142596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lux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[l/m</a:t>
                  </a:r>
                  <a:r>
                    <a:rPr b="1" lang="es-ES_tradnl" sz="18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h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400" y="4363200"/>
                  <a:ext cx="152964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1535400" y="4363200"/>
                <a:ext cx="1900800" cy="564840"/>
                <a:chOff x="1535400" y="4363200"/>
                <a:chExt cx="1900800" cy="5648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1587600" y="43632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0-1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535400" y="43632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436560" y="4363200"/>
                <a:ext cx="1900800" cy="564840"/>
                <a:chOff x="3436560" y="4363200"/>
                <a:chExt cx="1900800" cy="5648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488760" y="43632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-2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436560" y="43632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338080" y="4363200"/>
                <a:ext cx="2322360" cy="564840"/>
                <a:chOff x="5338080" y="4363200"/>
                <a:chExt cx="2322360" cy="5648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390280" y="4363200"/>
                  <a:ext cx="22176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-2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338080" y="4363200"/>
                  <a:ext cx="232236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7660800" y="4363200"/>
                <a:ext cx="1248120" cy="564840"/>
                <a:chOff x="7660800" y="4363200"/>
                <a:chExt cx="1248120" cy="5648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712640" y="4363200"/>
                  <a:ext cx="114444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660800" y="4363200"/>
                  <a:ext cx="124812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5400" y="4928040"/>
                <a:ext cx="1529640" cy="2177640"/>
                <a:chOff x="5400" y="4928040"/>
                <a:chExt cx="1529640" cy="217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57240" y="4928040"/>
                  <a:ext cx="142596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Us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eparación d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400" y="4928040"/>
                  <a:ext cx="152964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535400" y="4928040"/>
                <a:ext cx="1900800" cy="2177640"/>
                <a:chOff x="1535400" y="4928040"/>
                <a:chExt cx="1900800" cy="21776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587600" y="4928040"/>
                  <a:ext cx="17964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c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Levaduras 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Hongos 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acterias(3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(1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535400" y="4928040"/>
                  <a:ext cx="190080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436560" y="4928040"/>
                <a:ext cx="1900800" cy="2177640"/>
                <a:chOff x="3436560" y="4928040"/>
                <a:chExt cx="1900800" cy="21776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488760" y="4928040"/>
                  <a:ext cx="17964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c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irus (30–300 n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olisacárido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zima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436560" y="4928040"/>
                  <a:ext cx="190080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338080" y="4928040"/>
                <a:ext cx="2322360" cy="2177640"/>
                <a:chOff x="5338080" y="4928040"/>
                <a:chExt cx="2322360" cy="21776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5390280" y="4928040"/>
                  <a:ext cx="22176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liminación de Io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ntibióticos(3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zúcares (200–400 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c.Orgánicos (100–500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Iones Inorgánicos (10-100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338080" y="4928040"/>
                  <a:ext cx="232236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7660800" y="4928040"/>
                <a:ext cx="1248120" cy="2177640"/>
                <a:chOff x="7660800" y="4928040"/>
                <a:chExt cx="1248120" cy="21776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7712640" y="4928040"/>
                  <a:ext cx="114444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acteri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iru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olisacári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ntibiótic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660800" y="4928040"/>
                  <a:ext cx="124812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3" name=""/>
            <p:cNvSpPr/>
            <p:nvPr/>
          </p:nvSpPr>
          <p:spPr>
            <a:xfrm>
              <a:off x="0" y="404640"/>
              <a:ext cx="8915040" cy="6705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04920" y="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aracterísticas de las principales operaciones de membran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40720" y="981000"/>
            <a:ext cx="115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24360" y="1628640"/>
            <a:ext cx="1727280" cy="792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365720"/>
            <a:ext cx="1619280" cy="7920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0880" y="60948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scripción y Modos de Operación de 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cro y Ultrafiltración (MF-U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n pa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iminar contaminantes de alta masa mole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r macromoléculas de pequeñas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752480" y="1523880"/>
          <a:ext cx="6477120" cy="30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23880"/>
                    <a:ext cx="6477120" cy="30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3808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concentración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914400"/>
            <a:ext cx="3505320" cy="27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55627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icio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763640" y="981000"/>
          <a:ext cx="6121440" cy="42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981000"/>
                    <a:ext cx="612144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55627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nal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55640" y="909720"/>
          <a:ext cx="632628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909720"/>
                    <a:ext cx="63262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diafiltración.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43280" y="476280"/>
            <a:ext cx="3505320" cy="27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1472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00000" y="260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cc66"/>
                </a:solidFill>
                <a:latin typeface="Times New Roman"/>
              </a:rPr>
              <a:t>Solución de Diá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187280" y="1268280"/>
          <a:ext cx="599940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268280"/>
                    <a:ext cx="599940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1835280" y="907920"/>
            <a:ext cx="504720" cy="1152720"/>
          </a:xfrm>
          <a:prstGeom prst="downArrow">
            <a:avLst>
              <a:gd name="adj1" fmla="val 50000"/>
              <a:gd name="adj2" fmla="val 570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16360" y="549360"/>
            <a:ext cx="3168720" cy="30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609480"/>
            <a:ext cx="8229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smosis Inversa (O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 sistema que tiene una membrana semi-permeable que permite el paso sólo del solvente. La fuerza impulsora es una alta presión que debe vencer la presión osmótica, para invertir el flujo nor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n membrana no porosa de polímero que impiden la salida de iones que quedan solvatados y quedan atrapados en los espa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de solvente continua hasta que se ejerce una presión en el capilar que detiene la dilución.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3716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dición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smosis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58920" y="450864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33"/>
                </a:solidFill>
                <a:latin typeface="Comic Sans MS"/>
              </a:rPr>
              <a:t>Solvente pasa desde la zona menos concentrada a la mas concentrada, hasta que se alcanza la presión osmótica.(</a:t>
            </a:r>
            <a:r>
              <a:rPr b="0" lang="el-GR" sz="2400" spc="-1" strike="noStrike">
                <a:solidFill>
                  <a:srgbClr val="660033"/>
                </a:solidFill>
                <a:latin typeface="Comic Sans MS"/>
              </a:rPr>
              <a:t>Δ</a:t>
            </a:r>
            <a:r>
              <a:rPr b="0" lang="ru-RU" sz="2400" spc="-1" strike="noStrike">
                <a:solidFill>
                  <a:srgbClr val="660033"/>
                </a:solidFill>
                <a:latin typeface="Comic Sans MS"/>
              </a:rPr>
              <a:t>П</a:t>
            </a:r>
            <a:r>
              <a:rPr b="0" lang="es-CL" sz="2400" spc="-1" strike="noStrike">
                <a:solidFill>
                  <a:srgbClr val="6600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32000" y="1052640"/>
          <a:ext cx="3240000" cy="21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052640"/>
                    <a:ext cx="324000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 flipH="1">
            <a:off x="6804000" y="2565360"/>
            <a:ext cx="720720" cy="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2916000" y="3212640"/>
            <a:ext cx="136836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87640" y="3716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003640" y="1052640"/>
            <a:ext cx="3816360" cy="2369880"/>
            <a:chOff x="5003640" y="1052640"/>
            <a:chExt cx="3816360" cy="2369880"/>
          </a:xfrm>
        </p:grpSpPr>
        <p:graphicFrame>
          <p:nvGraphicFramePr>
            <p:cNvPr id="224" name=""/>
            <p:cNvGraphicFramePr/>
            <p:nvPr/>
          </p:nvGraphicFramePr>
          <p:xfrm>
            <a:off x="5003640" y="1052640"/>
            <a:ext cx="3816360" cy="2369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1052640"/>
                      <a:ext cx="3816360" cy="23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6" name=""/>
            <p:cNvSpPr/>
            <p:nvPr/>
          </p:nvSpPr>
          <p:spPr>
            <a:xfrm>
              <a:off x="6804000" y="2349360"/>
              <a:ext cx="720720" cy="216000"/>
            </a:xfrm>
            <a:prstGeom prst="leftArrow">
              <a:avLst>
                <a:gd name="adj1" fmla="val 50000"/>
                <a:gd name="adj2" fmla="val 83417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 flipV="1">
            <a:off x="4427640" y="3068280"/>
            <a:ext cx="1944720" cy="865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76720" y="260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smosis Re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5157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Solvente pasa la membrana y los iones que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0" y="1916280"/>
            <a:ext cx="4873680" cy="2727000"/>
            <a:chOff x="0" y="1916280"/>
            <a:chExt cx="4873680" cy="2727000"/>
          </a:xfrm>
        </p:grpSpPr>
        <p:graphicFrame>
          <p:nvGraphicFramePr>
            <p:cNvPr id="231" name=""/>
            <p:cNvGraphicFramePr/>
            <p:nvPr/>
          </p:nvGraphicFramePr>
          <p:xfrm>
            <a:off x="0" y="1916280"/>
            <a:ext cx="4873680" cy="272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916280"/>
                      <a:ext cx="4873680" cy="27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2305080" y="3355560"/>
              <a:ext cx="1079640" cy="433080"/>
            </a:xfrm>
            <a:prstGeom prst="rightArrow">
              <a:avLst>
                <a:gd name="adj1" fmla="val 50000"/>
                <a:gd name="adj2" fmla="val 62323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258920" y="98100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8000" y="981000"/>
            <a:ext cx="4356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Se aplica una presión mayor que la Presión osmótica que obliga a que el Solvente pase a través de la membrana y los iones queden retenidos en el otro 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380880"/>
            <a:ext cx="8305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Dónde se  produce la mayor caída de presión en una filtración tradiciona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eliminar este efecto?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038480" y="2286000"/>
            <a:ext cx="4800600" cy="4285440"/>
            <a:chOff x="4038480" y="2286000"/>
            <a:chExt cx="4800600" cy="4285440"/>
          </a:xfrm>
        </p:grpSpPr>
        <p:graphicFrame>
          <p:nvGraphicFramePr>
            <p:cNvPr id="46" name=""/>
            <p:cNvGraphicFramePr/>
            <p:nvPr/>
          </p:nvGraphicFramePr>
          <p:xfrm>
            <a:off x="4876920" y="2286000"/>
            <a:ext cx="2904840" cy="2800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920" y="2286000"/>
                      <a:ext cx="2904840" cy="280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4038480" y="5257800"/>
              <a:ext cx="4800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Un flujo transversal es capaz de limpiar por si mismo el filtro, así se minimizan los efectos de resistencia de la tort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29908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609480"/>
            <a:ext cx="8229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álisis 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membranas de tamaño de poros muy pequeñas (menores que UF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oluto basándose en : peso molecular, conformación y car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uerza motriz es un gradiente de concentración que hace que los solutos fluyan a la solución de lav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lectrodiálisis (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álogo a la diálisis, pero la fuerza motriz se ve incrementada por un campo eléctrico.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0880" y="609480"/>
            <a:ext cx="822960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Microfiltración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laca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p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bra Hu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senta mayor área por unidad de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ácil de desconec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ben descartar cuando falla alguna parte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228600" y="1219320"/>
          <a:ext cx="8915400" cy="32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8915400" cy="32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laca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304920" y="1523880"/>
          <a:ext cx="8381880" cy="34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38188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sp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28600" y="1008000"/>
          <a:ext cx="8534520" cy="475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08000"/>
                    <a:ext cx="853452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bra Hu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0880" y="457200"/>
            <a:ext cx="82296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fectos de la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bido a las diferentes velocidades de transporte de los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erentes soluto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se produce un gradiente de concentración en la proximidad de la membrana, este efecto se conoce como “Efecto de Polarización”. </a:t>
            </a: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No se trata de formación de tor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13108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1600200"/>
            <a:ext cx="43434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sminución flux (F/A) de solvente (aumento en la resistenci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racción del soluto con la membrana, provocando incrust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800600" y="1371600"/>
          <a:ext cx="40863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371600"/>
                    <a:ext cx="4086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0" y="495288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33"/>
                </a:solidFill>
                <a:uFillTx/>
                <a:latin typeface="Comic Sans MS"/>
                <a:ea typeface="Times New Roman"/>
              </a:rPr>
              <a:t>Diáli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66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Disminución gradiente de concentración efectivo, disminuyendo el flux de impureza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380880"/>
            <a:ext cx="8686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fectos de la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icroFiltración, UltraFiltración , Osmasis In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4120" y="1676520"/>
            <a:ext cx="25146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29400" y="1600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in ef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34320" y="3124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n ef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04920" y="19051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MICRO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0880" y="457200"/>
            <a:ext cx="8229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ía de micro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 teoría permite predecir el flux (flujo/área transversal) a través de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eoría tiene una aplicación limit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arámetro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necesaria para lograr un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empo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ango de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lerancia de los 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0880" y="30492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uerza impuls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uerza impulsora es un gradiente de presión a través de la membrana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743200" y="1981080"/>
          <a:ext cx="2762280" cy="13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981080"/>
                    <a:ext cx="276228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295280" y="243828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236232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14800" y="3048120"/>
            <a:ext cx="0" cy="761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1752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81680" y="1752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48320" y="32767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2514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666880" y="4876920"/>
                <a:ext cx="32292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T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609480" y="4191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e gradiente de presión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 se calcula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609480"/>
            <a:ext cx="7848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icrofiltración y 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así como surge las técnicas de Microfiltración y Ultrafiltración  que se diferencian de la Filtración Tradicional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tamaño de poros de los medios filtrantes, llamados membra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cruzado, que es transversal  al medio filtrante, minimiza la formación de t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resistencia se localiza en la membrana y no en la t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a50021"/>
                </a:solidFill>
                <a:uFillTx/>
                <a:latin typeface="Century Gothic"/>
              </a:rPr>
              <a:t>¿Cómo se mide en el equip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590920" y="1752480"/>
          <a:ext cx="229212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752480"/>
                    <a:ext cx="229212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1828800" y="403848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40384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980720" y="22096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81280" y="2133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3400" y="3657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304812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05520" y="3886200"/>
            <a:ext cx="4572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52880" y="1828800"/>
            <a:ext cx="4572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43400" y="40384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2880" y="18288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2895480"/>
            <a:ext cx="2895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J: Flux de Perm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Si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 = Pi – 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radiente de Presión del flujo tang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602080" y="5562720"/>
                <a:ext cx="34938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T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3048120" y="1981080"/>
            <a:ext cx="533160" cy="381240"/>
          </a:xfrm>
          <a:prstGeom prst="flowChartSummingJunction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876920" y="762120"/>
                <a:ext cx="38462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lujo Volumetri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rea Transversa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80880" y="457200"/>
            <a:ext cx="8229600" cy="23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de Permeado, J,  variará c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radiente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ción de proteínas, 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ro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locidad de recirculación,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ve afectado  el flujo de permeado por cada variab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90720" y="3049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83808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modelación del flux comprende 2 z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&lt;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&lt;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encia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Zona II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TM&gt; </a:t>
            </a:r>
            <a:r>
              <a:rPr b="1" lang="es-ES_tradnl" sz="2000" spc="-1" strike="noStrike">
                <a:solidFill>
                  <a:srgbClr val="a50021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TM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ndepe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J = 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562200" y="1523880"/>
          <a:ext cx="55818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2200" y="1523880"/>
                    <a:ext cx="55818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1447920" y="1989000"/>
          <a:ext cx="7315200" cy="463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9000"/>
                    <a:ext cx="7315200" cy="463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304920" y="304920"/>
            <a:ext cx="731520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Concentración de Proteínas, Cp</a:t>
            </a:r>
            <a:r>
              <a:rPr b="1" lang="es-ES_tradnl" sz="2000" spc="-1" strike="noStrike" u="sng" baseline="-25000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rp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,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I: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(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304920"/>
            <a:ext cx="86868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Velocidades de Recirculación,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,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,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I: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(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U) : En cierta forma se está formando un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838080" y="2133720"/>
          <a:ext cx="7925040" cy="44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92504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80880" y="457200"/>
            <a:ext cx="82296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Para la región I don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 &lt;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Se puede considerar que 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m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 &gt;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,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 hay control por la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J depende de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, pero los aumentos producen un aumento en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 alcanzándose un máx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066680" y="2438280"/>
          <a:ext cx="6705720" cy="43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670572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1219320" y="2666880"/>
            <a:ext cx="3581280" cy="342900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457200"/>
            <a:ext cx="822960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Para la región II don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 &gt;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No hay efectos por la diferencia de presión hay un cambio en el control, ahora  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c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 &gt;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Los incrementos en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 sólo aumentan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, en esta zona sólo hay una dependencia con la velocidad de los flujos cruzados y la concentración de proteí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752480" y="3051000"/>
          <a:ext cx="6477120" cy="38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51000"/>
                    <a:ext cx="647712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4800600" y="2971800"/>
            <a:ext cx="3581280" cy="342900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 para la determinación de una expresión para el Flujo de permeado,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0880" y="0"/>
            <a:ext cx="82296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J = L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 –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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Flux de Perme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1676520" y="4724280"/>
                <a:ext cx="1512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4648320" y="48006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1447920"/>
            <a:ext cx="5410080" cy="31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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sión osmótica, En el caso de macromoléculas en solución y dispersiones coloidales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proteínas y células)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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muy 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rechazo del soluto por la membra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181480" y="1981080"/>
            <a:ext cx="3695760" cy="4515480"/>
            <a:chOff x="5181480" y="1981080"/>
            <a:chExt cx="3695760" cy="4515480"/>
          </a:xfrm>
        </p:grpSpPr>
        <p:grpSp>
          <p:nvGrpSpPr>
            <p:cNvPr id="319" name=""/>
            <p:cNvGrpSpPr/>
            <p:nvPr/>
          </p:nvGrpSpPr>
          <p:grpSpPr>
            <a:xfrm>
              <a:off x="5181480" y="2133720"/>
              <a:ext cx="3695760" cy="4362840"/>
              <a:chOff x="5181480" y="2133720"/>
              <a:chExt cx="3695760" cy="4362840"/>
            </a:xfrm>
          </p:grpSpPr>
          <p:sp>
            <p:nvSpPr>
              <p:cNvPr id="320" name=""/>
              <p:cNvSpPr/>
              <p:nvPr/>
            </p:nvSpPr>
            <p:spPr>
              <a:xfrm>
                <a:off x="5181480" y="4648320"/>
                <a:ext cx="3695760" cy="184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C</a:t>
                </a:r>
                <a:r>
                  <a:rPr b="0" lang="es-ES" sz="2400" spc="-1" strike="noStrike" baseline="-25000">
                    <a:solidFill>
                      <a:srgbClr val="660033"/>
                    </a:solidFill>
                    <a:latin typeface="Times New Roman"/>
                  </a:rPr>
                  <a:t>B</a:t>
                </a: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: Conc. soluto en el seno de la solución a la cual se desea llegar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C</a:t>
                </a:r>
                <a:r>
                  <a:rPr b="0" lang="es-ES" sz="2400" spc="-1" strike="noStrike" baseline="-25000">
                    <a:solidFill>
                      <a:srgbClr val="660033"/>
                    </a:solidFill>
                    <a:latin typeface="Times New Roman"/>
                  </a:rPr>
                  <a:t>P</a:t>
                </a: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: Conc. soluto permead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6629400" y="2133720"/>
                <a:ext cx="1980720" cy="1828800"/>
                <a:chOff x="6629400" y="2133720"/>
                <a:chExt cx="1980720" cy="182880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543440" y="2133720"/>
                  <a:ext cx="152280" cy="1828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629400" y="2895840"/>
                  <a:ext cx="7617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629400" y="335304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8076960" y="335304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6" name=""/>
            <p:cNvSpPr/>
            <p:nvPr/>
          </p:nvSpPr>
          <p:spPr>
            <a:xfrm>
              <a:off x="7772400" y="2895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001000" y="1981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09480" y="579132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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tención comp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= 0 Retención N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883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Modelo de polarización de Pel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un fenómeno de polarización en la capa límite próxima a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erfiles se ven modificados sólo por cambios en 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038480" y="2362320"/>
            <a:ext cx="457200" cy="1218960"/>
          </a:xfrm>
          <a:prstGeom prst="ellipse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676520" y="1860480"/>
          <a:ext cx="561960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60480"/>
                    <a:ext cx="561960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6934320" y="289548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34320" y="4191120"/>
            <a:ext cx="1066680" cy="457200"/>
          </a:xfrm>
          <a:prstGeom prst="rightArrow">
            <a:avLst>
              <a:gd name="adj1" fmla="val 50000"/>
              <a:gd name="adj2" fmla="val 58327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0280" y="579132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4952880"/>
            <a:ext cx="312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609480"/>
            <a:ext cx="7848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o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orma de operación se inicia con suspensiones diluidas que se van concentrado, por medio recirculación hasta que la viscosidad y la capacidad de bombeo lo permitan. Esto lleva a que se deba continuar con una filtración tradicional u otro méto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un “Filtrado” que es la solución que ha pasado a través de la membrana y un “Remanente o Concentrado” que se recir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donde se localice el producto de interés es la solución que se colecta o descarta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838080" y="914400"/>
            <a:ext cx="784872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Balance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convectivo de soluto a la interfas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 la interfase al seno del fl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sde la interfase al seno del fl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1208160" y="838080"/>
                <a:ext cx="58626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rPr>
                        <m:lit/>
                        <m:nor/>
                      </m:rPr>
                      <m:t xml:space="preserve">C       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     J</m:t>
                        </m:r>
                      </m:e>
                      <m:sup/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762120" y="1981080"/>
            <a:ext cx="6858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En estad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onsideraciones de bor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x=0 C=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x=</a:t>
            </a:r>
            <a:r>
              <a:rPr b="0" lang="es-ES" sz="2400" spc="-1" strike="noStrike">
                <a:solidFill>
                  <a:srgbClr val="000099"/>
                </a:solidFill>
                <a:latin typeface="Symbol"/>
                <a:ea typeface="Symbol"/>
              </a:rPr>
              <a:t>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 =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Integr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200400" y="5029200"/>
                <a:ext cx="295740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0" y="304920"/>
            <a:ext cx="2666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convect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de soluto a  la interf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000" y="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 la interfase al seno del fluido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2286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sde la interfase al seno del flui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85800" y="228600"/>
            <a:ext cx="746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Si hay un coeficiente  rechazo total </a:t>
            </a:r>
            <a:r>
              <a:rPr b="0" lang="es-ES" sz="2400" spc="-1" strike="noStrike">
                <a:solidFill>
                  <a:srgbClr val="000099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=1 entonces 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es-ES" sz="2400" spc="-1" strike="noStrike" baseline="30000">
                <a:solidFill>
                  <a:srgbClr val="000099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905120" y="838080"/>
                <a:ext cx="382104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685800" y="198108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es el coeficiente de transferencia de masa, el cual se determina por medio de correlaciones o experimento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86200" y="472428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600200" y="2971800"/>
            <a:ext cx="6552720" cy="3582720"/>
            <a:chOff x="1600200" y="2971800"/>
            <a:chExt cx="6552720" cy="3582720"/>
          </a:xfrm>
        </p:grpSpPr>
        <p:grpSp>
          <p:nvGrpSpPr>
            <p:cNvPr id="349" name=""/>
            <p:cNvGrpSpPr/>
            <p:nvPr/>
          </p:nvGrpSpPr>
          <p:grpSpPr>
            <a:xfrm>
              <a:off x="1600200" y="2971800"/>
              <a:ext cx="6552720" cy="3582720"/>
              <a:chOff x="1600200" y="2971800"/>
              <a:chExt cx="6552720" cy="3582720"/>
            </a:xfrm>
          </p:grpSpPr>
          <p:graphicFrame>
            <p:nvGraphicFramePr>
              <p:cNvPr id="350" name=""/>
              <p:cNvGraphicFramePr/>
              <p:nvPr/>
            </p:nvGraphicFramePr>
            <p:xfrm>
              <a:off x="1600200" y="2971800"/>
              <a:ext cx="6552720" cy="358272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5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600200" y="2971800"/>
                        <a:ext cx="6552720" cy="358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52" name=""/>
              <p:cNvSpPr/>
              <p:nvPr/>
            </p:nvSpPr>
            <p:spPr>
              <a:xfrm>
                <a:off x="4840920" y="4359960"/>
                <a:ext cx="0" cy="51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840920" y="4871880"/>
                <a:ext cx="84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5223240" y="3508920"/>
              <a:ext cx="25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Diferentes </a:t>
              </a: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Gothic"/>
                </a:rPr>
                <a:t>PT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4038480" y="4495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k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228600"/>
            <a:ext cx="800100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Times New Roman"/>
              </a:rPr>
              <a:t>Modelo de polarización en película y capa de g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Sólo en Región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Si se supone que el aumento de 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Comic Sans MS"/>
              </a:rPr>
              <a:t>w</a:t>
            </a: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 con </a:t>
            </a:r>
            <a:r>
              <a:rPr b="0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TM tiene un límite C</a:t>
            </a:r>
            <a:r>
              <a:rPr b="0" lang="es-ES_tradnl" sz="24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G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donde se forma la llamada “capa g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3048120" y="2590920"/>
                <a:ext cx="20080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3886200" y="472428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371600" y="3808440"/>
            <a:ext cx="6477120" cy="3049560"/>
            <a:chOff x="1371600" y="3808440"/>
            <a:chExt cx="6477120" cy="3049560"/>
          </a:xfrm>
        </p:grpSpPr>
        <p:grpSp>
          <p:nvGrpSpPr>
            <p:cNvPr id="360" name=""/>
            <p:cNvGrpSpPr/>
            <p:nvPr/>
          </p:nvGrpSpPr>
          <p:grpSpPr>
            <a:xfrm>
              <a:off x="1371600" y="3808440"/>
              <a:ext cx="6477120" cy="3049560"/>
              <a:chOff x="1371600" y="3808440"/>
              <a:chExt cx="6477120" cy="3049560"/>
            </a:xfrm>
          </p:grpSpPr>
          <p:graphicFrame>
            <p:nvGraphicFramePr>
              <p:cNvPr id="361" name=""/>
              <p:cNvGraphicFramePr/>
              <p:nvPr/>
            </p:nvGraphicFramePr>
            <p:xfrm>
              <a:off x="1371600" y="3808440"/>
              <a:ext cx="6477120" cy="30495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71600" y="3808440"/>
                        <a:ext cx="6477120" cy="3049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3" name=""/>
              <p:cNvSpPr/>
              <p:nvPr/>
            </p:nvSpPr>
            <p:spPr>
              <a:xfrm>
                <a:off x="4574880" y="4989960"/>
                <a:ext cx="0" cy="43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574880" y="5425560"/>
                <a:ext cx="83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6019920" y="5789520"/>
              <a:ext cx="609480" cy="228600"/>
            </a:xfrm>
            <a:prstGeom prst="line">
              <a:avLst/>
            </a:prstGeom>
            <a:ln w="57240">
              <a:solidFill>
                <a:srgbClr val="cc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00800" y="609444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50021"/>
                  </a:solidFill>
                  <a:latin typeface="Times New Roman"/>
                </a:rPr>
                <a:t>Ln C</a:t>
              </a:r>
              <a:r>
                <a:rPr b="1" lang="es-ES" sz="2400" spc="-1" strike="noStrike" baseline="-25000">
                  <a:solidFill>
                    <a:srgbClr val="a50021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533520" y="38088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Características de la capa 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Se producen problemas por incrustaciones en la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Este efecto es diferente a la polarización de la membr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04920" y="2590920"/>
          <a:ext cx="8839080" cy="38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83908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5867280" y="3048120"/>
            <a:ext cx="76320" cy="22860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533520" y="380880"/>
            <a:ext cx="8001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Las incrustaciones disminuyen las porosidad de la membrana necesitándose tratamientos físicos y quí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Aumen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Disminuyendo la vida útil de los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80880" y="0"/>
            <a:ext cx="838224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roblema 1  Microfiltración Modelo de la capa de polariz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n base a los datos de la siguiente tabla determ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1.- Coeficiente de transferencia de 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2.- La concentración de la “capa gel”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abla 1 Flux a diferentes condiciones de presión y concentr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09480" y="2590920"/>
            <a:ext cx="8153280" cy="4267080"/>
            <a:chOff x="609480" y="2590920"/>
            <a:chExt cx="8153280" cy="4267080"/>
          </a:xfrm>
        </p:grpSpPr>
        <p:grpSp>
          <p:nvGrpSpPr>
            <p:cNvPr id="374" name=""/>
            <p:cNvGrpSpPr/>
            <p:nvPr/>
          </p:nvGrpSpPr>
          <p:grpSpPr>
            <a:xfrm>
              <a:off x="618480" y="2592720"/>
              <a:ext cx="8133480" cy="4262400"/>
              <a:chOff x="618480" y="2592720"/>
              <a:chExt cx="8133480" cy="426240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618480" y="2592720"/>
                <a:ext cx="2725200" cy="628920"/>
                <a:chOff x="618480" y="2592720"/>
                <a:chExt cx="2725200" cy="6289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705600" y="2592720"/>
                  <a:ext cx="2550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99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_tradnl" sz="2400" spc="-1" strike="noStrike">
                      <a:solidFill>
                        <a:srgbClr val="000099"/>
                      </a:solidFill>
                      <a:latin typeface="Comic Sans MS"/>
                      <a:ea typeface="Times New Roman"/>
                    </a:rPr>
                    <a:t>PT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18480" y="2592720"/>
                  <a:ext cx="2725200" cy="62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3344040" y="2592720"/>
                <a:ext cx="5407920" cy="628920"/>
                <a:chOff x="3344040" y="2592720"/>
                <a:chExt cx="5407920" cy="6289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3431880" y="2592720"/>
                  <a:ext cx="523152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Concentración en el seno de la solución C</a:t>
                  </a:r>
                  <a:r>
                    <a:rPr b="1" lang="es-ES_tradnl" sz="2000" spc="-1" strike="noStrike" baseline="-30000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 baseline="-30000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[ % en peso]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344040" y="2592720"/>
                  <a:ext cx="5407920" cy="62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618480" y="3221640"/>
                <a:ext cx="2725200" cy="349200"/>
                <a:chOff x="618480" y="3221640"/>
                <a:chExt cx="2725200" cy="34920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705600" y="3221640"/>
                  <a:ext cx="2550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Kg/cm</a:t>
                  </a:r>
                  <a:r>
                    <a:rPr b="0" lang="es-ES_tradnl" sz="20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]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18480" y="3221640"/>
                  <a:ext cx="2725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3344040" y="3221640"/>
                <a:ext cx="1328040" cy="349200"/>
                <a:chOff x="3344040" y="3221640"/>
                <a:chExt cx="1328040" cy="3492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431880" y="3221640"/>
                  <a:ext cx="115236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344040" y="3221640"/>
                  <a:ext cx="132804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4672440" y="3221640"/>
                <a:ext cx="1419120" cy="349200"/>
                <a:chOff x="4672440" y="3221640"/>
                <a:chExt cx="1419120" cy="34920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4760280" y="32216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672440" y="32216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6092280" y="3221640"/>
                <a:ext cx="1240200" cy="349200"/>
                <a:chOff x="6092280" y="3221640"/>
                <a:chExt cx="1240200" cy="34920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6179400" y="3221640"/>
                  <a:ext cx="1065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092280" y="3221640"/>
                  <a:ext cx="1240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7332840" y="3221640"/>
                <a:ext cx="1419120" cy="349200"/>
                <a:chOff x="7332840" y="3221640"/>
                <a:chExt cx="1419120" cy="34920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7420680" y="32216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332840" y="32216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618480" y="3570840"/>
                <a:ext cx="2725200" cy="349200"/>
                <a:chOff x="618480" y="3570840"/>
                <a:chExt cx="2725200" cy="34920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705600" y="3570840"/>
                  <a:ext cx="2550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18480" y="3570840"/>
                  <a:ext cx="2725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3344040" y="3570840"/>
                <a:ext cx="1328040" cy="349200"/>
                <a:chOff x="3344040" y="3570840"/>
                <a:chExt cx="1328040" cy="3492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3431880" y="3570840"/>
                  <a:ext cx="115236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344040" y="3570840"/>
                  <a:ext cx="132804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4672440" y="3570840"/>
                <a:ext cx="1419120" cy="349200"/>
                <a:chOff x="4672440" y="3570840"/>
                <a:chExt cx="1419120" cy="34920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4760280" y="35708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672440" y="35708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092280" y="3570840"/>
                <a:ext cx="1240200" cy="349200"/>
                <a:chOff x="6092280" y="3570840"/>
                <a:chExt cx="1240200" cy="3492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179400" y="3570840"/>
                  <a:ext cx="1065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092280" y="3570840"/>
                  <a:ext cx="1240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332840" y="3570840"/>
                <a:ext cx="1419120" cy="349200"/>
                <a:chOff x="7332840" y="3570840"/>
                <a:chExt cx="1419120" cy="3492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420680" y="35708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332840" y="35708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618480" y="3920400"/>
                <a:ext cx="2725200" cy="489240"/>
                <a:chOff x="618480" y="3920400"/>
                <a:chExt cx="2725200" cy="4892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705600" y="3920400"/>
                  <a:ext cx="2550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18480" y="3920400"/>
                  <a:ext cx="2725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3344040" y="3920400"/>
                <a:ext cx="1328040" cy="489240"/>
                <a:chOff x="3344040" y="3920400"/>
                <a:chExt cx="1328040" cy="48924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3431880" y="3920400"/>
                  <a:ext cx="11523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344040" y="3920400"/>
                  <a:ext cx="132804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672440" y="3920400"/>
                <a:ext cx="1419120" cy="489240"/>
                <a:chOff x="4672440" y="3920400"/>
                <a:chExt cx="1419120" cy="48924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4760280" y="392040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672440" y="392040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6092280" y="3920400"/>
                <a:ext cx="1240200" cy="489240"/>
                <a:chOff x="6092280" y="3920400"/>
                <a:chExt cx="1240200" cy="48924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6179400" y="3920400"/>
                  <a:ext cx="1065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092280" y="3920400"/>
                  <a:ext cx="1240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7332840" y="3920400"/>
                <a:ext cx="1419120" cy="489240"/>
                <a:chOff x="7332840" y="3920400"/>
                <a:chExt cx="1419120" cy="48924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7420680" y="392040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332840" y="392040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618480" y="4409640"/>
                <a:ext cx="2725200" cy="488880"/>
                <a:chOff x="618480" y="4409640"/>
                <a:chExt cx="2725200" cy="48888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05600" y="440964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18480" y="440964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344040" y="4409640"/>
                <a:ext cx="1328040" cy="488880"/>
                <a:chOff x="3344040" y="4409640"/>
                <a:chExt cx="1328040" cy="48888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431880" y="440964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44040" y="440964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4672440" y="4409640"/>
                <a:ext cx="1419120" cy="488880"/>
                <a:chOff x="4672440" y="4409640"/>
                <a:chExt cx="1419120" cy="48888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4760280" y="44096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672440" y="44096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6092280" y="4409640"/>
                <a:ext cx="1240200" cy="488880"/>
                <a:chOff x="6092280" y="4409640"/>
                <a:chExt cx="1240200" cy="48888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6179400" y="440964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,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092280" y="440964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7332840" y="4409640"/>
                <a:ext cx="1419120" cy="488880"/>
                <a:chOff x="7332840" y="4409640"/>
                <a:chExt cx="1419120" cy="48888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7420680" y="44096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332840" y="44096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18480" y="4898880"/>
                <a:ext cx="2725200" cy="488880"/>
                <a:chOff x="618480" y="4898880"/>
                <a:chExt cx="2725200" cy="48888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705600" y="489888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18480" y="489888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3344040" y="4898880"/>
                <a:ext cx="1328040" cy="488880"/>
                <a:chOff x="3344040" y="4898880"/>
                <a:chExt cx="1328040" cy="4888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3431880" y="489888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344040" y="489888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4672440" y="4898880"/>
                <a:ext cx="1419120" cy="488880"/>
                <a:chOff x="4672440" y="4898880"/>
                <a:chExt cx="1419120" cy="4888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760280" y="489888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672440" y="489888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6092280" y="4898880"/>
                <a:ext cx="1240200" cy="488880"/>
                <a:chOff x="6092280" y="4898880"/>
                <a:chExt cx="1240200" cy="48888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6179400" y="489888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,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092280" y="489888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7332840" y="4898880"/>
                <a:ext cx="1419120" cy="488880"/>
                <a:chOff x="7332840" y="4898880"/>
                <a:chExt cx="1419120" cy="4888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7420680" y="489888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332840" y="489888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618480" y="5387760"/>
                <a:ext cx="2725200" cy="489240"/>
                <a:chOff x="618480" y="5387760"/>
                <a:chExt cx="2725200" cy="48924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705600" y="5387760"/>
                  <a:ext cx="2550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18480" y="5387760"/>
                  <a:ext cx="2725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3344040" y="5387760"/>
                <a:ext cx="1328040" cy="489240"/>
                <a:chOff x="3344040" y="5387760"/>
                <a:chExt cx="1328040" cy="4892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3431880" y="5387760"/>
                  <a:ext cx="11523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344040" y="5387760"/>
                  <a:ext cx="132804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4672440" y="5387760"/>
                <a:ext cx="1419120" cy="489240"/>
                <a:chOff x="4672440" y="5387760"/>
                <a:chExt cx="1419120" cy="4892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4760280" y="538776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672440" y="538776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6092280" y="5387760"/>
                <a:ext cx="1240200" cy="489240"/>
                <a:chOff x="6092280" y="5387760"/>
                <a:chExt cx="1240200" cy="48924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6179400" y="5387760"/>
                  <a:ext cx="1065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,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092280" y="5387760"/>
                  <a:ext cx="1240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7332840" y="5387760"/>
                <a:ext cx="1419120" cy="489240"/>
                <a:chOff x="7332840" y="5387760"/>
                <a:chExt cx="1419120" cy="4892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7420680" y="538776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332840" y="538776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618480" y="5877360"/>
                <a:ext cx="2725200" cy="488880"/>
                <a:chOff x="618480" y="5877360"/>
                <a:chExt cx="2725200" cy="4888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705600" y="587736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18480" y="587736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3344040" y="5877360"/>
                <a:ext cx="1328040" cy="488880"/>
                <a:chOff x="3344040" y="5877360"/>
                <a:chExt cx="1328040" cy="4888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431880" y="587736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344040" y="587736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4672440" y="5877360"/>
                <a:ext cx="1419120" cy="488880"/>
                <a:chOff x="4672440" y="5877360"/>
                <a:chExt cx="1419120" cy="4888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4760280" y="587736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672440" y="587736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092280" y="5877360"/>
                <a:ext cx="1240200" cy="488880"/>
                <a:chOff x="6092280" y="5877360"/>
                <a:chExt cx="1240200" cy="4888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179400" y="587736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092280" y="587736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7332840" y="5877360"/>
                <a:ext cx="1419120" cy="488880"/>
                <a:chOff x="7332840" y="5877360"/>
                <a:chExt cx="1419120" cy="4888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7420680" y="587736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332840" y="587736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618480" y="6366240"/>
                <a:ext cx="2725200" cy="488880"/>
                <a:chOff x="618480" y="6366240"/>
                <a:chExt cx="2725200" cy="4888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705600" y="636624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2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18480" y="636624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3344040" y="6366240"/>
                <a:ext cx="1328040" cy="488880"/>
                <a:chOff x="3344040" y="6366240"/>
                <a:chExt cx="1328040" cy="48888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3431880" y="636624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344040" y="636624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4672440" y="6366240"/>
                <a:ext cx="1419120" cy="488880"/>
                <a:chOff x="4672440" y="6366240"/>
                <a:chExt cx="1419120" cy="48888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4760280" y="63662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672440" y="63662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6092280" y="6366240"/>
                <a:ext cx="1240200" cy="488880"/>
                <a:chOff x="6092280" y="6366240"/>
                <a:chExt cx="1240200" cy="48888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6179400" y="636624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,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092280" y="636624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7332840" y="6366240"/>
                <a:ext cx="1419120" cy="488880"/>
                <a:chOff x="7332840" y="6366240"/>
                <a:chExt cx="1419120" cy="4888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7420680" y="63662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332840" y="63662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1" name=""/>
            <p:cNvSpPr/>
            <p:nvPr/>
          </p:nvSpPr>
          <p:spPr>
            <a:xfrm>
              <a:off x="609480" y="2590920"/>
              <a:ext cx="8153280" cy="4267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2" name=""/>
          <p:cNvGraphicFramePr/>
          <p:nvPr/>
        </p:nvGraphicFramePr>
        <p:xfrm>
          <a:off x="0" y="914400"/>
          <a:ext cx="8991720" cy="466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899172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1600200" y="6095880"/>
            <a:ext cx="624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J = -20.22*ln (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/30.3) = 20.22* ln (30.3/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4920" y="22860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     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centración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676520" y="1219320"/>
          <a:ext cx="6191280" cy="29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6191280" cy="29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533520" y="4327560"/>
            <a:ext cx="822960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diciones Inicia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diciones F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manente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rmeado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-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Const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14400" y="3505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81480" y="3733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erm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2743200" y="2286000"/>
                <a:ext cx="33480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685800" y="533520"/>
            <a:ext cx="777240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Balance de Masa del Solu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La masa que disminuye del tanque de reciclo es la que aumente en el tanque de perme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3200400"/>
            <a:ext cx="87631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ción del permeado (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  se mantiene cons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 = t, 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–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 es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838080" y="4572000"/>
                <a:ext cx="71740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 flipV="1">
            <a:off x="5334120" y="4572000"/>
            <a:ext cx="380880" cy="4572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43800" y="2590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6104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276720" y="5715000"/>
                <a:ext cx="2757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6680" y="304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¿ Cómo funcion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2209680"/>
            <a:ext cx="3352680" cy="236232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838080"/>
            <a:ext cx="2209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1066680"/>
          <a:ext cx="8383320" cy="51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383320" cy="51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581280" y="2057400"/>
            <a:ext cx="3353040" cy="228600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2560680" y="1322280"/>
                <a:ext cx="37130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685800" y="533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Aplicando regla de la cadena al lado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25146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orden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743200" y="2971800"/>
                <a:ext cx="3405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4267080" y="1219320"/>
            <a:ext cx="7621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638680" y="1219320"/>
            <a:ext cx="7621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7724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0120" y="3200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305160" y="4059360"/>
                <a:ext cx="22795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9" name=""/>
          <p:cNvSpPr/>
          <p:nvPr/>
        </p:nvSpPr>
        <p:spPr>
          <a:xfrm>
            <a:off x="0" y="51055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112920" y="5369040"/>
                <a:ext cx="27594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o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sup>
                              <m:e/>
                            </m:nary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769608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20120" y="5638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685800" y="533520"/>
            <a:ext cx="7772400" cy="1393560"/>
            <a:chOff x="685800" y="533520"/>
            <a:chExt cx="7772400" cy="1393560"/>
          </a:xfrm>
        </p:grpSpPr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3505320" y="1066680"/>
                  <a:ext cx="1716120" cy="86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5" name=""/>
            <p:cNvSpPr/>
            <p:nvPr/>
          </p:nvSpPr>
          <p:spPr>
            <a:xfrm>
              <a:off x="685800" y="53352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Por otra parte, el flux se puede calcular com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7772400" y="129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0" y="2209680"/>
            <a:ext cx="8763120" cy="1220760"/>
            <a:chOff x="0" y="2209680"/>
            <a:chExt cx="8763120" cy="1220760"/>
          </a:xfrm>
        </p:grpSpPr>
        <p:sp>
          <p:nvSpPr>
            <p:cNvPr id="538" name=""/>
            <p:cNvSpPr/>
            <p:nvPr/>
          </p:nvSpPr>
          <p:spPr>
            <a:xfrm>
              <a:off x="0" y="220968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lux promedio, &lt;J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620120" y="26668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819520" y="2514600"/>
                  <a:ext cx="289692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&gt;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Δ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1" name=""/>
          <p:cNvGrpSpPr/>
          <p:nvPr/>
        </p:nvGrpSpPr>
        <p:grpSpPr>
          <a:xfrm>
            <a:off x="0" y="3657600"/>
            <a:ext cx="8763120" cy="1436760"/>
            <a:chOff x="0" y="3657600"/>
            <a:chExt cx="8763120" cy="1436760"/>
          </a:xfrm>
        </p:grpSpPr>
        <p:sp>
          <p:nvSpPr>
            <p:cNvPr id="542" name=""/>
            <p:cNvSpPr/>
            <p:nvPr/>
          </p:nvSpPr>
          <p:spPr>
            <a:xfrm>
              <a:off x="7696080" y="41148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9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0" y="365760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Aplicando regla de la cadena a (7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4" name=""/>
                <p:cNvSpPr txBox="1"/>
                <p:nvPr/>
              </p:nvSpPr>
              <p:spPr>
                <a:xfrm>
                  <a:off x="2736720" y="4149720"/>
                  <a:ext cx="2643480" cy="94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5" name=""/>
          <p:cNvGrpSpPr/>
          <p:nvPr/>
        </p:nvGrpSpPr>
        <p:grpSpPr>
          <a:xfrm>
            <a:off x="0" y="5105520"/>
            <a:ext cx="8763120" cy="1428480"/>
            <a:chOff x="0" y="5105520"/>
            <a:chExt cx="8763120" cy="1428480"/>
          </a:xfrm>
        </p:grpSpPr>
        <p:sp>
          <p:nvSpPr>
            <p:cNvPr id="546" name=""/>
            <p:cNvSpPr/>
            <p:nvPr/>
          </p:nvSpPr>
          <p:spPr>
            <a:xfrm>
              <a:off x="0" y="510552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ordenando la ecuación (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620120" y="5638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3054240" y="5562720"/>
                  <a:ext cx="2421000" cy="97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887400" y="976320"/>
                <a:ext cx="706104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∫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o</m:t>
                                        </m:r>
                                      </m:sub>
                                    </m:sSub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sup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C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B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p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d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685800" y="533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Aplicando (10) en 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1447920"/>
            <a:ext cx="7617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4582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0" y="4191120"/>
            <a:ext cx="8763120" cy="2498760"/>
            <a:chOff x="0" y="4191120"/>
            <a:chExt cx="8763120" cy="2498760"/>
          </a:xfrm>
        </p:grpSpPr>
        <p:sp>
          <p:nvSpPr>
            <p:cNvPr id="554" name=""/>
            <p:cNvSpPr/>
            <p:nvPr/>
          </p:nvSpPr>
          <p:spPr>
            <a:xfrm>
              <a:off x="0" y="4191120"/>
              <a:ext cx="876312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Integra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Para  t=0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= 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   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t=0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5" name=""/>
                <p:cNvSpPr txBox="1"/>
                <p:nvPr/>
              </p:nvSpPr>
              <p:spPr>
                <a:xfrm>
                  <a:off x="2676600" y="5105520"/>
                  <a:ext cx="363204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−</m:t>
                                      </m:r>
                                      <m:nary>
                                        <m:naryPr>
                                          <m:chr m:val="∫"/>
                                        </m:naryPr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Bo</m:t>
                                              </m:r>
                                            </m:sub>
                                          </m:sSub>
                                        </m:sub>
                                        <m:sup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sup>
                                        <m:e/>
                                      </m:nary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d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r>
                                            <m:t xml:space="preserve">(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P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)</m:t>
                                          </m:r>
                                        </m:den>
                                      </m:f>
                                    </m:e>
                                  </m:d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den>
                          </m:f>
                        </m:e>
                      </m:nary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56" name=""/>
            <p:cNvSpPr/>
            <p:nvPr/>
          </p:nvSpPr>
          <p:spPr>
            <a:xfrm>
              <a:off x="7620120" y="56386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0" y="2514600"/>
            <a:ext cx="9144000" cy="1539720"/>
            <a:chOff x="0" y="2514600"/>
            <a:chExt cx="9144000" cy="1539720"/>
          </a:xfrm>
        </p:grpSpPr>
        <p:sp>
          <p:nvSpPr>
            <p:cNvPr id="558" name=""/>
            <p:cNvSpPr/>
            <p:nvPr/>
          </p:nvSpPr>
          <p:spPr>
            <a:xfrm>
              <a:off x="0" y="251460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ordena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381880" y="32004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0" name=""/>
                <p:cNvSpPr txBox="1"/>
                <p:nvPr/>
              </p:nvSpPr>
              <p:spPr>
                <a:xfrm>
                  <a:off x="2579760" y="2529000"/>
                  <a:ext cx="3882960" cy="152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−</m:t>
                                  </m:r>
                                  <m:nary>
                                    <m:naryPr>
                                      <m:chr m:val="∫"/>
                                    </m:naryPr>
                                    <m:sub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Bo</m:t>
                                          </m:r>
                                        </m:sub>
                                      </m:sSub>
                                    </m:sub>
                                    <m:sup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B</m:t>
                                          </m:r>
                                        </m:sub>
                                      </m:sSub>
                                    </m:sup>
                                    <m:e>
                                      <m:f>
                                        <m:num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C</m:t>
                                          </m:r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p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nary>
                                </m:e>
                              </m:d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51055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 expresión permitiría determinar el tiempo necesario para alcanzar una determinada concentración, si se conoce A y una expresión del fl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85800" y="533520"/>
            <a:ext cx="8001000" cy="2041560"/>
            <a:chOff x="685800" y="533520"/>
            <a:chExt cx="8001000" cy="2041560"/>
          </a:xfrm>
        </p:grpSpPr>
        <p:sp>
          <p:nvSpPr>
            <p:cNvPr id="563" name=""/>
            <p:cNvSpPr/>
            <p:nvPr/>
          </p:nvSpPr>
          <p:spPr>
            <a:xfrm>
              <a:off x="685800" y="533520"/>
              <a:ext cx="800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Si el rechazo es total, ie, no se deja pasar nada  del sólido, C</a:t>
              </a:r>
              <a:r>
                <a:rPr b="0" lang="es-ES" sz="2000" spc="-1" strike="noStrike" baseline="-25000">
                  <a:solidFill>
                    <a:srgbClr val="000099"/>
                  </a:solidFill>
                  <a:latin typeface="Comic Sans MS"/>
                </a:rPr>
                <a:t>p</a:t>
              </a: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 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2743200" y="990720"/>
                  <a:ext cx="315432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−</m:t>
                                      </m:r>
                                      <m:nary>
                                        <m:naryPr>
                                          <m:chr m:val="∫"/>
                                        </m:naryPr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Bo</m:t>
                                              </m:r>
                                            </m:sub>
                                          </m:sSub>
                                        </m:sub>
                                        <m:sup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sup>
                                        <m:e/>
                                      </m:nary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d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d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65" name=""/>
            <p:cNvSpPr/>
            <p:nvPr/>
          </p:nvSpPr>
          <p:spPr>
            <a:xfrm>
              <a:off x="7543800" y="1828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0" y="2666880"/>
            <a:ext cx="8763120" cy="2021040"/>
            <a:chOff x="0" y="2666880"/>
            <a:chExt cx="8763120" cy="2021040"/>
          </a:xfrm>
        </p:grpSpPr>
        <p:sp>
          <p:nvSpPr>
            <p:cNvPr id="567" name=""/>
            <p:cNvSpPr/>
            <p:nvPr/>
          </p:nvSpPr>
          <p:spPr>
            <a:xfrm>
              <a:off x="0" y="2666880"/>
              <a:ext cx="876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alizando un cambio de variables a (1/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20120" y="3733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9" name=""/>
                <p:cNvSpPr txBox="1"/>
                <p:nvPr/>
              </p:nvSpPr>
              <p:spPr>
                <a:xfrm>
                  <a:off x="2637000" y="3297240"/>
                  <a:ext cx="352080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"/>
          <p:cNvGrpSpPr/>
          <p:nvPr/>
        </p:nvGrpSpPr>
        <p:grpSpPr>
          <a:xfrm>
            <a:off x="685800" y="533520"/>
            <a:ext cx="8001000" cy="1326960"/>
            <a:chOff x="685800" y="533520"/>
            <a:chExt cx="8001000" cy="1326960"/>
          </a:xfrm>
        </p:grpSpPr>
        <p:sp>
          <p:nvSpPr>
            <p:cNvPr id="571" name=""/>
            <p:cNvSpPr/>
            <p:nvPr/>
          </p:nvSpPr>
          <p:spPr>
            <a:xfrm>
              <a:off x="685800" y="53352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Recordando qu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3352680" y="914400"/>
                  <a:ext cx="1886040" cy="94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3" name=""/>
          <p:cNvGrpSpPr/>
          <p:nvPr/>
        </p:nvGrpSpPr>
        <p:grpSpPr>
          <a:xfrm>
            <a:off x="0" y="2057400"/>
            <a:ext cx="8763120" cy="3447000"/>
            <a:chOff x="0" y="2057400"/>
            <a:chExt cx="8763120" cy="3447000"/>
          </a:xfrm>
        </p:grpSpPr>
        <p:sp>
          <p:nvSpPr>
            <p:cNvPr id="574" name=""/>
            <p:cNvSpPr/>
            <p:nvPr/>
          </p:nvSpPr>
          <p:spPr>
            <a:xfrm>
              <a:off x="0" y="2057400"/>
              <a:ext cx="876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 se reemplaza “J” y se realiza la integración se pueden determinar “t” o “A”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0" y="510552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Gráfica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20120" y="3733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7" name=""/>
                <p:cNvSpPr txBox="1"/>
                <p:nvPr/>
              </p:nvSpPr>
              <p:spPr>
                <a:xfrm>
                  <a:off x="1508040" y="2790720"/>
                  <a:ext cx="5127840" cy="205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n</m:t>
                                  </m:r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G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d>
                                </m:den>
                              </m:f>
                            </m:e>
                          </m:d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8" name=""/>
          <p:cNvGraphicFramePr/>
          <p:nvPr/>
        </p:nvGraphicFramePr>
        <p:xfrm>
          <a:off x="1981080" y="1481040"/>
          <a:ext cx="5410440" cy="37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481040"/>
                    <a:ext cx="541044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0" name=""/>
          <p:cNvGrpSpPr/>
          <p:nvPr/>
        </p:nvGrpSpPr>
        <p:grpSpPr>
          <a:xfrm>
            <a:off x="4952880" y="838080"/>
            <a:ext cx="3886200" cy="1828800"/>
            <a:chOff x="4952880" y="838080"/>
            <a:chExt cx="3886200" cy="1828800"/>
          </a:xfrm>
        </p:grpSpPr>
        <mc:AlternateContent>
          <mc:Choice xmlns:a14="http://schemas.microsoft.com/office/drawing/2010/main" Requires="a14">
            <p:sp>
              <p:nvSpPr>
                <p:cNvPr id="581" name=""/>
                <p:cNvSpPr txBox="1"/>
                <p:nvPr/>
              </p:nvSpPr>
              <p:spPr>
                <a:xfrm>
                  <a:off x="4952880" y="1066680"/>
                  <a:ext cx="352116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82" name=""/>
            <p:cNvSpPr/>
            <p:nvPr/>
          </p:nvSpPr>
          <p:spPr>
            <a:xfrm>
              <a:off x="6172200" y="838080"/>
              <a:ext cx="2666880" cy="1828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 flipH="1">
            <a:off x="4419360" y="2743200"/>
            <a:ext cx="2819160" cy="990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457200"/>
            <a:ext cx="861048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jemplo1  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oncentrar una solución de proteínas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% a 10%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n peso. Por cada día de producción se tienen 4 horas de tiempo muerto (limpieza, descarga, etc.), luego el tiempo de operación es de 20 horas por dí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alizaron pruebas de laboratorio utilizando una unidad de ultrafiltración de fibra hueca con tubos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0,012 [m] de diámetro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y 1,2 [m] de largo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datos de laboratorio muestran que para una caída de presión (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 de 1,5 [Kg/c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 y un flujo de recirculación de 8 [L/min], el flux en [L/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h] está dado por la expresión  (C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n %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e el área de ultrafiltración necesaria para concentrar los 10 [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día] de la solución de proteínas en el equipo de ultrafiltración de fibra hueca considerando que el flux está dado por la expresión anterio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67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3429000" y="4191120"/>
                <a:ext cx="19177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*ln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301464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685800" y="533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un sistema de Micro-Ultra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685800" y="533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un sistema de Micro-Ultra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467480" cy="35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609480" y="457200"/>
            <a:ext cx="74678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Tarea 4  Costos de Capital y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Fecha de entrega: 1/9/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Estime los costos de capital y operación para el ultrafiltro del ejemplo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FILT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Descripción del funcionamiento de una planta de micro-filtración&#10;&#10;tangencial"/>
          <p:cNvPicPr/>
          <p:nvPr/>
        </p:nvPicPr>
        <p:blipFill>
          <a:blip r:embed="rId1"/>
          <a:stretch/>
        </p:blipFill>
        <p:spPr>
          <a:xfrm>
            <a:off x="395280" y="1484280"/>
            <a:ext cx="6635880" cy="481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3716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609480" y="371520"/>
            <a:ext cx="7848720" cy="68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ecuación de diseño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 los límites de integración son 1/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 1/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este caso, los datos entregad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 = 20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 m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000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 =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ln(15/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[L/h m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3124080" y="914400"/>
                <a:ext cx="3521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sub>
                    </m:sSub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b>
                      <m:sup>
                        <m:r>
                          <m:t xml:space="preserve">1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nary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2819520" y="380880"/>
          <a:ext cx="5715000" cy="213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80880"/>
                    <a:ext cx="571500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09480" y="762120"/>
                <a:ext cx="191448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*ln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7" name=""/>
          <p:cNvGrpSpPr/>
          <p:nvPr/>
        </p:nvGrpSpPr>
        <p:grpSpPr>
          <a:xfrm>
            <a:off x="0" y="2666880"/>
            <a:ext cx="6858000" cy="3638520"/>
            <a:chOff x="0" y="2666880"/>
            <a:chExt cx="6858000" cy="3638520"/>
          </a:xfrm>
        </p:grpSpPr>
        <p:grpSp>
          <p:nvGrpSpPr>
            <p:cNvPr id="598" name=""/>
            <p:cNvGrpSpPr/>
            <p:nvPr/>
          </p:nvGrpSpPr>
          <p:grpSpPr>
            <a:xfrm>
              <a:off x="0" y="2666880"/>
              <a:ext cx="6858000" cy="3638520"/>
              <a:chOff x="0" y="2666880"/>
              <a:chExt cx="6858000" cy="3638520"/>
            </a:xfrm>
          </p:grpSpPr>
          <p:graphicFrame>
            <p:nvGraphicFramePr>
              <p:cNvPr id="599" name=""/>
              <p:cNvGraphicFramePr/>
              <p:nvPr/>
            </p:nvGraphicFramePr>
            <p:xfrm>
              <a:off x="0" y="2666880"/>
              <a:ext cx="6858000" cy="363852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60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2666880"/>
                        <a:ext cx="6858000" cy="363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601" name=""/>
                  <p:cNvSpPr txBox="1"/>
                  <p:nvPr/>
                </p:nvSpPr>
                <p:spPr>
                  <a:xfrm>
                    <a:off x="3048120" y="2985840"/>
                    <a:ext cx="3524040" cy="1390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sub>
                        </m:sSub>
                        <m:r>
                          <m:t xml:space="preserve">⋅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o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nary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02" name=""/>
            <p:cNvSpPr/>
            <p:nvPr/>
          </p:nvSpPr>
          <p:spPr>
            <a:xfrm>
              <a:off x="2972880" y="4966920"/>
              <a:ext cx="129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,04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828800" y="33667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486400" y="50432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6781680" y="3352680"/>
            <a:ext cx="23623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A = V</a:t>
            </a:r>
            <a:r>
              <a:rPr b="1" lang="es-ES" sz="2400" spc="-1" strike="noStrike" baseline="-25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*C</a:t>
            </a:r>
            <a:r>
              <a:rPr b="1" lang="es-ES" sz="2400" spc="-1" strike="noStrike" baseline="-25000">
                <a:solidFill>
                  <a:srgbClr val="cc0000"/>
                </a:solidFill>
                <a:latin typeface="Times New Roman"/>
              </a:rPr>
              <a:t>BO</a:t>
            </a: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*I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A =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1,6 m 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609480"/>
            <a:ext cx="82296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generales de las 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operaciones de membranas son varias y se diferencian por los tamaños de partícula que pueden separar y por la fuerza impulsora que provoca el paso del fluido a través de la membrana. A pesar de esto las características de las membranas son simila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rmiten concentrar in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medios filtrantes o membranas son delgadas y microporo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oros son pequeños, lo cual produ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aja 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 resistencia,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alta (inverso al caso de filtración tradicional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al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quieren de una limpieza periód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066680"/>
            <a:ext cx="4876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enen 2 ca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lículas delgada y densa (0.1 a 1.5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. Zon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ubestructura microporosa de 0.1  a 1 mm con aberturas progresivas. Zon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0492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membranas anisotróp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1752480"/>
            <a:ext cx="18288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495680" y="2514240"/>
            <a:ext cx="167652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303960" y="990720"/>
            <a:ext cx="2585880" cy="289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44193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304920" y="533520"/>
            <a:ext cx="8381880" cy="3200400"/>
            <a:chOff x="304920" y="533520"/>
            <a:chExt cx="8381880" cy="3200400"/>
          </a:xfrm>
        </p:grpSpPr>
        <p:sp>
          <p:nvSpPr>
            <p:cNvPr id="69" name=""/>
            <p:cNvSpPr/>
            <p:nvPr/>
          </p:nvSpPr>
          <p:spPr>
            <a:xfrm>
              <a:off x="304920" y="533520"/>
              <a:ext cx="822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 u="sng">
                  <a:solidFill>
                    <a:srgbClr val="3333cc"/>
                  </a:solidFill>
                  <a:uFillTx/>
                  <a:latin typeface="Comic Sans MS"/>
                  <a:ea typeface="Times New Roman"/>
                </a:rPr>
                <a:t>Características de los Filtros microporo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05320" y="1143000"/>
              <a:ext cx="5181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iltros microporosos no presentan una distribución muy homogénea de tamaño, lo cual implica un rango de retención de partículas.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914400" y="990720"/>
              <a:ext cx="2365200" cy="274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57600" y="3200400"/>
            <a:ext cx="36194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</cp:lastModifiedBy>
  <dcterms:modified xsi:type="dcterms:W3CDTF">2005-08-09T23:06:13Z</dcterms:modified>
  <cp:revision>96</cp:revision>
  <dc:subject/>
  <dc:title>Separación Sólido-Líquido</dc:title>
</cp:coreProperties>
</file>