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06B9-88D3-4310-9C25-2A581D22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55A0-10E1-404E-8DA4-206E9E3A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377C-DF5B-413B-AB92-F818E68D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E6EC-C6C6-4859-BEDD-B328EEBD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71D-D58B-4A1B-8862-0D1CA4E3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E392-F16A-4A48-81EE-BCB3285C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FDF-0511-4E54-85FC-94C551D6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C6B1-3A6D-4844-B847-F7D0F845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763B-A91F-414C-B99D-53F66924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8880-5574-4F7C-8D16-C1F7D111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2C55-2FA3-470F-8F37-BED84E90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788D-B9AA-4176-8ABA-70938FA5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3160-5C03-4B73-87D5-6CC9F7602AD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57200"/>
            <a:ext cx="4496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cuando un conjunto de partículas coloidales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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que poseen carga superficial se mantienen en una suspensión estable, sin que se producta una sedi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ayudar al proceso de sedimentación se adicionan agentes que modifican la carga superficial anulando las repulsiones y generando interacciones del tipo van der Wa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que se utiliza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ones polivalente Fe, Ca,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pH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n 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4120" y="609480"/>
          <a:ext cx="34290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09480"/>
                    <a:ext cx="3429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4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Flo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mueve la formación de puentes de hidrógeno entre partículas adyacentes o coagulo. Con lo cual se forman redes que van atrapando al resto de las molé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utilizados son polielectrólitos de alto peso molecular, del tipo catiónico, aniónico o neutro. De origen sintético o natural. Algunos ejemp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intético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crilamid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mid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mina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rivados de las Celulosas (CMC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etilenimin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. Algi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uro de Polidialildimetil amonio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glucosilam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60020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umento en la velocidad de filtración, sedimentación y centrifug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 den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x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s efectos adversos en las etapas siguientes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46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so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oadyuvantes de filtración (ayudantes de filtración) son compuestos (tierras diatomeas o “kieselguhr”) que permiten mejorar la eficiencia de la filtración.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ementos  que presentan una alta poro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ilita la velocidad de filtración a través del lec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2286000"/>
          <a:ext cx="698976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6989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74600"/>
            <a:ext cx="853452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aplicar de dos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-recubrimiento del medio filtrant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evitar el bloqueo del filtro por los sólidos que de otra manera se apelotonarían en los poros del medio filt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ñadir al cald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fermentación con el fin de aumentar la porosidad de la torta a medida que se ha forma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comienda cuando el producto es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rata de un producto intracelular se debe hacer un postratamiento (desorción de las célul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4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Image1" descr=""/>
          <p:cNvPicPr/>
          <p:nvPr/>
        </p:nvPicPr>
        <p:blipFill>
          <a:blip r:embed="rId1"/>
          <a:stretch/>
        </p:blipFill>
        <p:spPr>
          <a:xfrm>
            <a:off x="776160" y="214200"/>
            <a:ext cx="7591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46240" y="380880"/>
          <a:ext cx="4351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380880"/>
                    <a:ext cx="4351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952880" y="1219320"/>
            <a:ext cx="3353040" cy="55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Costo de las tierras diatomeas, se debe determinar la cantidad experiment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Adsorben líquido, si el producto es extracelular se pierde un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minuye la claridad del filt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La deposición de desechos de material celular es más difícil si contiene este tipo de agentes.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74600"/>
            <a:ext cx="7086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de un filtro batch se basa en la Ley de Darcy, donde se determina la velocidad, v, de un fluido al pasar por un lecho sólid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me mantiene un Reyn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: constante de permeabilidad de la ley de D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: Caída de presión en 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: Ancho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Viscosidad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 Fracción de huecos en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438280" y="213372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90920" y="3581280"/>
                <a:ext cx="1628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1055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19920" y="2286000"/>
          <a:ext cx="3124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286000"/>
                    <a:ext cx="3124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74600"/>
            <a:ext cx="83822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la velocidad v,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:Volumen total de filtrado desde el comienzo del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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rea transversal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Flujo de líquido a través 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viendo a la ecuación (1), se puede definir la resistencia al paso del líqui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133720" y="914400"/>
                <a:ext cx="191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46483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362320" y="3352680"/>
                <a:ext cx="20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51055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419720"/>
            <a:ext cx="29718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esistencia de la torta, que será función del Volumen filtrado (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4648320"/>
            <a:ext cx="2133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del medio Filtrante, que es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5334120"/>
            <a:ext cx="99072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952520" y="4724280"/>
            <a:ext cx="129564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200400" y="40384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0384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04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752480" y="2514600"/>
                <a:ext cx="3381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905120" y="914400"/>
                <a:ext cx="2896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3808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iltración de sólidos incompresibles es un proceso clásico y resulta sencillo, pero los m.o  presenta problemas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quiere de tratamientos adicionales que hagan el proceso  más rápido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9480"/>
            <a:ext cx="5410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ación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ólido desde el líquido que es forrazo (por presión o vacío) a pasar a través de un medio filtrante que retiene las partículas. Los sólidos se depositan en el filtro y a medida que el depósito (torta) aumenta de espesor  opone mayor resistencia  a l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05440" y="533520"/>
          <a:ext cx="3238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5440" y="533520"/>
                    <a:ext cx="3238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74600"/>
            <a:ext cx="83822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n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ancho de la tort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roporcional al volumen fil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Inversamente proporcional al área de 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: Masa de torta por unidad de volumen fil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específica de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ecuación de diseño que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76520" y="2590920"/>
                <a:ext cx="289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57913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600200" y="5257800"/>
                <a:ext cx="407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0199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477120" y="31240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1240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74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ific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en condiciones donde t=0   V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676520" y="838080"/>
                <a:ext cx="3206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474920" y="2552760"/>
                <a:ext cx="3611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56386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276720"/>
            <a:ext cx="8610840" cy="2882880"/>
            <a:chOff x="838080" y="3276720"/>
            <a:chExt cx="8610840" cy="2882880"/>
          </a:xfrm>
        </p:grpSpPr>
        <p:sp>
          <p:nvSpPr>
            <p:cNvPr id="218" name=""/>
            <p:cNvSpPr/>
            <p:nvPr/>
          </p:nvSpPr>
          <p:spPr>
            <a:xfrm>
              <a:off x="4876920" y="495288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4120" y="3429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t/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4680" y="5791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838080" y="4572000"/>
                  <a:ext cx="22384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ΔP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22" name=""/>
            <p:cNvGrpSpPr/>
            <p:nvPr/>
          </p:nvGrpSpPr>
          <p:grpSpPr>
            <a:xfrm>
              <a:off x="6172200" y="3276720"/>
              <a:ext cx="2971800" cy="2361960"/>
              <a:chOff x="6172200" y="3276720"/>
              <a:chExt cx="2971800" cy="2361960"/>
            </a:xfrm>
          </p:grpSpPr>
          <p:sp>
            <p:nvSpPr>
              <p:cNvPr id="223" name=""/>
              <p:cNvSpPr/>
              <p:nvPr/>
            </p:nvSpPr>
            <p:spPr>
              <a:xfrm>
                <a:off x="6172200" y="3276720"/>
                <a:ext cx="2743200" cy="2361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6172200" y="3352320"/>
                <a:ext cx="220968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7010280" y="4114800"/>
                <a:ext cx="456840" cy="304920"/>
                <a:chOff x="7010280" y="4114800"/>
                <a:chExt cx="456840" cy="3049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10280" y="44197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467120" y="4114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7467480" y="411480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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*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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5053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86000" y="1981080"/>
                <a:ext cx="28828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85800" y="1066680"/>
            <a:ext cx="792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tor de compresibilidad</a:t>
            </a:r>
            <a:r>
              <a:rPr b="1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</a:t>
            </a:r>
            <a:r>
              <a:rPr b="1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laciona con las propiedades promedios de las partículas que forman la tor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819520"/>
            <a:ext cx="7924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factor que depende de la forma de las partículas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superficie específica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porosidad de la torta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s parti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286000" y="4419720"/>
                <a:ext cx="3429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erficie de una partícu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990720" y="5562720"/>
                <a:ext cx="6789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total de la torta- Volumen de sólidos en la tor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304920" y="0"/>
            <a:ext cx="8610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rán las tortas formadas por materiales biólogicos? 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7460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alizando la dependencia con la presión se tiene que el Factor  de compresibilidad o resistencia específica de la torta, resulta 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stante relacionada con el tamaño y forma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s: Compresibilidad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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In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altamente compresible, se requiere uso de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362320" y="2209680"/>
                <a:ext cx="1685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Δ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51814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7460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 calcula la compresibilidad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cam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371600" y="4419720"/>
                <a:ext cx="4830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ΔP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3352680" y="1066680"/>
            <a:ext cx="2819160" cy="1981440"/>
            <a:chOff x="3352680" y="1066680"/>
            <a:chExt cx="2819160" cy="1981440"/>
          </a:xfrm>
        </p:grpSpPr>
        <p:sp>
          <p:nvSpPr>
            <p:cNvPr id="250" name=""/>
            <p:cNvSpPr/>
            <p:nvPr/>
          </p:nvSpPr>
          <p:spPr>
            <a:xfrm>
              <a:off x="3352680" y="1066680"/>
              <a:ext cx="26024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352680" y="1130400"/>
              <a:ext cx="2096280" cy="147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4147560" y="1769760"/>
              <a:ext cx="433080" cy="255600"/>
              <a:chOff x="4147560" y="1769760"/>
              <a:chExt cx="433080" cy="255600"/>
            </a:xfrm>
          </p:grpSpPr>
          <p:sp>
            <p:nvSpPr>
              <p:cNvPr id="253" name=""/>
              <p:cNvSpPr/>
              <p:nvPr/>
            </p:nvSpPr>
            <p:spPr>
              <a:xfrm>
                <a:off x="4147560" y="202536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80640" y="176976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4581360" y="17697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52578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2514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Log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746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y reorden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209680" y="3581280"/>
            <a:ext cx="5572080" cy="876240"/>
            <a:chOff x="2209680" y="358128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2209680" y="358128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68" name=""/>
            <p:cNvSpPr/>
            <p:nvPr/>
          </p:nvSpPr>
          <p:spPr>
            <a:xfrm>
              <a:off x="6867360" y="365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752480" y="1066680"/>
                <a:ext cx="4986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609480" y="2971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0880" y="53352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zación en Labor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han realizado ensayos de laboratorio con un filtro batch de 3 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área, los que han demostrado que pueden filtrarse </a:t>
            </a: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0 mL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4.5 min con una caída de presión de 5 psi, y que la torta de microorganismos es compresible con s = 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tir de los datos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sayo de labor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657600" y="2971800"/>
          <a:ext cx="511488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971800"/>
                    <a:ext cx="51148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80880" y="5943600"/>
            <a:ext cx="8229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Si se desean filtrar 500 litros  del caldo en 1 hora. ¿ Qué tamaño de filtro se necesita si la caída de presión es 10 ps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211640" y="765000"/>
            <a:ext cx="5572080" cy="876240"/>
            <a:chOff x="4211640" y="76500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4211640" y="76500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"/>
            <p:cNvSpPr/>
            <p:nvPr/>
          </p:nvSpPr>
          <p:spPr>
            <a:xfrm>
              <a:off x="8869320" y="8409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0880" y="174600"/>
            <a:ext cx="708660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de Diseño del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do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: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istencia del medio: R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l sistema a fil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res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torta por volumen de fil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80880" y="174600"/>
            <a:ext cx="876312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2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Batch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aracterizar las resistencias tanto de un medio filtrante como la resistencia de la torta que se forma al filtrar una suspensión de levaduras. Para ello se llevaron a cabo diferentes pruebas de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características del sistema fuer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3 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001 N s/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sólido seco por volumen de filtrado : 10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pruebas se realizaron a 4 caídas de presión diferentes. Los datos de cada corrida fueron correlacionados con la ecuación de diseño obteniéndose  los siguientes resultado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Rm/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2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At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6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3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4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40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 At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990720"/>
            <a:ext cx="830592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base a estos 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 la torta y el índice de compresibilidad de l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n procesar 3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una suspensión, igual  a la antes estudiada, para ello se utilizara un filtro prensa con 5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 área y una caída de presión de 2,5 Atm. Determine el tiempo necesario para dich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age1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864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0" y="1828800"/>
          <a:ext cx="4419720" cy="33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4197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Image2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095880" cy="47642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057400" y="3808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 (Rot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8600" y="106200"/>
            <a:ext cx="89154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roceso de filtración consiste en 3 etap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Descarte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495440" y="4019400"/>
                <a:ext cx="254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2922480"/>
            <a:ext cx="716256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tortas 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y resistencia del medio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tiempo de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el filtrado colect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029200" y="1447920"/>
          <a:ext cx="4114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4114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Velocidades de rotación bajas : 0.1-2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28600" y="533520"/>
            <a:ext cx="8915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considera que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sólo una fracción del tiempo total del ciclo de filt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 </a:t>
            </a: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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*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epende de la velocidad de ROTACION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124080" y="2666880"/>
                <a:ext cx="283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/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228600" y="38862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modificar el tiempo de formación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28600" y="53352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orta contiene una cantidad significativa de solución rica en líquido de cul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objetivo de lavar cumple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Remover la solución rica atrapada en los poros del fil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ermite la difusión del soluto fuero de la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variables que se manejan en el lavad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Cantidad de agua requerida para el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Tiempo necesari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57200" y="304920"/>
            <a:ext cx="868680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ntidad de agu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controlada por la fracción de material soluble remanente en la torta des´pués del l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empi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 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avó comple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(1-</a:t>
            </a:r>
            <a:r>
              <a:rPr b="1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1" lang="es-MX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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 fue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: razón entre la cantidad de material soluble en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= 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Eficiencia, función del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determinar “N” y desde allí el volumen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609480"/>
            <a:ext cx="792468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empo de lavado, 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líquido de lavado no adicionado sólidos, así el flujo de lavado debe ser constante e igual al flujo de filtrante al final de la formación de la to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cumpl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tiemp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755720" y="3571920"/>
                <a:ext cx="4049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sPre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685800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304920"/>
            <a:ext cx="8534160" cy="47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jemp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Filtro rot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á utilizando un filtro rotatorio de vacío para filtrar una suspensión de bacterias. El filtro posee un diámetro de 1,5 m y un ancho de 1,2 m. La caída de presión se mantiene constante a 4,5 psi y el filtro opera con el 30% de la tela filtrante sumergida. La resistencia debido al medio filtrante puede considerarse desprec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ar el área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1 hora. Asuma que el sistema tiene las características son tales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= 8209 (s *psi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la velocidad de rotación del tambor, en rph,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304920"/>
            <a:ext cx="853416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 de los fil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os costos dependen directamente del área de filtrado, A, e incluyen accesorios como bombas y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a información se puede obtener en catálogos o por estimaciones desde libros como Perry Manual del Ing. 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281952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Costo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pende de la presión de trabajo, lo cual se traduce en los gastos de las bomb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0880" y="61722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erry Manual del Ing.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28600" y="2514600"/>
          <a:ext cx="42768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2768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164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2" descr=""/>
          <p:cNvPicPr/>
          <p:nvPr/>
        </p:nvPicPr>
        <p:blipFill>
          <a:blip r:embed="rId1"/>
          <a:stretch/>
        </p:blipFill>
        <p:spPr>
          <a:xfrm>
            <a:off x="-76320" y="1523880"/>
            <a:ext cx="9220320" cy="46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572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1" descr=""/>
          <p:cNvPicPr/>
          <p:nvPr/>
        </p:nvPicPr>
        <p:blipFill>
          <a:blip r:embed="rId1"/>
          <a:stretch/>
        </p:blipFill>
        <p:spPr>
          <a:xfrm>
            <a:off x="246240" y="0"/>
            <a:ext cx="352584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24480" y="0"/>
          <a:ext cx="4619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4480" y="0"/>
                    <a:ext cx="4619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4124160"/>
          <a:ext cx="4114800" cy="273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24160"/>
                    <a:ext cx="4114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2438280"/>
          <a:ext cx="2400480" cy="40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438280"/>
                    <a:ext cx="24004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2" descr=""/>
          <p:cNvPicPr/>
          <p:nvPr/>
        </p:nvPicPr>
        <p:blipFill>
          <a:blip r:embed="rId1"/>
          <a:stretch/>
        </p:blipFill>
        <p:spPr>
          <a:xfrm>
            <a:off x="2390760" y="938160"/>
            <a:ext cx="43624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0200" y="22860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Tub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Image2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0"/>
            <a:ext cx="8915040" cy="6858000"/>
            <a:chOff x="228600" y="0"/>
            <a:chExt cx="891504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233280" y="3240"/>
              <a:ext cx="8904960" cy="6850440"/>
              <a:chOff x="233280" y="3240"/>
              <a:chExt cx="8904960" cy="68504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33280" y="3240"/>
                <a:ext cx="8904960" cy="550440"/>
                <a:chOff x="233280" y="3240"/>
                <a:chExt cx="8904960" cy="550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77560" y="3240"/>
                  <a:ext cx="8816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Bat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3280" y="3240"/>
                  <a:ext cx="890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33280" y="553680"/>
                <a:ext cx="1861920" cy="1785600"/>
                <a:chOff x="233280" y="553680"/>
                <a:chExt cx="1861920" cy="17856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77560" y="553680"/>
                  <a:ext cx="1775520" cy="1785600"/>
                  <a:chOff x="277560" y="553680"/>
                  <a:chExt cx="1775520" cy="17856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77560" y="553680"/>
                    <a:ext cx="177552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acas y Marcos Más Comú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7560" y="1104120"/>
                    <a:ext cx="1775520" cy="12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"/>
                <p:cNvSpPr/>
                <p:nvPr/>
              </p:nvSpPr>
              <p:spPr>
                <a:xfrm>
                  <a:off x="233280" y="553680"/>
                  <a:ext cx="18619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95560" y="553680"/>
                <a:ext cx="4310280" cy="1790280"/>
                <a:chOff x="2095560" y="553680"/>
                <a:chExt cx="4310280" cy="1790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140200" y="553680"/>
                  <a:ext cx="422064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ene septas de metal donde se form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tener un medio filtrante, Papel o Pañ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, pues se debe descargar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95560" y="553680"/>
                  <a:ext cx="43102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406560" y="553680"/>
                <a:ext cx="2731680" cy="1790280"/>
                <a:chOff x="6406560" y="553680"/>
                <a:chExt cx="2731680" cy="1790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450840" y="553680"/>
                  <a:ext cx="264276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puede utilizar con productos tóxicos ni g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06560" y="553680"/>
                  <a:ext cx="27316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33280" y="2344320"/>
                <a:ext cx="1861920" cy="964080"/>
                <a:chOff x="233280" y="2344320"/>
                <a:chExt cx="1861920" cy="964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77560" y="2344320"/>
                  <a:ext cx="177300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cas Horizont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3280" y="2344320"/>
                  <a:ext cx="186192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095560" y="2344320"/>
                <a:ext cx="4310280" cy="964080"/>
                <a:chOff x="2095560" y="2344320"/>
                <a:chExt cx="4310280" cy="964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40200" y="2344320"/>
                  <a:ext cx="422064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utiliza en pequeña esca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095560" y="2344320"/>
                  <a:ext cx="43102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406560" y="2344320"/>
                <a:ext cx="2731680" cy="964080"/>
                <a:chOff x="6406560" y="2344320"/>
                <a:chExt cx="2731680" cy="964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450840" y="2344320"/>
                  <a:ext cx="264276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hacerse continuo, introduciendo una hoja que remuev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406560" y="2344320"/>
                  <a:ext cx="27316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3280" y="3308400"/>
                <a:ext cx="1861920" cy="963720"/>
                <a:chOff x="233280" y="3308400"/>
                <a:chExt cx="1861920" cy="96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77560" y="3308400"/>
                  <a:ext cx="177300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jas Vertic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3280" y="3308400"/>
                  <a:ext cx="186192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095560" y="3308400"/>
                <a:ext cx="4310280" cy="963720"/>
                <a:chOff x="2095560" y="3308400"/>
                <a:chExt cx="4310280" cy="96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40200" y="3308400"/>
                  <a:ext cx="422064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ee una alta área de filtración por volum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095560" y="3308400"/>
                  <a:ext cx="43102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406560" y="3308400"/>
                <a:ext cx="2731680" cy="963720"/>
                <a:chOff x="6406560" y="3308400"/>
                <a:chExt cx="2731680" cy="96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450840" y="3308400"/>
                  <a:ext cx="264276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quiere poco superfic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406560" y="3308400"/>
                  <a:ext cx="27316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33280" y="4272480"/>
                <a:ext cx="1861920" cy="687960"/>
                <a:chOff x="233280" y="4272480"/>
                <a:chExt cx="1861920" cy="687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560" y="4272480"/>
                  <a:ext cx="1773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V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3280" y="4272480"/>
                  <a:ext cx="18619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095560" y="4272480"/>
                <a:ext cx="4310280" cy="687960"/>
                <a:chOff x="2095560" y="4272480"/>
                <a:chExt cx="4310280" cy="687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140200" y="4272480"/>
                  <a:ext cx="42206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5560" y="4272480"/>
                  <a:ext cx="43102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406560" y="4272480"/>
                <a:ext cx="2731680" cy="687960"/>
                <a:chOff x="6406560" y="4272480"/>
                <a:chExt cx="2731680" cy="687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450840" y="4272480"/>
                  <a:ext cx="26427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ácil de La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406560" y="4272480"/>
                  <a:ext cx="27316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3280" y="4960440"/>
                <a:ext cx="8904960" cy="515880"/>
                <a:chOff x="233280" y="4960440"/>
                <a:chExt cx="8904960" cy="515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77560" y="4960440"/>
                  <a:ext cx="881604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Contin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3280" y="4960440"/>
                  <a:ext cx="8904960" cy="51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3280" y="5476320"/>
                <a:ext cx="1861920" cy="1377360"/>
                <a:chOff x="233280" y="5476320"/>
                <a:chExt cx="1861920" cy="1377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560" y="5476320"/>
                  <a:ext cx="177300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os rotatorios a vací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3280" y="5476320"/>
                  <a:ext cx="186192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95560" y="5476320"/>
                <a:ext cx="1807560" cy="1377360"/>
                <a:chOff x="2095560" y="5476320"/>
                <a:chExt cx="1807560" cy="1377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140200" y="5476320"/>
                  <a:ext cx="171828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a a baja veloc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líquido es succiona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95560" y="5476320"/>
                  <a:ext cx="18075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903840" y="5476320"/>
                <a:ext cx="2502360" cy="1377360"/>
                <a:chOff x="3903840" y="5476320"/>
                <a:chExt cx="2502360" cy="1377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8480" y="5476320"/>
                  <a:ext cx="241272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odología más usa en Bioproceso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 = 1 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03840" y="5476320"/>
                  <a:ext cx="25023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06560" y="5476320"/>
                <a:ext cx="2731680" cy="1377360"/>
                <a:chOff x="6406560" y="5476320"/>
                <a:chExt cx="2731680" cy="1377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50840" y="5476320"/>
                  <a:ext cx="264276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ceso consiste en 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Forma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Lavado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Recolec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560" y="5476320"/>
                  <a:ext cx="273168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28600" y="0"/>
              <a:ext cx="89150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45720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TRA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aldos de fermentación resultan ser fluidos no-newtonianos, por lo cual resultan ser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mente compresibles,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por ello difíciles de filtrar. Para mejorar esta condición se aplican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tos pueden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ent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ulta ser un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jora las características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para pasteur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o se puede aplicar si el producto es térmicamente estable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5-08-04T23:00:49Z</dcterms:modified>
  <cp:revision>96</cp:revision>
  <dc:subject/>
  <dc:title>Separación Sólido-Líquido</dc:title>
</cp:coreProperties>
</file>