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3CC-64BB-4548-9D3D-A7004D34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759-DC2D-4E15-9F9F-D469DC2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901-FC45-43CE-9EB2-ADDC1161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E31-DCCC-4396-87BB-FBD9CACD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07FE-E5B4-4F74-AB64-8F94027F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E34-955A-40E4-BE11-9198C261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BE8-00ED-489F-9C95-6704DBF1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1E2-52F8-4854-8C8C-13D8A5BB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CFC-9D70-4B06-8F08-3039120A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EF0-1DCB-4274-8180-435E3628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F1C-2417-4442-BB7D-94845A4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B79-13CB-41AE-9929-2C24D71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4C62-6CD8-476F-B607-C00BCB1BE7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Image1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80880" y="5943600"/>
            <a:ext cx="822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10 ps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211640" y="765000"/>
            <a:ext cx="5572080" cy="876240"/>
            <a:chOff x="4211640" y="76500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11640" y="76500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8869320" y="840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1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Image2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2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1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2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2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5-08-04T23:00:49Z</dcterms:modified>
  <cp:revision>96</cp:revision>
  <dc:subject/>
  <dc:title>Separación Sólido-Líquido</dc:title>
</cp:coreProperties>
</file>