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BAB-3141-487A-B815-217BC973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DFA-1D76-469C-AB34-9E9E1C04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B23-6057-4452-B494-D627F478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3BC-0375-4F17-8350-04DAEE41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6F0-37F9-4B04-9EC1-850F6CB8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63C-09AC-461A-9001-9F0C9ECB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491-6228-4AE5-8B07-695A7216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74C-7B60-41E6-B25D-5C17EF29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018-7FDB-455C-9646-CDDE8781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2A6-9067-4B37-8BFA-62EE8495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E27-A527-42C6-9380-CD1211D1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67C-442D-45A7-B35E-D52EC48B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A1E8-EF28-482A-84D6-BDD158BD164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Image1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2880" y="1219320"/>
            <a:ext cx="3353040" cy="55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La deposición de desechos de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raz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18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23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0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80880" y="5943600"/>
            <a:ext cx="822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10 ps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211640" y="765000"/>
            <a:ext cx="5572080" cy="876240"/>
            <a:chOff x="4211640" y="76500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4211640" y="76500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8869320" y="8409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age1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Image2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" y="5335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para el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609480"/>
            <a:ext cx="7924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55720" y="3571920"/>
                <a:ext cx="404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6858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304920"/>
            <a:ext cx="85341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 del tambor, en rph,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2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2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2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5-08-04T23:00:49Z</dcterms:modified>
  <cp:revision>96</cp:revision>
  <dc:subject/>
  <dc:title>Separación Sólido-Líquido</dc:title>
</cp:coreProperties>
</file>