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DB7-B47D-4549-8D08-6208FFA4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61C-CE72-4D81-A2AF-E67062D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B3D-B5FB-457A-8D8D-8C19E309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350-13E9-4082-AAB4-B76DB62D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E78-1C39-4B70-9E1E-4ED08DC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14C-DAB8-44BA-95FE-2999DFC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140-08B5-4D00-8A05-EF42405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A0-5544-4162-978B-6C0BC3F3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754-56CA-4FFA-8B92-25B9C65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528-6402-4BDB-B93B-DB25F64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B1A-57B2-47F0-9AC9-B259D47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189-77E3-46A5-A121-09B87C8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8A0-DA29-43F3-A8BC-FB6AB261CC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8-04T23:00:49Z</dcterms:modified>
  <cp:revision>96</cp:revision>
  <dc:subject/>
  <dc:title>Separación Sólido-Líquido</dc:title>
</cp:coreProperties>
</file>